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1600-C537-4A71-B591-9831C1FEE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47C3-CE80-43B1-9370-6877A36FD5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EDAC-DCE2-4F83-B36E-AF1E4DEF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9359-A597-4A6E-ACB9-00D751D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B124-B6FB-4686-B23C-344E6FA7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8A2B-4D7E-41B4-904E-188964BB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E578-BB9C-46CB-9129-811DB60E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77E-8E99-485A-9A02-FEE697A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9D89-CF7E-41ED-B760-18726C0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BD2-D5D5-45DA-87EE-50F598F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9CE-C04C-4665-B6F1-9C7297D2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1CC-84DB-4D01-9C03-422432B0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4F9-66F6-48E5-A746-4DFD64EE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EA54-6E1A-4115-B1D3-1F6F41A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78AE-849E-4ABD-952C-7ACE8B4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945-16A7-47E8-AD4A-4EB67F81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C48-33F7-4945-B7E1-D476A54D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0F06-CDDC-4C9D-A327-4CA39DE8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CC35-BD02-42FC-9BEE-1753861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FD55-9458-47B1-B7A4-8EAA98E7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6DB0-49B9-4821-9498-4F4F9F1A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F090-988E-4770-A383-E90E782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C900-74C9-402A-81FF-966FB18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E632-FAAE-4AE1-890C-EAAAE501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0AB2-BE98-4514-9744-D122E30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2DC6-25F1-43F1-846D-51D0A02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478-86DA-424A-BF9D-A504FD5BA8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0059-26AF-4A52-AE91-CA4ECA31E3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Урок постановки учебной задачи в системе РО. </a:t>
            </a:r>
            <a:br>
              <a:rPr sz="48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(Д. Б. Эльконина –В. В.  Давыдов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ОУ СОШ С УИОП № 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икина Е. 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Постановка учебной задач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Тогда вы сможете найти сумму таких чисел. На доске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32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+ 201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Мы в четверичной системе складывать не умее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А в какой системе вы умеете складыват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В десятичной. Мы вообще такие числа складывать не уме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Но вы же только что складывали легко и правильно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Это были небольшие числа. Не многозначны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Но ведь у нас три способа ес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Мы не помним результата. (Зачёркивается первый способ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Присчитывать очень долго. (Зачёркивается второй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По линейке не получится, так как у нас нет таких длинных линеек. (зачёркивается третий способ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Получается, что не один способ не работает. Почему? Что изменилос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ксация ситуации разрыва позволяет детям не только выделить имеющиеся средства, но и осознать их недостаточнос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Раньше мы складывали однозначные числа. А теперь нам нужно сложить многозначные числ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Что будем делат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Искать новый способ. (Учитель фиксирует задачу на доске знаком вопроса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О чём рассказывает этот вопрос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О том, что мы не смогли сложить многозначные числа. Нам нужно придумать новый способ сложения многозначных чисе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и формулируют новую учебную задач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 Анализ условий решения задач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Чем однозначное число отличается от многозначного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Многозначное состоит из нескольких разрядов. Однозначное число рассказывает о том, что какую-то величину измеряли одной меркой, а многозначное- о том, что величину измеряли системой меро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Так может сначала поработаем с величинами? Вы можете построит величины, о которых рассказывают эти числ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Да, если будем знать мерку Е1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А сколько нужно мерок, чтобы построить первую величину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Три, так как число трёхзначно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В какой системе будете строит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В четверич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(На каждой парте лежат конверты с нужными мерками.  Мерки разных разрядов отличаются по цвету. Для ускорения работы можно построить величины по вариантам. Далее дети правильно читают числа, например, хором: Один, три, два в четверичной системе. Выполняется взаимопроверка построения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Что будем делать дальше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Складывать. (Дети за одной партой объединяют построенные величины. Кто – кучей, кто – по цвету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Что вы получили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Новую величину, которую искал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Как вы это сделали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Соединили маленькие мерочки с маленькими, а большие с большими. Соединили мерки одинаковые по цвету. К первым меркам прибавили первые, ко вторым – вторые, к третьим –треть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жно отделить задачу на поиск способа действия от задачи записи получившегося результата, в данном случае результата слож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Вы выполнили действие сложени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 Д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 Вы можете назвать результат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 Н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 Что вам для этого нужно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 Нужно рассказать числом о новой величин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 Соберитесь в группы. (Дети объединяются в группы «соседними» партами, чтобы не переносить величины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Моделирование открытого способ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окончания работы дети записывают  числом результат сложения и каждая группа вывешивает на доску свою работу. Затем каждая группа отчитывается как они получили число. Делается вывод о том, что одинаковые мерки складываются и пересчитываются. В результате обсуждения появляется модель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2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 201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=  333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09480" y="609588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1066680" y="60199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762120" y="601992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1143000" y="594324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838080" y="60199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1523880" y="6095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йствуя с предметной моделью, учащиеся конструируют способ сложения. Поскольку способ представлен наглядно, дети без труда переходят к знаковой модел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На что вы ориентировались, складывая многозначные числ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На разряд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Значит, мы можем назвать этот спосо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разрядным сложением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. Мы теперь можем зачеркнуть вопрос? ( Дети соглашаются, учитель зачеркивает вопрос, поставленный на этапе постановки учебной задачи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ак вы думаете, способ поразрядного сложения работает только в четверичной системе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Скорее всего, нет. Надо провери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Итоговая рефлекс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ую задачу решали на уроке? Кто чувствует, что вырос за урок? Что изменилос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м будем заниматься завтр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ы итоговой рефлексии помогают детям почувствовать себя изменившимися, поскольку знание, полученное коллективно, осознается каждым ребёнком (присваивается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ма: Определение нового грамматического класса слов – имени числительного. (3 класс. Русский язык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Цель: Сформулировать учебную задачу определения нового грамматического класса сл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здание учебной ситу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Задание 1. (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туация успеха.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гра «Четвертый лишний»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соседний                                  рисовал                                    ветерок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сосед                                         считаю                                      метель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берёзовый                                объясняем                               снег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соседский                                 рисунок                                     снежны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каждом столбике найдите лишнее слово и выпишите его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алее идет обсуждение результатов работы по вопросам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то надо было понять, прежде чем выписывать слова? (по какому признаку они сгруппирован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к вы рассуждали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то вы учились делать, выполняя это задание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айте название каждому столбику слов. (Имя прилагательное, глагол, имя существительное.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к ещё можно рассказать об особенностях каждой группы слов? ( с помощью грамматических моделей.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зобразите эти модели в тетради и на доск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то объединяет слова, входящие в каждую группу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ем похожи все 3 группы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то оказалось самым важным для успешного выполнения задания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Зачем вы его выполняли? Чьё объяснение было самым удачным и почему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жно предложить другой вариант зад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пределить  части речи в предложени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люкатая страюшка кибела ба сере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ле выполнения по вопросам во фронтальной беседе восстанавливается способ действия при определении частей ре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Постановка учебной задач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Запишите предложение и определите части реч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Над крышей летают пять голуб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(Задание выполняется самостоятельно.  Затем проверяется на доске и обнаруживается, что проблема со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«пять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»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Слово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пять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это не имя сущ., не глагол, не прилагательное. Наверное, эта какая-то другая часть речи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Сформулируйте проблему с которой вы столкнулис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ы не можем определить, к какой части речи относится слово «пять»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(над словом ставится вопрос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 Анализ условий задачи и её реш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Организация групповой рабо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Как мы будем действоват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Надо понаблюдать над этим словом, как над другими частями ре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На три минуты соберитесь в группы и составьте план наблю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жно предложить составить список вопросов, на которые нужно будет отвечать на следующих урок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 Обсуждение результатов работы груп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езультаты групповой работы вывешиваются на дос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озможные вариант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 групп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йти грамматические знач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авить вопро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думать назв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 групп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пределить средства грамматической связ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авить вопро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пределить лексическое знач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групп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пределить грамматические знач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авить вопро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пределить, это имя или н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знать, как пишетс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Похожи ли планы между собой? Выберите план, которым мы будем пользовать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Так не получится, так как хоть они и похожи, но в каждом есть пункт который есть только у одной группы, а без него нельзя работать. Давайте составим один общ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Составление коллективного плана работ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результате обсуждения появляется такой план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ить средства грамматической связ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тавить вопро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думать назва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знать как пише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тором варианте могут появиться такие вопрос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изменяется слово «пять», какие грамматические значения имеет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овы особенности этих грамматических значений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выглядит грамматическая модель новой части реч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называется новый грамматический класс слов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какими частями речи такие слова могут связываться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расположить новую группу слов в таблице «Части речи»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каких частей речи и какими способами можно образовать слово типа пять или это невозможно сделать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ие орфограммы могут встретиться при записи новой части реч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проверить эти орфограммы, какие правила надо помнить и знать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проверить себя при выделении, образовании, написании новой части реч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Моделирова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Раз у вас есть план, соберитесь в группы и исследуйте слово «пять». Зафиксируйте результаты наблюдения в удобной для вас форм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дели  обычно оказываются одинаковыми. (из опыта)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Ч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р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. Что удалось обнаружить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. Мы выяснили, что это новая часть речи, у которой только одно средство грамматической связи – падеж, а значит это имя. Отвечает на вопрос «Сколько?» Указывает на количеств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. Как назвать эту часть реч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. Имя количественное, имя «сколько», имя чис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. Почти угадали. Это – имя числительное. Давайте найдем место  этой части речи в таблице «Части речи». ( Учащиеся заполняют таблицу частей речи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1828800"/>
            <a:ext cx="137160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209680" y="1828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590920" y="1600200"/>
            <a:ext cx="7617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 flipH="1">
            <a:off x="2590920" y="1905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H="1" flipV="1">
            <a:off x="2590920" y="1980720"/>
            <a:ext cx="7617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 flipV="1">
            <a:off x="2590560" y="20574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2514600" y="213372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3352680" y="1828800"/>
            <a:ext cx="3049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429000" y="2133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00400" y="2362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H="1">
            <a:off x="2819520" y="26668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H="1">
            <a:off x="3428640" y="17524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3276720" y="21337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 flipH="1">
            <a:off x="3123720" y="2514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2743200" y="2819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еперь наша таблица содержит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имя существительное называет предмет, имя  прилагательное называет признак предмета, глагол называет действие предмета, а имя прилагательное называет количество предме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 Хорошо предмет устроился, все части речи ему служат! Может и не все, мы же не все знаем.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А бывают такие, которые называют признак признака, признак действия, количество признаков, количество действий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  Замечательный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«умный» вопрос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! Прямо сейчас начнём искать на него ответ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 Нет. Запишем в «Уголок вопросов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Итоговая рефлекс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водят учащиес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качестве рефлексии на протяжении изучения темы «Части речи» появляется такой вид работы, как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чинение от имени новой части ре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Я – существительно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ривет! Я – имя Существительное. У меня 3 средства грамматической связи: число, падеж и род. В отличие от своего друга – имени Прилагательного, у меня род постоянный. О, я забыл рассказать о своих лучших друзьях – имени Прилагательном и Глаголе. У Глагола есть своя особенность. У него есть лицо и время. А у нас двоих этого нету. А у Прилагательного нет ничего особенного! Хотя мы разные, но мы дружим. И без каждого из нас не обойдется речь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Сергей 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1360" y="274680"/>
            <a:ext cx="815508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рок в развивающем образовании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рок - основной компонент школьного обучения, содержание которого определено целями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традиционном образовании такими целями являются знания, умения, навыки .Однако практически невозможно дать уроки на все случаи жизн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ажно научить дете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йствовать в ситуации неопределён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пасова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паникова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мышля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нализировать ситуац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нирова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уществлять действия и контролирова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ценивать свой способ действия и его результат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Урок в развивающем образовании-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это прежде всего урок жизни в ситуации неопределенности. Это поиск таких средств интеллекта и личности, которые позволяют ребёнку в будущем решать неизвестные пробле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Я – Прилагательно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ривет! Я – имя Прилагательное. В третьем классе все дети меня знают. Дети знают, что у меня есть падеж, число, род. Средства грамматической связи у меня непостоянные. И у меня есть очень хорошие и ласковые слова, как, например, «пушистый», «гладкий». А ещё у меня есть очень хорошие друзья. Это Глагол и Существительное. С нами можно узнать, в какую часть речи из нас троих поставить, например, слово «кошка». Мы с друзьями очень важные, и, пожалуйста, выучите нас ещё лучш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Я – Предло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ривет! Я – Предлог. У меня нет лексического значения, но зато есть грамматическое значение. Я как слуга. Всё делаю то, что приказывают прилагательные и существительные, -всё, кроме выдумок и неработы. Мне некогда отдыхать. Что-то не сделал – вот и зарплата меньше. Никогда не вижу своих родственников, только на дне рождения, и то даже не всегда. Плохо жить мне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ока, друзья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Я – Нареч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ривет! Меня зовут Наречие. У меня нет П., Ч., Р.,Вр. и Л. Ещё я указываю на признак глагола и даже признака! А что насчёт средств грамматической связи, то на моих плечах и без них достаточно работы!!! Мне нравится моя работа. Но это ещё не всё, я ещё отвечаю на вопрос «как»? Так что не надо меня винить. Ну ладно, мне пора. Пока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Ваше наречие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нятие «урок»традиционно определяется исходя из двух позиц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.Урок как пространство усвоения знаний и приобретения умений и навыков по содержанию может быть отнесен к тому или иному тип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.Урок как интервал в 30-40 минут (либо сдвоенные уроки в 40 минут)имеет свои определённые пространственно-временные характерис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развивающем образовании термин «урок» приобретает принципиально иной смысл. Это не отрезок времени определённой продолжительности, а фрагмент учебной деятельности по формированию конкретного учебного действия. Такой урок может длиться и 2 часа, и 10 минут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к следствие, в развивающем образовании реализуются уроки нескольких типов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Урок постановки учебной задач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Урок решения учебной задач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Урок моделирования и преобразования моде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Урок решения частных задач с применением открытого способ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Урок контроля и оц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типах уроков нашла своё выражение последовательность этапов работы, обусловленная логикой разворачивания предметного содержания в рамках учеб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рок постановки учебной задач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ль уроков этого типа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выделить задачу, организовать предметные действия и диалог детей так, чтобы они задачу «увидели» и САМИ сформулировали её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аким образом , учителю на этапе постановки учебной задачи необходимо обеспечить следующие условия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Создать ситуацию, в которой ребенок обнаружит своё собственное суждение об обсуждаемом предмете; существование других точек зрения; недостаточность своего знания для решения возникшей зада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Обеспечить детей инструментом, позволяющим удержать, зафиксировать суть возникшей проблемы. Таким инструментом являются схемы, модели, детские рисунки, т. е. знаково-символические средств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Обеспечить переход от отношения «спрашивающий учитель - отвечающий ученик» к отношению «спрашивающий ученик - учитель, помогающий ребёнку сформулировать свой вопрос и найти на него ответ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труктура урока постановки учебной задач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здание ситуации успех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здание ситуации разрыв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ксация места разрыва в знаково - символической форм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ормулирование учебной задачи учащимися и учител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флекс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Тема: Как проверять орфограммы слабых позиций в окончаниях слов, называющих действия.(3 класс. Русский язык.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Цель: поставить задачу на поиск способа проверки ОСП в личных окончаниях слов, называющих действ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туация успех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доске стихотворение с пропуском ОСП в окончаниях слов, названий предметов, признаков и в корнях слов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Хвост к_сичк_й, но_ки- спички, оттопырил вниз губу. Весь пушистый, з_лотистый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С бел_й звёздочк_й на лбу. Выйдет в пол_- вот раздолье! Долго смотрит вдаль-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И вдруг взвизгн_т свинкой, вскин_т спинкой и галоп_м к мам_  в лу_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Кто может сформулировать задани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Сначала нужно отгадать кто это. Потом проверить ОСП и записать. Можно обменяться тетрадями и проверить. Можно тем, кто первым выполнит задание , заполнить пропуски на доске, а остальные будут задавать вопрос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(Дети выполняют задание и проводят самопроверку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Поднимите руки те, чей сосед справился без ошибок. Какие вопросы вы задавали друг другу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Как ты проверял? Что нужно сделать, чтобы проверить ОСП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ходе фронтальной беседы полностью разворачивается способ проверки и озвучивается основной закон пись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. Поднимите руки те, кому это задание было выполнить легк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Создание ситуации интеллектуального конфликт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. А ещё можете проверить несколько слов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. Конечно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. Расшифруйте и запишите высказывание-перевёртыш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И вечером, и утром собака безграмотная ещё бегает от шнурка квадрат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ин ребёнок на доске, остальные в тетрадях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И днём, и ночью кот учёный всё ход_т по цепи круг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. Почему пропустили букву в слове ходи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. Потому что здесь звук в слабой пози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. Но ведь вы же только что проверяли ОСП и показали, что умеете это дел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. Здесь совсем другая ситуация. Это слово, называющее действие, а мы проверять окончания названий- действий не уме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Постановка частной задач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С какой проблемой мы столкнулис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к проверить ОСП в окончаниях слов, называющих действи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блема фиксируется на доске в виде модел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ибо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Анализ условий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Как мы будем действовать дальше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ети предлагают действовать тек же, как и  при проверке ОСП в словах-названиях предметов и признаков, предполагая, что и эти окончания подчиняются основному закону письм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Изобразите ваше предположение в виде модели. (Появляется модель)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ети комментируют модель: Нужно подобрать слово-действие с таким же окончанием с сильной позицией и с такими грамматическими значения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Подберите такие слова в парах.(3 минуты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доске появляются слов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Идет, поёт, кричит, шьёт, бежит, говорит, бьёт, молчит, спит, плывёт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62120" y="1752480"/>
            <a:ext cx="213336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286000" y="1752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1142640" y="17524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14479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343400" y="2057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6095880" y="1752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248520" y="1752480"/>
            <a:ext cx="38088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724280" y="1600200"/>
            <a:ext cx="99072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4876560" y="160020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5181480" y="160020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85800" y="3962520"/>
            <a:ext cx="175248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981080" y="3962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1066320" y="3962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H="1">
            <a:off x="1447560" y="3962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3352680" y="3962520"/>
            <a:ext cx="175284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 flipH="1">
            <a:off x="3657240" y="3962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 flipH="1">
            <a:off x="4114440" y="3962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7"/>
          <p:cNvSpPr/>
          <p:nvPr/>
        </p:nvSpPr>
        <p:spPr>
          <a:xfrm>
            <a:off x="4724280" y="3962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87692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133720" y="43434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 flipV="1">
            <a:off x="2133720" y="4190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бнаружилось противоречие: Какую букву выбрать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–Е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–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На сколько групп и каких можно разделить эти глаголы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На две: с окончанием –ИТ и с окончанием –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лова записываются в два столбик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ХОД_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идёт                                 ?                                 спи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оёт                                                                    молчи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шьёт                                                                   говори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бьёт                                                                    бежи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плывёт                                                               кричи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ети предполагают, что это два разных набора окончаний слов- названий действ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Возможно. Будем разбираться. Давайте восстановим, какую задачу мы реша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Итоговая рефлекс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Мы пытаемся найти способ проверки ОСП в окончаниях- названий действ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Нам удалось это сделать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Нет. Мы столкнулись с ещё одной проблемой. У нас два варианта и мы пока не знаем какой выбрать, хотя действовали по закону письма. Но, возможно, у названий действий два набора окончан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С этим будем разбираться на следующем уроке. А сейчас зафиксируем в модели всё, что узнали на этом уроке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33520" y="6172200"/>
            <a:ext cx="129528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590920" y="6172200"/>
            <a:ext cx="11430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95680" y="6172200"/>
            <a:ext cx="106704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095880" y="5867280"/>
            <a:ext cx="60984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095880" y="6324480"/>
            <a:ext cx="60984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761760" y="6172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990360" y="6172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447920" y="6172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2666520" y="6172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 flipH="1">
            <a:off x="2971440" y="6172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3429000" y="6172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4647960" y="6172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876560" y="6172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257800" y="6172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1828800" y="6248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5562720" y="594324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5562720" y="6324480"/>
            <a:ext cx="5331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541008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 flipH="1">
            <a:off x="3581280" y="6553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 flipV="1">
            <a:off x="3581280" y="6400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5410080" y="6477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ема: Постановка задачи сложения многозначных чисел как переход от присчитывания и отсчитывания к конструированию способа выполнения действия в «столбик». Конструирование общего способа. (2 класс. Математика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ситуации успех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Вы умеете работать с частями и целым? Что нужно знать, чтобы найти целое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. Нужно знать ча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(Учитель раздает детям карточки с примерами и предлагает решить только те из них, в которых нужно найти целое. 7-3, 6+2, 5+4, 11-5, 18-7, 8+6, 9+3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меры подобраны так, чтобы дети могли восстановить известные им способы получения результат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назвать по памя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присчитывание по единиц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по числовой прямой (линейк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дание выполняется самостоятельно. Затем во фронтальной беседе обсуждается способ действия и производится проверка правильности выполнения. Восстанавливается схем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+                  =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пособы счёта записываются на доске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 памя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считыв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иней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. Кто чувствует себя уверенно, выполняя такое задание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838080" y="4343400"/>
            <a:ext cx="685800" cy="228600"/>
          </a:xfrm>
          <a:prstGeom prst="flowChartExtra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905120" y="4267080"/>
            <a:ext cx="685800" cy="304920"/>
          </a:xfrm>
          <a:prstGeom prst="flowChartExtra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3200400" y="42670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чалные классы</cp:lastModifiedBy>
  <dcterms:modified xsi:type="dcterms:W3CDTF">2014-11-05T04:38:1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