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F983-3311-4BA7-B221-A0BE1BF04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BD8A-EAF1-4E56-80C1-0E5E2A62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A0F6-46EF-4FBD-A02C-98CDE1784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05AD-AB7F-4225-A806-9721D419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A2BB-5460-44A7-896A-5825EA60E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4A90-95D6-4FA5-A8AD-057D3192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C300-3EF3-46FA-801A-22DE8B7B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2204-CC55-4512-8925-9C0BFCCF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0E98-0CBD-4CFC-87D3-F61A605B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FF5A-0C86-4B71-B8EC-8A2607CC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52B7-5FF7-4079-9E1A-88512824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3B89-A747-4D68-B72D-E6ACD9DA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8A3E-D0DA-4C2C-AEB2-930314F0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1A0B-2D9C-4E51-9566-3B5902B6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DE68-660C-4CF3-989D-0857700F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93A8-9A32-46AE-9464-57D382C6F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7003-8DFC-4E01-B627-7870863BA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630B-2771-456C-9921-B578B104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7111-404D-4D87-895B-E7C620FF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DC80-91FD-4F95-B9C5-2967E772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897B-7943-444D-B1DB-7C0CE332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8708-AE8E-42EA-A4D7-AD859448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5D8B-06FE-4006-999C-2E2DBEB3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85C8-C130-4C07-8E1D-8E70227E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7.png"/><Relationship Id="rId10" Type="http://schemas.openxmlformats.org/officeDocument/2006/relationships/image" Target="../media/image5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8.png"/><Relationship Id="rId14" Type="http://schemas.openxmlformats.org/officeDocument/2006/relationships/image" Target="../media/image4.png"/><Relationship Id="rId15" Type="http://schemas.openxmlformats.org/officeDocument/2006/relationships/image" Target="../media/image9.png"/><Relationship Id="rId16" Type="http://schemas.openxmlformats.org/officeDocument/2006/relationships/image" Target="../media/image8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slideLayout" Target="../slideLayouts/slideLayout13.xml"/><Relationship Id="rId20" Type="http://schemas.openxmlformats.org/officeDocument/2006/relationships/slideLayout" Target="../slideLayouts/slideLayout14.xml"/><Relationship Id="rId21" Type="http://schemas.openxmlformats.org/officeDocument/2006/relationships/slideLayout" Target="../slideLayouts/slideLayout15.xml"/><Relationship Id="rId22" Type="http://schemas.openxmlformats.org/officeDocument/2006/relationships/slideLayout" Target="../slideLayouts/slideLayout16.xml"/><Relationship Id="rId23" Type="http://schemas.openxmlformats.org/officeDocument/2006/relationships/slideLayout" Target="../slideLayouts/slideLayout17.xml"/><Relationship Id="rId24" Type="http://schemas.openxmlformats.org/officeDocument/2006/relationships/slideLayout" Target="../slideLayouts/slideLayout18.xml"/><Relationship Id="rId25" Type="http://schemas.openxmlformats.org/officeDocument/2006/relationships/slideLayout" Target="../slideLayouts/slideLayout19.xml"/><Relationship Id="rId26" Type="http://schemas.openxmlformats.org/officeDocument/2006/relationships/slideLayout" Target="../slideLayouts/slideLayout20.xml"/><Relationship Id="rId27" Type="http://schemas.openxmlformats.org/officeDocument/2006/relationships/slideLayout" Target="../slideLayouts/slideLayout21.xml"/><Relationship Id="rId28" Type="http://schemas.openxmlformats.org/officeDocument/2006/relationships/slideLayout" Target="../slideLayouts/slideLayout22.xml"/><Relationship Id="rId29" Type="http://schemas.openxmlformats.org/officeDocument/2006/relationships/slideLayout" Target="../slideLayouts/slideLayout23.xml"/><Relationship Id="rId3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C:\Documents and Settings\Admin\Мои документы\Мои рисунки\Рисунок1.gif"/>
          <p:cNvPicPr/>
          <p:nvPr/>
        </p:nvPicPr>
        <p:blipFill>
          <a:blip r:embed="rId3"/>
          <a:stretch/>
        </p:blipFill>
        <p:spPr>
          <a:xfrm>
            <a:off x="5286240" y="-285840"/>
            <a:ext cx="3248280" cy="2210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3B27-CA4E-4E6C-BCB2-80C73F5DD0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4"/>
          <a:stretch/>
        </p:blipFill>
        <p:spPr>
          <a:xfrm>
            <a:off x="500040" y="5372280"/>
            <a:ext cx="2671920" cy="1485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8" descr="C:\Documents and Settings\Admin\Рабочий стол\Новая папка\Скворечник забор птичка облака\Новая папка\кот-пр.gif"/>
          <p:cNvPicPr/>
          <p:nvPr/>
        </p:nvPicPr>
        <p:blipFill>
          <a:blip r:embed="rId5"/>
          <a:stretch/>
        </p:blipFill>
        <p:spPr>
          <a:xfrm>
            <a:off x="357120" y="4143240"/>
            <a:ext cx="1419120" cy="1482840"/>
          </a:xfrm>
          <a:prstGeom prst="rect">
            <a:avLst/>
          </a:prstGeom>
          <a:ln w="0">
            <a:noFill/>
          </a:ln>
        </p:spPr>
      </p:pic>
      <p:pic>
        <p:nvPicPr>
          <p:cNvPr id="8" name="Picture 3" descr="C:\Documents and Settings\Admin\Рабочий стол\Новая папка\Скворечник забор птичка облака\Новая папка\пр2.gif"/>
          <p:cNvPicPr/>
          <p:nvPr/>
        </p:nvPicPr>
        <p:blipFill>
          <a:blip r:embed="rId6"/>
          <a:stretch/>
        </p:blipFill>
        <p:spPr>
          <a:xfrm>
            <a:off x="8286840" y="357120"/>
            <a:ext cx="716040" cy="5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C:\Documents and Settings\Admin\Мои документы\Мои рисунки\Рисунок1.gif"/>
          <p:cNvPicPr/>
          <p:nvPr/>
        </p:nvPicPr>
        <p:blipFill>
          <a:blip r:embed="rId3"/>
          <a:stretch/>
        </p:blipFill>
        <p:spPr>
          <a:xfrm>
            <a:off x="5286240" y="-285840"/>
            <a:ext cx="3248280" cy="2210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4"/>
          <a:stretch/>
        </p:blipFill>
        <p:spPr>
          <a:xfrm>
            <a:off x="500040" y="5372280"/>
            <a:ext cx="2671920" cy="1485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C:\Documents and Settings\Admin\Рабочий стол\Новая папка\Скворечник забор птичка облака\Новая папка\кот-пр.gif"/>
          <p:cNvPicPr/>
          <p:nvPr/>
        </p:nvPicPr>
        <p:blipFill>
          <a:blip r:embed="rId5"/>
          <a:stretch/>
        </p:blipFill>
        <p:spPr>
          <a:xfrm>
            <a:off x="357120" y="4143240"/>
            <a:ext cx="1419120" cy="1482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Admin\Рабочий стол\Новая папка\Скворечник забор птичка облака\Новая папка\пр2.gif"/>
          <p:cNvPicPr/>
          <p:nvPr/>
        </p:nvPicPr>
        <p:blipFill>
          <a:blip r:embed="rId6"/>
          <a:stretch/>
        </p:blipFill>
        <p:spPr>
          <a:xfrm>
            <a:off x="8286840" y="357120"/>
            <a:ext cx="716040" cy="552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C:\Documents and Settings\Admin\Мои документы\Мои рисунки\Рисунок1.gif"/>
          <p:cNvPicPr/>
          <p:nvPr/>
        </p:nvPicPr>
        <p:blipFill>
          <a:blip r:embed="rId7"/>
          <a:stretch/>
        </p:blipFill>
        <p:spPr>
          <a:xfrm>
            <a:off x="5286240" y="-285840"/>
            <a:ext cx="3248280" cy="2210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8"/>
          <a:stretch/>
        </p:blipFill>
        <p:spPr>
          <a:xfrm>
            <a:off x="500040" y="5372280"/>
            <a:ext cx="2671920" cy="1485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Documents and Settings\Admin\Рабочий стол\Новая папка\Скворечник забор птичка облака\Новая папка\прозр.gif"/>
          <p:cNvPicPr/>
          <p:nvPr/>
        </p:nvPicPr>
        <p:blipFill>
          <a:blip r:embed="rId9"/>
          <a:stretch/>
        </p:blipFill>
        <p:spPr>
          <a:xfrm>
            <a:off x="6924600" y="1785960"/>
            <a:ext cx="2219400" cy="4543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Documents and Settings\Admin\Рабочий стол\Новая папка\Скворечник забор птичка облака\Новая папка\пр2.gif"/>
          <p:cNvPicPr/>
          <p:nvPr/>
        </p:nvPicPr>
        <p:blipFill>
          <a:blip r:embed="rId10"/>
          <a:stretch/>
        </p:blipFill>
        <p:spPr>
          <a:xfrm>
            <a:off x="8058240" y="2714760"/>
            <a:ext cx="1085760" cy="838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11"/>
          <a:stretch/>
        </p:blipFill>
        <p:spPr>
          <a:xfrm>
            <a:off x="5572080" y="5372280"/>
            <a:ext cx="2857680" cy="1485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12"/>
          <a:stretch/>
        </p:blipFill>
        <p:spPr>
          <a:xfrm>
            <a:off x="3071880" y="5372280"/>
            <a:ext cx="2671560" cy="1485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Documents and Settings\Admin\Рабочий стол\Новая папка\Скворечник забор птичка облака\Новая папка\пр7.gif"/>
          <p:cNvPicPr/>
          <p:nvPr/>
        </p:nvPicPr>
        <p:blipFill>
          <a:blip r:embed="rId13"/>
          <a:stretch/>
        </p:blipFill>
        <p:spPr>
          <a:xfrm>
            <a:off x="8215200" y="4714920"/>
            <a:ext cx="714600" cy="214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C:\Documents and Settings\Admin\Рабочий стол\Новая папка\Скворечник забор птичка облака\Новая папка\кот-пр.gif"/>
          <p:cNvPicPr/>
          <p:nvPr/>
        </p:nvPicPr>
        <p:blipFill>
          <a:blip r:embed="rId14"/>
          <a:stretch/>
        </p:blipFill>
        <p:spPr>
          <a:xfrm>
            <a:off x="357120" y="4143240"/>
            <a:ext cx="1419120" cy="1482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C:\Documents and Settings\Admin\Рабочий стол\Новая папка\Скворечник забор птичка облака\Новая папка\пр8.gif"/>
          <p:cNvPicPr/>
          <p:nvPr/>
        </p:nvPicPr>
        <p:blipFill>
          <a:blip r:embed="rId15"/>
          <a:stretch/>
        </p:blipFill>
        <p:spPr>
          <a:xfrm>
            <a:off x="3071880" y="6072120"/>
            <a:ext cx="1662120" cy="785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C:\Documents and Settings\Admin\Рабочий стол\Новая папка\Скворечник забор птичка облака\Новая папка\пр7.gif"/>
          <p:cNvPicPr/>
          <p:nvPr/>
        </p:nvPicPr>
        <p:blipFill>
          <a:blip r:embed="rId16"/>
          <a:stretch/>
        </p:blipFill>
        <p:spPr>
          <a:xfrm>
            <a:off x="2786040" y="5143680"/>
            <a:ext cx="571680" cy="171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C:\Documents and Settings\Admin\Мои документы\Мои рисунки\Рисунок2.gif"/>
          <p:cNvPicPr/>
          <p:nvPr/>
        </p:nvPicPr>
        <p:blipFill>
          <a:blip r:embed="rId17"/>
          <a:stretch/>
        </p:blipFill>
        <p:spPr>
          <a:xfrm>
            <a:off x="0" y="142920"/>
            <a:ext cx="3409920" cy="2381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F:\КАРТИНКИ 2\bv-b.gif"/>
          <p:cNvPicPr/>
          <p:nvPr/>
        </p:nvPicPr>
        <p:blipFill>
          <a:blip r:embed="rId18"/>
          <a:stretch/>
        </p:blipFill>
        <p:spPr>
          <a:xfrm>
            <a:off x="8277120" y="6649920"/>
            <a:ext cx="866880" cy="208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1AFB-70FA-49FD-AD92-828E304026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9"/>
    <p:sldLayoutId id="2147483663" r:id="rId20"/>
    <p:sldLayoutId id="2147483664" r:id="rId21"/>
    <p:sldLayoutId id="2147483665" r:id="rId22"/>
    <p:sldLayoutId id="2147483666" r:id="rId23"/>
    <p:sldLayoutId id="2147483667" r:id="rId24"/>
    <p:sldLayoutId id="2147483668" r:id="rId25"/>
    <p:sldLayoutId id="2147483669" r:id="rId26"/>
    <p:sldLayoutId id="2147483670" r:id="rId27"/>
    <p:sldLayoutId id="2147483671" r:id="rId28"/>
    <p:sldLayoutId id="2147483672" r:id="rId29"/>
    <p:sldLayoutId id="2147483673" r:id="rId3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500040" y="1143000"/>
            <a:ext cx="82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</a:t>
            </a:r>
            <a:r>
              <a:rPr b="1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есна идет!Весне дорогу!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1428840" y="2428920"/>
            <a:ext cx="685800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Урок окружающего мира во 2м классе  на тему: «Перелётные птицы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орова Лариса Зиновьевна –учитель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»Бушевецкая ОНШ-детский сад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2" descr="http://www.zoovet.ru/pet/6078.jpg"/>
          <p:cNvPicPr/>
          <p:nvPr/>
        </p:nvPicPr>
        <p:blipFill>
          <a:blip r:embed="rId1"/>
          <a:stretch/>
        </p:blipFill>
        <p:spPr>
          <a:xfrm>
            <a:off x="3071880" y="3857760"/>
            <a:ext cx="2469960" cy="20844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3" descr="http://club.foto.ru/gallery/images/photo/2010/05/25/1574193.jpg"/>
          <p:cNvPicPr/>
          <p:nvPr/>
        </p:nvPicPr>
        <p:blipFill>
          <a:blip r:embed="rId2"/>
          <a:stretch/>
        </p:blipFill>
        <p:spPr>
          <a:xfrm>
            <a:off x="6215040" y="3500280"/>
            <a:ext cx="2214720" cy="233856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5"/>
          <p:cNvSpPr/>
          <p:nvPr/>
        </p:nvSpPr>
        <p:spPr>
          <a:xfrm>
            <a:off x="3357720" y="2786040"/>
            <a:ext cx="2071440" cy="571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З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6"/>
          <p:cNvSpPr/>
          <p:nvPr/>
        </p:nvSpPr>
        <p:spPr>
          <a:xfrm>
            <a:off x="6215040" y="2714760"/>
            <a:ext cx="2214720" cy="571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7" descr="http://galt-auto.ru/_ph/593/2/50311125.jpg"/>
          <p:cNvPicPr/>
          <p:nvPr/>
        </p:nvPicPr>
        <p:blipFill>
          <a:blip r:embed="rId3"/>
          <a:stretch/>
        </p:blipFill>
        <p:spPr>
          <a:xfrm>
            <a:off x="785880" y="571680"/>
            <a:ext cx="2428920" cy="24285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8"/>
          <p:cNvSpPr/>
          <p:nvPr/>
        </p:nvSpPr>
        <p:spPr>
          <a:xfrm>
            <a:off x="3571920" y="642960"/>
            <a:ext cx="1928880" cy="714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1" descr="http://content.foto.mail.ru/mail/bulava58/1685/i-2298.jpg"/>
          <p:cNvPicPr/>
          <p:nvPr/>
        </p:nvPicPr>
        <p:blipFill>
          <a:blip r:embed="rId1"/>
          <a:stretch/>
        </p:blipFill>
        <p:spPr>
          <a:xfrm>
            <a:off x="642960" y="428760"/>
            <a:ext cx="2286000" cy="200016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2"/>
          <p:cNvSpPr/>
          <p:nvPr/>
        </p:nvSpPr>
        <p:spPr>
          <a:xfrm>
            <a:off x="3214800" y="500040"/>
            <a:ext cx="1785960" cy="5000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4786200" y="1143000"/>
            <a:ext cx="2714760" cy="1714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ые лап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ная ше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иплет за пя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и без огляд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4" descr="http://s43.radikal.ru/i102/1103/2d/cbb0b88d5eb4.jpg"/>
          <p:cNvPicPr/>
          <p:nvPr/>
        </p:nvPicPr>
        <p:blipFill>
          <a:blip r:embed="rId2"/>
          <a:stretch/>
        </p:blipFill>
        <p:spPr>
          <a:xfrm>
            <a:off x="6572160" y="3071880"/>
            <a:ext cx="2214720" cy="178596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5"/>
          <p:cNvSpPr/>
          <p:nvPr/>
        </p:nvSpPr>
        <p:spPr>
          <a:xfrm>
            <a:off x="4929120" y="3571920"/>
            <a:ext cx="1357560" cy="571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6" descr="http://sezonoxoti.ru/sites/default/files/imagecache/img_420_315/foto/utka_3.jpg"/>
          <p:cNvPicPr/>
          <p:nvPr/>
        </p:nvPicPr>
        <p:blipFill>
          <a:blip r:embed="rId3"/>
          <a:stretch/>
        </p:blipFill>
        <p:spPr>
          <a:xfrm>
            <a:off x="2357280" y="3857760"/>
            <a:ext cx="2000520" cy="150012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7"/>
          <p:cNvSpPr/>
          <p:nvPr/>
        </p:nvSpPr>
        <p:spPr>
          <a:xfrm>
            <a:off x="4572000" y="5072040"/>
            <a:ext cx="2857680" cy="1428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трая кряку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вит лягуш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ит вразвалоч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тыкалоч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8"/>
          <p:cNvSpPr/>
          <p:nvPr/>
        </p:nvSpPr>
        <p:spPr>
          <a:xfrm>
            <a:off x="857160" y="3143160"/>
            <a:ext cx="1857600" cy="571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571680" y="428760"/>
            <a:ext cx="3500280" cy="2571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ает месяц </a:t>
            </a:r>
            <a:r>
              <a:rPr b="1" lang="ru-RU" sz="1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а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ы радостно запели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вратившись в милый край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цвели, зазеленели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деревья и кусты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ова пчелы полетели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нектаром на цв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6"/>
          <p:cNvSpPr/>
          <p:nvPr/>
        </p:nvSpPr>
        <p:spPr>
          <a:xfrm>
            <a:off x="4714920" y="2714760"/>
            <a:ext cx="3286080" cy="2786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еет    даль п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евает солов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елый цвет оделся са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челы первые летя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м грохочет. Угада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за месяц это?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(Ма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1" descr="http://www.zhaba.ru/_pics/57tifwnudyc3fcio.jpg"/>
          <p:cNvPicPr/>
          <p:nvPr/>
        </p:nvPicPr>
        <p:blipFill>
          <a:blip r:embed="rId1"/>
          <a:stretch/>
        </p:blipFill>
        <p:spPr>
          <a:xfrm>
            <a:off x="357120" y="357120"/>
            <a:ext cx="2786040" cy="245268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2"/>
          <p:cNvSpPr/>
          <p:nvPr/>
        </p:nvSpPr>
        <p:spPr>
          <a:xfrm>
            <a:off x="3857760" y="1143000"/>
            <a:ext cx="3286080" cy="1857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етает к нам с тепл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ь проделав длин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пит домик под ок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травы и гл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3"/>
          <p:cNvSpPr/>
          <p:nvPr/>
        </p:nvSpPr>
        <p:spPr>
          <a:xfrm>
            <a:off x="4429080" y="3857760"/>
            <a:ext cx="3786120" cy="1842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дайте, что за птичк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ненькая, невелич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енькая с живо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вост раздвинут в два хвост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Блок-схема: перфолента 5"/>
          <p:cNvSpPr/>
          <p:nvPr/>
        </p:nvSpPr>
        <p:spPr>
          <a:xfrm rot="20872800">
            <a:off x="1779480" y="3811680"/>
            <a:ext cx="2381400" cy="877680"/>
          </a:xfrm>
          <a:prstGeom prst="flowChartPunchedTap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926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ЛАСТ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http://s011.radikal.ru/i316/1011/b1/c17aeb6af40c.jpg"/>
          <p:cNvPicPr/>
          <p:nvPr/>
        </p:nvPicPr>
        <p:blipFill>
          <a:blip r:embed="rId1"/>
          <a:stretch/>
        </p:blipFill>
        <p:spPr>
          <a:xfrm>
            <a:off x="5286240" y="1357200"/>
            <a:ext cx="2913120" cy="389592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3"/>
          <p:cNvSpPr/>
          <p:nvPr/>
        </p:nvSpPr>
        <p:spPr>
          <a:xfrm>
            <a:off x="571680" y="357120"/>
            <a:ext cx="3357360" cy="1714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без ног и без свир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всех выводит тре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систее, нежн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же э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4"/>
          <p:cNvSpPr/>
          <p:nvPr/>
        </p:nvSpPr>
        <p:spPr>
          <a:xfrm>
            <a:off x="1785960" y="2286000"/>
            <a:ext cx="2786040" cy="1571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етел к нам , наконец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ий наш певе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и и ночи напро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н по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Блок-схема: перфолента 6"/>
          <p:cNvSpPr/>
          <p:nvPr/>
        </p:nvSpPr>
        <p:spPr>
          <a:xfrm>
            <a:off x="2286000" y="4214880"/>
            <a:ext cx="2571840" cy="785880"/>
          </a:xfrm>
          <a:prstGeom prst="flowChartPunchedTap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ОВ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 rot="21132600">
            <a:off x="1928880" y="2214360"/>
            <a:ext cx="5786280" cy="1557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668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2960" y="713880"/>
            <a:ext cx="8043840" cy="364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ерелетные птицы летают по кругу,</a:t>
            </a:r>
            <a:br>
              <a:rPr sz="4000"/>
            </a:br>
            <a:r>
              <a:rPr b="1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То на север, то к югу и снова домой.</a:t>
            </a:r>
            <a:br>
              <a:rPr sz="4000"/>
            </a:br>
            <a:r>
              <a:rPr b="1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И летят они строем, догоняя друг друга,</a:t>
            </a:r>
            <a:br>
              <a:rPr sz="4000"/>
            </a:br>
            <a:r>
              <a:rPr b="1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Никогда по пути не меняя тот строй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115120" cy="40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ветает рано по утрам.</a:t>
            </a:r>
            <a:br>
              <a:rPr sz="3600"/>
            </a:b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оталины и тут и там,</a:t>
            </a:r>
            <a:br>
              <a:rPr sz="3600"/>
            </a:b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учей шумит, как водопад,</a:t>
            </a:r>
            <a:br>
              <a:rPr sz="3600"/>
            </a:b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кворцы к скворечникам летят.</a:t>
            </a:r>
            <a:br>
              <a:rPr sz="3600"/>
            </a:b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венят под крышами капели</a:t>
            </a:r>
            <a:br>
              <a:rPr sz="3600"/>
            </a:b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едведь с еловой встал с постели.</a:t>
            </a:r>
            <a:br>
              <a:rPr sz="3600"/>
            </a:b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сех солнышко теплом ласкает,</a:t>
            </a:r>
            <a:br>
              <a:rPr sz="3600"/>
            </a:b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то это время года знает?…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5000760" y="5715000"/>
            <a:ext cx="250020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ЕС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2000160" y="714240"/>
            <a:ext cx="4786560" cy="8575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Весенн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меся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низ 2"/>
          <p:cNvSpPr/>
          <p:nvPr/>
        </p:nvSpPr>
        <p:spPr>
          <a:xfrm>
            <a:off x="2428920" y="1785960"/>
            <a:ext cx="412560" cy="9777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низ 3"/>
          <p:cNvSpPr/>
          <p:nvPr/>
        </p:nvSpPr>
        <p:spPr>
          <a:xfrm>
            <a:off x="4357800" y="1857240"/>
            <a:ext cx="428400" cy="192888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трелка вниз 4"/>
          <p:cNvSpPr/>
          <p:nvPr/>
        </p:nvSpPr>
        <p:spPr>
          <a:xfrm>
            <a:off x="6072120" y="171468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6"/>
          <p:cNvSpPr/>
          <p:nvPr/>
        </p:nvSpPr>
        <p:spPr>
          <a:xfrm>
            <a:off x="1785960" y="3071880"/>
            <a:ext cx="1500120" cy="714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7"/>
          <p:cNvSpPr/>
          <p:nvPr/>
        </p:nvSpPr>
        <p:spPr>
          <a:xfrm>
            <a:off x="3643200" y="3929040"/>
            <a:ext cx="2071800" cy="571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8"/>
          <p:cNvSpPr/>
          <p:nvPr/>
        </p:nvSpPr>
        <p:spPr>
          <a:xfrm>
            <a:off x="5572080" y="2928960"/>
            <a:ext cx="164304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1071720" y="785880"/>
            <a:ext cx="3571560" cy="27144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 зиму одолело,        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о ласковей, добрей.     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чка песенку запела.      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на улицу скорей!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звенит капелью утр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весны весёлый стар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а сахарную пудр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ит в лужах тёплый </a:t>
            </a:r>
            <a:r>
              <a:rPr b="1" lang="ru-RU" sz="1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ар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5429160" y="2928960"/>
            <a:ext cx="2928960" cy="24289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ет тёплый южный вете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ышко всё ярче свет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 худеет, мякнет, т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ч горластый прилет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за месяц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узн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Блок-схема: перфолента 8"/>
          <p:cNvSpPr/>
          <p:nvPr/>
        </p:nvSpPr>
        <p:spPr>
          <a:xfrm>
            <a:off x="3000240" y="4500720"/>
            <a:ext cx="1428840" cy="857160"/>
          </a:xfrm>
          <a:prstGeom prst="flowChartPunchedTap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1" descr="http://www.hullumaja.com/files/pictures/2009/11/06/YKJbSnqlIV.jpg"/>
          <p:cNvPicPr/>
          <p:nvPr/>
        </p:nvPicPr>
        <p:blipFill>
          <a:blip r:embed="rId1"/>
          <a:stretch/>
        </p:blipFill>
        <p:spPr>
          <a:xfrm>
            <a:off x="357120" y="500040"/>
            <a:ext cx="300060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2"/>
          <p:cNvSpPr/>
          <p:nvPr/>
        </p:nvSpPr>
        <p:spPr>
          <a:xfrm>
            <a:off x="3857760" y="714240"/>
            <a:ext cx="3000240" cy="221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х перелётных птиц черн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ит он пашню от черв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д-вперёд по пашне вска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овется птица …….</a:t>
            </a:r>
            <a:r>
              <a:rPr b="1" lang="ru-RU" sz="1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ГР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3714840" y="3929040"/>
            <a:ext cx="4429080" cy="16430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 за весенняя черная пт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т за пугалом ходить и кормить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за весенняя черная пт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 на трактор чуть не садить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1"/>
          <p:cNvSpPr/>
          <p:nvPr/>
        </p:nvSpPr>
        <p:spPr>
          <a:xfrm>
            <a:off x="928800" y="357120"/>
            <a:ext cx="2928960" cy="16430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 гнездо он в поле вье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тянутся раст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и песня и по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шли в стихотворени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3" descr="http://school.xvatit.com/images/d/d5/Zavoronok_t79.jpg"/>
          <p:cNvPicPr/>
          <p:nvPr/>
        </p:nvPicPr>
        <p:blipFill>
          <a:blip r:embed="rId1"/>
          <a:stretch/>
        </p:blipFill>
        <p:spPr>
          <a:xfrm>
            <a:off x="2000160" y="2500200"/>
            <a:ext cx="2928960" cy="235764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4"/>
          <p:cNvSpPr/>
          <p:nvPr/>
        </p:nvSpPr>
        <p:spPr>
          <a:xfrm>
            <a:off x="5286240" y="2357280"/>
            <a:ext cx="3000600" cy="2200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Ещё в низинах  снег и ле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Но небеса весен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И он летает и по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листая оперением</a:t>
            </a:r>
            <a:r>
              <a:rPr b="1" lang="ru-RU" sz="2000" spc="-1" strike="noStrike">
                <a:solidFill>
                  <a:srgbClr val="e46c0a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Блок-схема: перфолента 5"/>
          <p:cNvSpPr/>
          <p:nvPr/>
        </p:nvSpPr>
        <p:spPr>
          <a:xfrm>
            <a:off x="4500720" y="5214960"/>
            <a:ext cx="2928960" cy="733320"/>
          </a:xfrm>
          <a:prstGeom prst="flowChartPunchedTap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ВОРО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1643040" y="500040"/>
            <a:ext cx="2928960" cy="3343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има, вдруг, загрустил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телью замел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нки подхватил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прочь скорей ушл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солнышко смеётс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поёт капел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сня звонко льётс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дь спешит </a:t>
            </a:r>
            <a:r>
              <a:rPr b="1" lang="ru-RU" sz="2000" spc="-1" strike="noStrike">
                <a:solidFill>
                  <a:srgbClr val="e46c0a"/>
                </a:solidFill>
                <a:latin typeface="Calibri"/>
              </a:rPr>
              <a:t>Апрель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2"/>
          <p:cNvSpPr/>
          <p:nvPr/>
        </p:nvSpPr>
        <p:spPr>
          <a:xfrm>
            <a:off x="5214960" y="1714680"/>
            <a:ext cx="3214800" cy="3057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ростно река рев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разламывает л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домик свой скворец вернул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в лесу медведь просну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небе жаворонка тр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то же к нам прише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Блок-схема: перфолента 13"/>
          <p:cNvSpPr/>
          <p:nvPr/>
        </p:nvSpPr>
        <p:spPr>
          <a:xfrm>
            <a:off x="3500280" y="5143680"/>
            <a:ext cx="2357640" cy="928440"/>
          </a:xfrm>
          <a:prstGeom prst="flowChartPunchedTap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Calibri"/>
              </a:rPr>
              <a:t>АПР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1285920" y="428760"/>
            <a:ext cx="3286080" cy="19285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хотно заселя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янный свой двор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но-розовый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(СКВОРЕЦ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1" descr="http://nature.doublea.ru/pix/skvorez18.jpg"/>
          <p:cNvPicPr/>
          <p:nvPr/>
        </p:nvPicPr>
        <p:blipFill>
          <a:blip r:embed="rId1"/>
          <a:stretch/>
        </p:blipFill>
        <p:spPr>
          <a:xfrm>
            <a:off x="5500800" y="2714760"/>
            <a:ext cx="3257280" cy="271440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3"/>
          <p:cNvSpPr/>
          <p:nvPr/>
        </p:nvSpPr>
        <p:spPr>
          <a:xfrm>
            <a:off x="2214720" y="2643120"/>
            <a:ext cx="2714400" cy="235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рилетает кажд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да, где домик жд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жие песни петь уме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се же голос свой име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04:04:12Z</dcterms:created>
  <dc:creator>Федотова Виктория Александровна</dc:creator>
  <dc:description/>
  <dc:language>en-US</dc:language>
  <cp:lastModifiedBy>я</cp:lastModifiedBy>
  <dcterms:modified xsi:type="dcterms:W3CDTF">2014-11-02T12:43:13Z</dcterms:modified>
  <cp:revision>20</cp:revision>
  <dc:subject/>
  <dc:title>Слайд 1</dc:title>
</cp:coreProperties>
</file>