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102-B45F-464F-928D-5514712A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891-A0D6-4E04-8CDC-276FDDF0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1E1-F0FE-451F-B6FE-921C51F7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B83D-6A91-46DB-992C-99B5BE9C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8514-1EB4-492E-BF5C-9B63F694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26A9-821D-4065-B9E7-4BA5AAB4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F0D0-B8C0-4226-8302-B91453CB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FDE9-A0D1-4613-AE01-C88E6725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1792-7932-4F88-AD99-A39EB1C3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555A-E102-41B9-9C7C-8064FE11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EAC5-CDF0-4320-8A82-07F51F69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3D9-DE3B-48EA-A8C2-3AFA94C2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BF28-EA46-435A-9D0E-59BAE360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EB72-790B-44DF-9180-D34D1620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6960-B8C0-4EAB-92D7-299BEECB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7C22-3866-45A1-BBF0-5B61A014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739D-213A-4DFC-89CF-F35CFD42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12A-FC7F-4387-9C34-3B8E8411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BF7-89D5-460E-A763-B24ADDE7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B33C-99B9-4BD4-96FF-89651C41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617-EF58-468A-B502-E1686617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4309-718C-490F-BEE5-44999A21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F21-48D3-4203-AA63-C03FB9D4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68E-F242-4A2E-891C-A4591D7D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2885-8629-4342-A57C-778829D88C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0DBF-CBA6-4E25-B11A-2BB6F44470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6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16.xml"/><Relationship Id="rId11" Type="http://schemas.openxmlformats.org/officeDocument/2006/relationships/slide" Target="slide17.xml"/><Relationship Id="rId12" Type="http://schemas.openxmlformats.org/officeDocument/2006/relationships/slide" Target="slide19.xml"/><Relationship Id="rId13" Type="http://schemas.openxmlformats.org/officeDocument/2006/relationships/slide" Target="slide30.xml"/><Relationship Id="rId14" Type="http://schemas.openxmlformats.org/officeDocument/2006/relationships/slide" Target="slide28.xml"/><Relationship Id="rId15" Type="http://schemas.openxmlformats.org/officeDocument/2006/relationships/slide" Target="slide26.xml"/><Relationship Id="rId16" Type="http://schemas.openxmlformats.org/officeDocument/2006/relationships/slide" Target="slide24.xml"/><Relationship Id="rId17" Type="http://schemas.openxmlformats.org/officeDocument/2006/relationships/slide" Target="slide22.xml"/><Relationship Id="rId18" Type="http://schemas.openxmlformats.org/officeDocument/2006/relationships/slide" Target="slide20.xml"/><Relationship Id="rId19" Type="http://schemas.openxmlformats.org/officeDocument/2006/relationships/slide" Target="slide34.xml"/><Relationship Id="rId20" Type="http://schemas.openxmlformats.org/officeDocument/2006/relationships/slide" Target="slide36.xml"/><Relationship Id="rId21" Type="http://schemas.openxmlformats.org/officeDocument/2006/relationships/slide" Target="slide38.xml"/><Relationship Id="rId22" Type="http://schemas.openxmlformats.org/officeDocument/2006/relationships/slide" Target="slide40.xml"/><Relationship Id="rId2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0" y="0"/>
          <a:ext cx="9144000" cy="6937200"/>
        </p:xfrm>
        <a:graphic>
          <a:graphicData uri="http://schemas.openxmlformats.org/drawingml/2006/table">
            <a:tbl>
              <a:tblPr/>
              <a:tblGrid>
                <a:gridCol w="2484360"/>
                <a:gridCol w="1224000"/>
                <a:gridCol w="1150920"/>
                <a:gridCol w="1081080"/>
                <a:gridCol w="1079640"/>
                <a:gridCol w="1081080"/>
                <a:gridCol w="1042920"/>
              </a:tblGrid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да, вода, кругом вода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ревья и трав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бавные пушисты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йны пернатых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 миру по нитк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2556000" y="44280"/>
            <a:ext cx="1079280" cy="148464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484640"/>
              <a:gd name="textAreaBottom" fmla="*/ 1414800 h 1484640"/>
            </a:gdLst>
            <a:ahLst/>
            <a:rect l="textAreaLeft" t="textAreaTop" r="textAreaRight" b="textAreaBottom"/>
            <a:pathLst>
              <a:path w="21600" h="29710">
                <a:moveTo>
                  <a:pt x="0" y="0"/>
                </a:moveTo>
                <a:lnTo>
                  <a:pt x="21600" y="0"/>
                </a:lnTo>
                <a:lnTo>
                  <a:pt x="21600" y="29710"/>
                </a:lnTo>
                <a:lnTo>
                  <a:pt x="0" y="29710"/>
                </a:lnTo>
                <a:close/>
              </a:path>
              <a:path fill="lightenLess" w="21600" h="297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10">
                <a:moveTo>
                  <a:pt x="21600" y="0"/>
                </a:moveTo>
                <a:lnTo>
                  <a:pt x="21600" y="29710"/>
                </a:lnTo>
                <a:lnTo>
                  <a:pt x="20200" y="28310"/>
                </a:lnTo>
                <a:lnTo>
                  <a:pt x="20200" y="1400"/>
                </a:lnTo>
                <a:close/>
              </a:path>
              <a:path fill="darkenLess" w="21600" h="29710">
                <a:moveTo>
                  <a:pt x="21600" y="29710"/>
                </a:moveTo>
                <a:lnTo>
                  <a:pt x="0" y="29710"/>
                </a:lnTo>
                <a:lnTo>
                  <a:pt x="1400" y="28310"/>
                </a:lnTo>
                <a:lnTo>
                  <a:pt x="20200" y="28310"/>
                </a:lnTo>
                <a:close/>
              </a:path>
              <a:path fill="lighten" w="21600" h="29710">
                <a:moveTo>
                  <a:pt x="0" y="297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1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3780000" y="0"/>
            <a:ext cx="1008000" cy="148428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484280"/>
              <a:gd name="textAreaBottom" fmla="*/ 1419120 h 1484280"/>
            </a:gdLst>
            <a:ahLst/>
            <a:rect l="textAreaLeft" t="textAreaTop" r="textAreaRight" b="textAreaBottom"/>
            <a:pathLst>
              <a:path w="21600" h="31802">
                <a:moveTo>
                  <a:pt x="0" y="0"/>
                </a:moveTo>
                <a:lnTo>
                  <a:pt x="21600" y="0"/>
                </a:lnTo>
                <a:lnTo>
                  <a:pt x="21600" y="31802"/>
                </a:lnTo>
                <a:lnTo>
                  <a:pt x="0" y="31802"/>
                </a:lnTo>
                <a:close/>
              </a:path>
              <a:path fill="lightenLess" w="21600" h="318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802">
                <a:moveTo>
                  <a:pt x="21600" y="0"/>
                </a:moveTo>
                <a:lnTo>
                  <a:pt x="21600" y="31802"/>
                </a:lnTo>
                <a:lnTo>
                  <a:pt x="20200" y="30402"/>
                </a:lnTo>
                <a:lnTo>
                  <a:pt x="20200" y="1400"/>
                </a:lnTo>
                <a:close/>
              </a:path>
              <a:path fill="darkenLess" w="21600" h="31802">
                <a:moveTo>
                  <a:pt x="21600" y="31802"/>
                </a:moveTo>
                <a:lnTo>
                  <a:pt x="0" y="31802"/>
                </a:lnTo>
                <a:lnTo>
                  <a:pt x="1400" y="30402"/>
                </a:lnTo>
                <a:lnTo>
                  <a:pt x="20200" y="30402"/>
                </a:lnTo>
                <a:close/>
              </a:path>
              <a:path fill="lighten" w="21600" h="31802">
                <a:moveTo>
                  <a:pt x="0" y="318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0402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5940360" y="0"/>
            <a:ext cx="1008000" cy="148428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484280"/>
              <a:gd name="textAreaBottom" fmla="*/ 1419120 h 1484280"/>
            </a:gdLst>
            <a:ahLst/>
            <a:rect l="textAreaLeft" t="textAreaTop" r="textAreaRight" b="textAreaBottom"/>
            <a:pathLst>
              <a:path w="21600" h="31802">
                <a:moveTo>
                  <a:pt x="0" y="0"/>
                </a:moveTo>
                <a:lnTo>
                  <a:pt x="21600" y="0"/>
                </a:lnTo>
                <a:lnTo>
                  <a:pt x="21600" y="31802"/>
                </a:lnTo>
                <a:lnTo>
                  <a:pt x="0" y="31802"/>
                </a:lnTo>
                <a:close/>
              </a:path>
              <a:path fill="lightenLess" w="21600" h="318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802">
                <a:moveTo>
                  <a:pt x="21600" y="0"/>
                </a:moveTo>
                <a:lnTo>
                  <a:pt x="21600" y="31802"/>
                </a:lnTo>
                <a:lnTo>
                  <a:pt x="20200" y="30402"/>
                </a:lnTo>
                <a:lnTo>
                  <a:pt x="20200" y="1400"/>
                </a:lnTo>
                <a:close/>
              </a:path>
              <a:path fill="darkenLess" w="21600" h="31802">
                <a:moveTo>
                  <a:pt x="21600" y="31802"/>
                </a:moveTo>
                <a:lnTo>
                  <a:pt x="0" y="31802"/>
                </a:lnTo>
                <a:lnTo>
                  <a:pt x="1400" y="30402"/>
                </a:lnTo>
                <a:lnTo>
                  <a:pt x="20200" y="30402"/>
                </a:lnTo>
                <a:close/>
              </a:path>
              <a:path fill="lighten" w="21600" h="31802">
                <a:moveTo>
                  <a:pt x="0" y="318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0402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4" action="ppaction://hlinksldjump"/>
          </p:cNvPr>
          <p:cNvSpPr/>
          <p:nvPr/>
        </p:nvSpPr>
        <p:spPr>
          <a:xfrm>
            <a:off x="7020000" y="0"/>
            <a:ext cx="1008000" cy="148428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484280"/>
              <a:gd name="textAreaBottom" fmla="*/ 1419120 h 1484280"/>
            </a:gdLst>
            <a:ahLst/>
            <a:rect l="textAreaLeft" t="textAreaTop" r="textAreaRight" b="textAreaBottom"/>
            <a:pathLst>
              <a:path w="21600" h="31802">
                <a:moveTo>
                  <a:pt x="0" y="0"/>
                </a:moveTo>
                <a:lnTo>
                  <a:pt x="21600" y="0"/>
                </a:lnTo>
                <a:lnTo>
                  <a:pt x="21600" y="31802"/>
                </a:lnTo>
                <a:lnTo>
                  <a:pt x="0" y="31802"/>
                </a:lnTo>
                <a:close/>
              </a:path>
              <a:path fill="lightenLess" w="21600" h="318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802">
                <a:moveTo>
                  <a:pt x="21600" y="0"/>
                </a:moveTo>
                <a:lnTo>
                  <a:pt x="21600" y="31802"/>
                </a:lnTo>
                <a:lnTo>
                  <a:pt x="20200" y="30402"/>
                </a:lnTo>
                <a:lnTo>
                  <a:pt x="20200" y="1400"/>
                </a:lnTo>
                <a:close/>
              </a:path>
              <a:path fill="darkenLess" w="21600" h="31802">
                <a:moveTo>
                  <a:pt x="21600" y="31802"/>
                </a:moveTo>
                <a:lnTo>
                  <a:pt x="0" y="31802"/>
                </a:lnTo>
                <a:lnTo>
                  <a:pt x="1400" y="30402"/>
                </a:lnTo>
                <a:lnTo>
                  <a:pt x="20200" y="30402"/>
                </a:lnTo>
                <a:close/>
              </a:path>
              <a:path fill="lighten" w="21600" h="31802">
                <a:moveTo>
                  <a:pt x="0" y="318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0402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rId5" action="ppaction://hlinksldjump"/>
          </p:cNvPr>
          <p:cNvSpPr/>
          <p:nvPr/>
        </p:nvSpPr>
        <p:spPr>
          <a:xfrm>
            <a:off x="8136000" y="0"/>
            <a:ext cx="1008000" cy="148428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484280"/>
              <a:gd name="textAreaBottom" fmla="*/ 1419120 h 1484280"/>
            </a:gdLst>
            <a:ahLst/>
            <a:rect l="textAreaLeft" t="textAreaTop" r="textAreaRight" b="textAreaBottom"/>
            <a:pathLst>
              <a:path w="21600" h="31802">
                <a:moveTo>
                  <a:pt x="0" y="0"/>
                </a:moveTo>
                <a:lnTo>
                  <a:pt x="21600" y="0"/>
                </a:lnTo>
                <a:lnTo>
                  <a:pt x="21600" y="31802"/>
                </a:lnTo>
                <a:lnTo>
                  <a:pt x="0" y="31802"/>
                </a:lnTo>
                <a:close/>
              </a:path>
              <a:path fill="lightenLess" w="21600" h="318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802">
                <a:moveTo>
                  <a:pt x="21600" y="0"/>
                </a:moveTo>
                <a:lnTo>
                  <a:pt x="21600" y="31802"/>
                </a:lnTo>
                <a:lnTo>
                  <a:pt x="20200" y="30402"/>
                </a:lnTo>
                <a:lnTo>
                  <a:pt x="20200" y="1400"/>
                </a:lnTo>
                <a:close/>
              </a:path>
              <a:path fill="darkenLess" w="21600" h="31802">
                <a:moveTo>
                  <a:pt x="21600" y="31802"/>
                </a:moveTo>
                <a:lnTo>
                  <a:pt x="0" y="31802"/>
                </a:lnTo>
                <a:lnTo>
                  <a:pt x="1400" y="30402"/>
                </a:lnTo>
                <a:lnTo>
                  <a:pt x="20200" y="30402"/>
                </a:lnTo>
                <a:close/>
              </a:path>
              <a:path fill="lighten" w="21600" h="31802">
                <a:moveTo>
                  <a:pt x="0" y="318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0402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>
            <a:hlinkClick r:id="rId6" action="ppaction://hlinksldjump"/>
          </p:cNvPr>
          <p:cNvSpPr/>
          <p:nvPr/>
        </p:nvSpPr>
        <p:spPr>
          <a:xfrm>
            <a:off x="4859280" y="0"/>
            <a:ext cx="1008000" cy="148428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484280"/>
              <a:gd name="textAreaBottom" fmla="*/ 1419120 h 1484280"/>
            </a:gdLst>
            <a:ahLst/>
            <a:rect l="textAreaLeft" t="textAreaTop" r="textAreaRight" b="textAreaBottom"/>
            <a:pathLst>
              <a:path w="21600" h="31802">
                <a:moveTo>
                  <a:pt x="0" y="0"/>
                </a:moveTo>
                <a:lnTo>
                  <a:pt x="21600" y="0"/>
                </a:lnTo>
                <a:lnTo>
                  <a:pt x="21600" y="31802"/>
                </a:lnTo>
                <a:lnTo>
                  <a:pt x="0" y="31802"/>
                </a:lnTo>
                <a:close/>
              </a:path>
              <a:path fill="lightenLess" w="21600" h="318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802">
                <a:moveTo>
                  <a:pt x="21600" y="0"/>
                </a:moveTo>
                <a:lnTo>
                  <a:pt x="21600" y="31802"/>
                </a:lnTo>
                <a:lnTo>
                  <a:pt x="20200" y="30402"/>
                </a:lnTo>
                <a:lnTo>
                  <a:pt x="20200" y="1400"/>
                </a:lnTo>
                <a:close/>
              </a:path>
              <a:path fill="darkenLess" w="21600" h="31802">
                <a:moveTo>
                  <a:pt x="21600" y="31802"/>
                </a:moveTo>
                <a:lnTo>
                  <a:pt x="0" y="31802"/>
                </a:lnTo>
                <a:lnTo>
                  <a:pt x="1400" y="30402"/>
                </a:lnTo>
                <a:lnTo>
                  <a:pt x="20200" y="30402"/>
                </a:lnTo>
                <a:close/>
              </a:path>
              <a:path fill="lighten" w="21600" h="31802">
                <a:moveTo>
                  <a:pt x="0" y="318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0402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rId7" action="ppaction://hlinksldjump"/>
          </p:cNvPr>
          <p:cNvSpPr/>
          <p:nvPr/>
        </p:nvSpPr>
        <p:spPr>
          <a:xfrm>
            <a:off x="2556000" y="1628640"/>
            <a:ext cx="1079280" cy="129564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295640"/>
              <a:gd name="textAreaBottom" fmla="*/ 1225800 h 129564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00" y="24529"/>
                </a:lnTo>
                <a:lnTo>
                  <a:pt x="20200" y="140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400" y="24529"/>
                </a:lnTo>
                <a:lnTo>
                  <a:pt x="20200" y="2452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>
            <a:hlinkClick r:id="rId8" action="ppaction://hlinksldjump"/>
          </p:cNvPr>
          <p:cNvSpPr/>
          <p:nvPr/>
        </p:nvSpPr>
        <p:spPr>
          <a:xfrm>
            <a:off x="3780000" y="1628640"/>
            <a:ext cx="1008000" cy="129564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295640"/>
              <a:gd name="textAreaBottom" fmla="*/ 1230480 h 1295640"/>
            </a:gdLst>
            <a:ahLst/>
            <a:rect l="textAreaLeft" t="textAreaTop" r="textAreaRight" b="textAreaBottom"/>
            <a:pathLst>
              <a:path w="21600" h="27762">
                <a:moveTo>
                  <a:pt x="0" y="0"/>
                </a:moveTo>
                <a:lnTo>
                  <a:pt x="21600" y="0"/>
                </a:lnTo>
                <a:lnTo>
                  <a:pt x="21600" y="27762"/>
                </a:lnTo>
                <a:lnTo>
                  <a:pt x="0" y="27762"/>
                </a:lnTo>
                <a:close/>
              </a:path>
              <a:path fill="lightenLess" w="21600" h="27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2">
                <a:moveTo>
                  <a:pt x="21600" y="0"/>
                </a:moveTo>
                <a:lnTo>
                  <a:pt x="21600" y="27762"/>
                </a:lnTo>
                <a:lnTo>
                  <a:pt x="20200" y="26362"/>
                </a:lnTo>
                <a:lnTo>
                  <a:pt x="20200" y="1400"/>
                </a:lnTo>
                <a:close/>
              </a:path>
              <a:path fill="darkenLess" w="21600" h="27762">
                <a:moveTo>
                  <a:pt x="21600" y="27762"/>
                </a:moveTo>
                <a:lnTo>
                  <a:pt x="0" y="27762"/>
                </a:lnTo>
                <a:lnTo>
                  <a:pt x="1400" y="26362"/>
                </a:lnTo>
                <a:lnTo>
                  <a:pt x="20200" y="26362"/>
                </a:lnTo>
                <a:close/>
              </a:path>
              <a:path fill="lighten" w="21600" h="27762">
                <a:moveTo>
                  <a:pt x="0" y="27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2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rId9" action="ppaction://hlinksldjump"/>
          </p:cNvPr>
          <p:cNvSpPr/>
          <p:nvPr/>
        </p:nvSpPr>
        <p:spPr>
          <a:xfrm>
            <a:off x="4932360" y="1628640"/>
            <a:ext cx="934920" cy="129564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295640"/>
              <a:gd name="textAreaBottom" fmla="*/ 1235160 h 1295640"/>
            </a:gdLst>
            <a:ahLst/>
            <a:rect l="textAreaLeft" t="textAreaTop" r="textAreaRight" b="textAreaBottom"/>
            <a:pathLst>
              <a:path w="21600" h="29931">
                <a:moveTo>
                  <a:pt x="0" y="0"/>
                </a:moveTo>
                <a:lnTo>
                  <a:pt x="21600" y="0"/>
                </a:lnTo>
                <a:lnTo>
                  <a:pt x="21600" y="29931"/>
                </a:lnTo>
                <a:lnTo>
                  <a:pt x="0" y="29931"/>
                </a:lnTo>
                <a:close/>
              </a:path>
              <a:path fill="lightenLess" w="21600" h="29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931">
                <a:moveTo>
                  <a:pt x="21600" y="0"/>
                </a:moveTo>
                <a:lnTo>
                  <a:pt x="21600" y="29931"/>
                </a:lnTo>
                <a:lnTo>
                  <a:pt x="20200" y="28531"/>
                </a:lnTo>
                <a:lnTo>
                  <a:pt x="20200" y="1400"/>
                </a:lnTo>
                <a:close/>
              </a:path>
              <a:path fill="darkenLess" w="21600" h="29931">
                <a:moveTo>
                  <a:pt x="21600" y="29931"/>
                </a:moveTo>
                <a:lnTo>
                  <a:pt x="0" y="29931"/>
                </a:lnTo>
                <a:lnTo>
                  <a:pt x="1400" y="28531"/>
                </a:lnTo>
                <a:lnTo>
                  <a:pt x="20200" y="28531"/>
                </a:lnTo>
                <a:close/>
              </a:path>
              <a:path fill="lighten" w="21600" h="29931">
                <a:moveTo>
                  <a:pt x="0" y="29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853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rId10" action="ppaction://hlinksldjump"/>
          </p:cNvPr>
          <p:cNvSpPr/>
          <p:nvPr/>
        </p:nvSpPr>
        <p:spPr>
          <a:xfrm>
            <a:off x="6012000" y="1628640"/>
            <a:ext cx="934920" cy="129564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295640"/>
              <a:gd name="textAreaBottom" fmla="*/ 1235160 h 1295640"/>
            </a:gdLst>
            <a:ahLst/>
            <a:rect l="textAreaLeft" t="textAreaTop" r="textAreaRight" b="textAreaBottom"/>
            <a:pathLst>
              <a:path w="21600" h="29931">
                <a:moveTo>
                  <a:pt x="0" y="0"/>
                </a:moveTo>
                <a:lnTo>
                  <a:pt x="21600" y="0"/>
                </a:lnTo>
                <a:lnTo>
                  <a:pt x="21600" y="29931"/>
                </a:lnTo>
                <a:lnTo>
                  <a:pt x="0" y="29931"/>
                </a:lnTo>
                <a:close/>
              </a:path>
              <a:path fill="lightenLess" w="21600" h="29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931">
                <a:moveTo>
                  <a:pt x="21600" y="0"/>
                </a:moveTo>
                <a:lnTo>
                  <a:pt x="21600" y="29931"/>
                </a:lnTo>
                <a:lnTo>
                  <a:pt x="20200" y="28531"/>
                </a:lnTo>
                <a:lnTo>
                  <a:pt x="20200" y="1400"/>
                </a:lnTo>
                <a:close/>
              </a:path>
              <a:path fill="darkenLess" w="21600" h="29931">
                <a:moveTo>
                  <a:pt x="21600" y="29931"/>
                </a:moveTo>
                <a:lnTo>
                  <a:pt x="0" y="29931"/>
                </a:lnTo>
                <a:lnTo>
                  <a:pt x="1400" y="28531"/>
                </a:lnTo>
                <a:lnTo>
                  <a:pt x="20200" y="28531"/>
                </a:lnTo>
                <a:close/>
              </a:path>
              <a:path fill="lighten" w="21600" h="29931">
                <a:moveTo>
                  <a:pt x="0" y="29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853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>
            <a:hlinkClick r:id="rId11" action="ppaction://hlinksldjump"/>
          </p:cNvPr>
          <p:cNvSpPr/>
          <p:nvPr/>
        </p:nvSpPr>
        <p:spPr>
          <a:xfrm>
            <a:off x="7020000" y="1628640"/>
            <a:ext cx="1008000" cy="129564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295640"/>
              <a:gd name="textAreaBottom" fmla="*/ 1230480 h 1295640"/>
            </a:gdLst>
            <a:ahLst/>
            <a:rect l="textAreaLeft" t="textAreaTop" r="textAreaRight" b="textAreaBottom"/>
            <a:pathLst>
              <a:path w="21600" h="27762">
                <a:moveTo>
                  <a:pt x="0" y="0"/>
                </a:moveTo>
                <a:lnTo>
                  <a:pt x="21600" y="0"/>
                </a:lnTo>
                <a:lnTo>
                  <a:pt x="21600" y="27762"/>
                </a:lnTo>
                <a:lnTo>
                  <a:pt x="0" y="27762"/>
                </a:lnTo>
                <a:close/>
              </a:path>
              <a:path fill="lightenLess" w="21600" h="27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2">
                <a:moveTo>
                  <a:pt x="21600" y="0"/>
                </a:moveTo>
                <a:lnTo>
                  <a:pt x="21600" y="27762"/>
                </a:lnTo>
                <a:lnTo>
                  <a:pt x="20200" y="26362"/>
                </a:lnTo>
                <a:lnTo>
                  <a:pt x="20200" y="1400"/>
                </a:lnTo>
                <a:close/>
              </a:path>
              <a:path fill="darkenLess" w="21600" h="27762">
                <a:moveTo>
                  <a:pt x="21600" y="27762"/>
                </a:moveTo>
                <a:lnTo>
                  <a:pt x="0" y="27762"/>
                </a:lnTo>
                <a:lnTo>
                  <a:pt x="1400" y="26362"/>
                </a:lnTo>
                <a:lnTo>
                  <a:pt x="20200" y="26362"/>
                </a:lnTo>
                <a:close/>
              </a:path>
              <a:path fill="lighten" w="21600" h="27762">
                <a:moveTo>
                  <a:pt x="0" y="27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2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>
            <a:hlinkClick r:id="rId12" action="ppaction://hlinksldjump"/>
          </p:cNvPr>
          <p:cNvSpPr/>
          <p:nvPr/>
        </p:nvSpPr>
        <p:spPr>
          <a:xfrm>
            <a:off x="8101080" y="1628640"/>
            <a:ext cx="1042920" cy="1295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295640"/>
              <a:gd name="textAreaBottom" fmla="*/ 1228320 h 1295640"/>
            </a:gdLst>
            <a:ahLst/>
            <a:rect l="textAreaLeft" t="textAreaTop" r="textAreaRight" b="textAreaBottom"/>
            <a:pathLst>
              <a:path w="21600" h="26832">
                <a:moveTo>
                  <a:pt x="0" y="0"/>
                </a:moveTo>
                <a:lnTo>
                  <a:pt x="21600" y="0"/>
                </a:lnTo>
                <a:lnTo>
                  <a:pt x="21600" y="26832"/>
                </a:lnTo>
                <a:lnTo>
                  <a:pt x="0" y="26832"/>
                </a:lnTo>
                <a:close/>
              </a:path>
              <a:path fill="lightenLess" w="21600" h="26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32">
                <a:moveTo>
                  <a:pt x="21600" y="0"/>
                </a:moveTo>
                <a:lnTo>
                  <a:pt x="21600" y="26832"/>
                </a:lnTo>
                <a:lnTo>
                  <a:pt x="20200" y="25432"/>
                </a:lnTo>
                <a:lnTo>
                  <a:pt x="20200" y="1400"/>
                </a:lnTo>
                <a:close/>
              </a:path>
              <a:path fill="darkenLess" w="21600" h="26832">
                <a:moveTo>
                  <a:pt x="21600" y="26832"/>
                </a:moveTo>
                <a:lnTo>
                  <a:pt x="0" y="26832"/>
                </a:lnTo>
                <a:lnTo>
                  <a:pt x="1400" y="25432"/>
                </a:lnTo>
                <a:lnTo>
                  <a:pt x="20200" y="25432"/>
                </a:lnTo>
                <a:close/>
              </a:path>
              <a:path fill="lighten" w="21600" h="26832">
                <a:moveTo>
                  <a:pt x="0" y="26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32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13" action="ppaction://hlinksldjump"/>
          </p:cNvPr>
          <p:cNvSpPr/>
          <p:nvPr/>
        </p:nvSpPr>
        <p:spPr>
          <a:xfrm>
            <a:off x="8101080" y="2924280"/>
            <a:ext cx="1042920" cy="1295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295280"/>
              <a:gd name="textAreaBottom" fmla="*/ 1227960 h 1295280"/>
            </a:gdLst>
            <a:ahLst/>
            <a:rect l="textAreaLeft" t="textAreaTop" r="textAreaRight" b="textAreaBottom"/>
            <a:pathLst>
              <a:path w="21600" h="26825">
                <a:moveTo>
                  <a:pt x="0" y="0"/>
                </a:moveTo>
                <a:lnTo>
                  <a:pt x="21600" y="0"/>
                </a:lnTo>
                <a:lnTo>
                  <a:pt x="21600" y="26825"/>
                </a:lnTo>
                <a:lnTo>
                  <a:pt x="0" y="26825"/>
                </a:lnTo>
                <a:close/>
              </a:path>
              <a:path fill="lightenLess" w="21600" h="268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5">
                <a:moveTo>
                  <a:pt x="21600" y="0"/>
                </a:moveTo>
                <a:lnTo>
                  <a:pt x="21600" y="26825"/>
                </a:lnTo>
                <a:lnTo>
                  <a:pt x="20200" y="25425"/>
                </a:lnTo>
                <a:lnTo>
                  <a:pt x="20200" y="1400"/>
                </a:lnTo>
                <a:close/>
              </a:path>
              <a:path fill="darkenLess" w="21600" h="26825">
                <a:moveTo>
                  <a:pt x="21600" y="26825"/>
                </a:moveTo>
                <a:lnTo>
                  <a:pt x="0" y="26825"/>
                </a:lnTo>
                <a:lnTo>
                  <a:pt x="1400" y="25425"/>
                </a:lnTo>
                <a:lnTo>
                  <a:pt x="20200" y="25425"/>
                </a:lnTo>
                <a:close/>
              </a:path>
              <a:path fill="lighten" w="21600" h="26825">
                <a:moveTo>
                  <a:pt x="0" y="268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5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rId14" action="ppaction://hlinksldjump"/>
          </p:cNvPr>
          <p:cNvSpPr/>
          <p:nvPr/>
        </p:nvSpPr>
        <p:spPr>
          <a:xfrm>
            <a:off x="7093080" y="2924280"/>
            <a:ext cx="934920" cy="129528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295280"/>
              <a:gd name="textAreaBottom" fmla="*/ 1234800 h 1295280"/>
            </a:gdLst>
            <a:ahLst/>
            <a:rect l="textAreaLeft" t="textAreaTop" r="textAreaRight" b="textAreaBottom"/>
            <a:pathLst>
              <a:path w="21600" h="29922">
                <a:moveTo>
                  <a:pt x="0" y="0"/>
                </a:moveTo>
                <a:lnTo>
                  <a:pt x="21600" y="0"/>
                </a:lnTo>
                <a:lnTo>
                  <a:pt x="21600" y="29922"/>
                </a:lnTo>
                <a:lnTo>
                  <a:pt x="0" y="29922"/>
                </a:lnTo>
                <a:close/>
              </a:path>
              <a:path fill="lightenLess" w="21600" h="29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922">
                <a:moveTo>
                  <a:pt x="21600" y="0"/>
                </a:moveTo>
                <a:lnTo>
                  <a:pt x="21600" y="29922"/>
                </a:lnTo>
                <a:lnTo>
                  <a:pt x="20200" y="28522"/>
                </a:lnTo>
                <a:lnTo>
                  <a:pt x="20200" y="1400"/>
                </a:lnTo>
                <a:close/>
              </a:path>
              <a:path fill="darkenLess" w="21600" h="29922">
                <a:moveTo>
                  <a:pt x="21600" y="29922"/>
                </a:moveTo>
                <a:lnTo>
                  <a:pt x="0" y="29922"/>
                </a:lnTo>
                <a:lnTo>
                  <a:pt x="1400" y="28522"/>
                </a:lnTo>
                <a:lnTo>
                  <a:pt x="20200" y="28522"/>
                </a:lnTo>
                <a:close/>
              </a:path>
              <a:path fill="lighten" w="21600" h="29922">
                <a:moveTo>
                  <a:pt x="0" y="29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522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>
            <a:hlinkClick r:id="rId15" action="ppaction://hlinksldjump"/>
          </p:cNvPr>
          <p:cNvSpPr/>
          <p:nvPr/>
        </p:nvSpPr>
        <p:spPr>
          <a:xfrm>
            <a:off x="5940360" y="2924280"/>
            <a:ext cx="1079640" cy="1295280"/>
          </a:xfrm>
          <a:custGeom>
            <a:avLst/>
            <a:gdLst>
              <a:gd name="textAreaLeft" fmla="*/ 69840 w 1079640"/>
              <a:gd name="textAreaRight" fmla="*/ 1009800 w 1079640"/>
              <a:gd name="textAreaTop" fmla="*/ 69840 h 1295280"/>
              <a:gd name="textAreaBottom" fmla="*/ 1225440 h 1295280"/>
            </a:gdLst>
            <a:ahLst/>
            <a:rect l="textAreaLeft" t="textAreaTop" r="textAreaRight" b="textAreaBottom"/>
            <a:pathLst>
              <a:path w="21600" h="25913">
                <a:moveTo>
                  <a:pt x="0" y="0"/>
                </a:moveTo>
                <a:lnTo>
                  <a:pt x="21600" y="0"/>
                </a:lnTo>
                <a:lnTo>
                  <a:pt x="21600" y="25913"/>
                </a:lnTo>
                <a:lnTo>
                  <a:pt x="0" y="25913"/>
                </a:lnTo>
                <a:close/>
              </a:path>
              <a:path fill="lightenLess" w="21600" h="259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3">
                <a:moveTo>
                  <a:pt x="21600" y="0"/>
                </a:moveTo>
                <a:lnTo>
                  <a:pt x="21600" y="25913"/>
                </a:lnTo>
                <a:lnTo>
                  <a:pt x="20200" y="24513"/>
                </a:lnTo>
                <a:lnTo>
                  <a:pt x="20200" y="1400"/>
                </a:lnTo>
                <a:close/>
              </a:path>
              <a:path fill="darkenLess" w="21600" h="25913">
                <a:moveTo>
                  <a:pt x="21600" y="25913"/>
                </a:moveTo>
                <a:lnTo>
                  <a:pt x="0" y="25913"/>
                </a:lnTo>
                <a:lnTo>
                  <a:pt x="1400" y="24513"/>
                </a:lnTo>
                <a:lnTo>
                  <a:pt x="20200" y="24513"/>
                </a:lnTo>
                <a:close/>
              </a:path>
              <a:path fill="lighten" w="21600" h="25913">
                <a:moveTo>
                  <a:pt x="0" y="259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3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rId16" action="ppaction://hlinksldjump"/>
          </p:cNvPr>
          <p:cNvSpPr/>
          <p:nvPr/>
        </p:nvSpPr>
        <p:spPr>
          <a:xfrm>
            <a:off x="4859280" y="2924280"/>
            <a:ext cx="1008000" cy="129528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295280"/>
              <a:gd name="textAreaBottom" fmla="*/ 1230120 h 1295280"/>
            </a:gdLst>
            <a:ahLst/>
            <a:rect l="textAreaLeft" t="textAreaTop" r="textAreaRight" b="textAreaBottom"/>
            <a:pathLst>
              <a:path w="21600" h="27754">
                <a:moveTo>
                  <a:pt x="0" y="0"/>
                </a:moveTo>
                <a:lnTo>
                  <a:pt x="21600" y="0"/>
                </a:lnTo>
                <a:lnTo>
                  <a:pt x="21600" y="27754"/>
                </a:lnTo>
                <a:lnTo>
                  <a:pt x="0" y="27754"/>
                </a:lnTo>
                <a:close/>
              </a:path>
              <a:path fill="lightenLess" w="21600" h="277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54">
                <a:moveTo>
                  <a:pt x="21600" y="0"/>
                </a:moveTo>
                <a:lnTo>
                  <a:pt x="21600" y="27754"/>
                </a:lnTo>
                <a:lnTo>
                  <a:pt x="20200" y="26354"/>
                </a:lnTo>
                <a:lnTo>
                  <a:pt x="20200" y="1400"/>
                </a:lnTo>
                <a:close/>
              </a:path>
              <a:path fill="darkenLess" w="21600" h="27754">
                <a:moveTo>
                  <a:pt x="21600" y="27754"/>
                </a:moveTo>
                <a:lnTo>
                  <a:pt x="0" y="27754"/>
                </a:lnTo>
                <a:lnTo>
                  <a:pt x="1400" y="26354"/>
                </a:lnTo>
                <a:lnTo>
                  <a:pt x="20200" y="26354"/>
                </a:lnTo>
                <a:close/>
              </a:path>
              <a:path fill="lighten" w="21600" h="27754">
                <a:moveTo>
                  <a:pt x="0" y="277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54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>
            <a:hlinkClick r:id="rId17" action="ppaction://hlinksldjump"/>
          </p:cNvPr>
          <p:cNvSpPr/>
          <p:nvPr/>
        </p:nvSpPr>
        <p:spPr>
          <a:xfrm>
            <a:off x="3708360" y="2924280"/>
            <a:ext cx="1079640" cy="1295280"/>
          </a:xfrm>
          <a:custGeom>
            <a:avLst/>
            <a:gdLst>
              <a:gd name="textAreaLeft" fmla="*/ 69840 w 1079640"/>
              <a:gd name="textAreaRight" fmla="*/ 1009800 w 1079640"/>
              <a:gd name="textAreaTop" fmla="*/ 69840 h 1295280"/>
              <a:gd name="textAreaBottom" fmla="*/ 1225440 h 1295280"/>
            </a:gdLst>
            <a:ahLst/>
            <a:rect l="textAreaLeft" t="textAreaTop" r="textAreaRight" b="textAreaBottom"/>
            <a:pathLst>
              <a:path w="21600" h="25913">
                <a:moveTo>
                  <a:pt x="0" y="0"/>
                </a:moveTo>
                <a:lnTo>
                  <a:pt x="21600" y="0"/>
                </a:lnTo>
                <a:lnTo>
                  <a:pt x="21600" y="25913"/>
                </a:lnTo>
                <a:lnTo>
                  <a:pt x="0" y="25913"/>
                </a:lnTo>
                <a:close/>
              </a:path>
              <a:path fill="lightenLess" w="21600" h="259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3">
                <a:moveTo>
                  <a:pt x="21600" y="0"/>
                </a:moveTo>
                <a:lnTo>
                  <a:pt x="21600" y="25913"/>
                </a:lnTo>
                <a:lnTo>
                  <a:pt x="20200" y="24513"/>
                </a:lnTo>
                <a:lnTo>
                  <a:pt x="20200" y="1400"/>
                </a:lnTo>
                <a:close/>
              </a:path>
              <a:path fill="darkenLess" w="21600" h="25913">
                <a:moveTo>
                  <a:pt x="21600" y="25913"/>
                </a:moveTo>
                <a:lnTo>
                  <a:pt x="0" y="25913"/>
                </a:lnTo>
                <a:lnTo>
                  <a:pt x="1400" y="24513"/>
                </a:lnTo>
                <a:lnTo>
                  <a:pt x="20200" y="24513"/>
                </a:lnTo>
                <a:close/>
              </a:path>
              <a:path fill="lighten" w="21600" h="25913">
                <a:moveTo>
                  <a:pt x="0" y="259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3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rId18" action="ppaction://hlinksldjump"/>
          </p:cNvPr>
          <p:cNvSpPr/>
          <p:nvPr/>
        </p:nvSpPr>
        <p:spPr>
          <a:xfrm>
            <a:off x="2556000" y="2924280"/>
            <a:ext cx="1081080" cy="12985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298520"/>
              <a:gd name="textAreaBottom" fmla="*/ 1228680 h 1298520"/>
            </a:gdLst>
            <a:ahLst/>
            <a:rect l="textAreaLeft" t="textAreaTop" r="textAreaRight" b="textAreaBottom"/>
            <a:pathLst>
              <a:path w="21600" h="25943">
                <a:moveTo>
                  <a:pt x="0" y="0"/>
                </a:moveTo>
                <a:lnTo>
                  <a:pt x="21600" y="0"/>
                </a:lnTo>
                <a:lnTo>
                  <a:pt x="21600" y="25943"/>
                </a:lnTo>
                <a:lnTo>
                  <a:pt x="0" y="25943"/>
                </a:lnTo>
                <a:close/>
              </a:path>
              <a:path fill="lightenLess" w="21600" h="259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3">
                <a:moveTo>
                  <a:pt x="21600" y="0"/>
                </a:moveTo>
                <a:lnTo>
                  <a:pt x="21600" y="25943"/>
                </a:lnTo>
                <a:lnTo>
                  <a:pt x="20200" y="24543"/>
                </a:lnTo>
                <a:lnTo>
                  <a:pt x="20200" y="1400"/>
                </a:lnTo>
                <a:close/>
              </a:path>
              <a:path fill="darkenLess" w="21600" h="25943">
                <a:moveTo>
                  <a:pt x="21600" y="25943"/>
                </a:moveTo>
                <a:lnTo>
                  <a:pt x="0" y="25943"/>
                </a:lnTo>
                <a:lnTo>
                  <a:pt x="1400" y="24543"/>
                </a:lnTo>
                <a:lnTo>
                  <a:pt x="20200" y="24543"/>
                </a:lnTo>
                <a:close/>
              </a:path>
              <a:path fill="lighten" w="21600" h="25943">
                <a:moveTo>
                  <a:pt x="0" y="259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3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56000" y="4292640"/>
            <a:ext cx="1081080" cy="12985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298520"/>
              <a:gd name="textAreaBottom" fmla="*/ 1228680 h 1298520"/>
            </a:gdLst>
            <a:ahLst/>
            <a:rect l="textAreaLeft" t="textAreaTop" r="textAreaRight" b="textAreaBottom"/>
            <a:pathLst>
              <a:path w="21600" h="25943">
                <a:moveTo>
                  <a:pt x="0" y="0"/>
                </a:moveTo>
                <a:lnTo>
                  <a:pt x="21600" y="0"/>
                </a:lnTo>
                <a:lnTo>
                  <a:pt x="21600" y="25943"/>
                </a:lnTo>
                <a:lnTo>
                  <a:pt x="0" y="25943"/>
                </a:lnTo>
                <a:close/>
              </a:path>
              <a:path fill="lightenLess" w="21600" h="259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3">
                <a:moveTo>
                  <a:pt x="21600" y="0"/>
                </a:moveTo>
                <a:lnTo>
                  <a:pt x="21600" y="25943"/>
                </a:lnTo>
                <a:lnTo>
                  <a:pt x="20200" y="24543"/>
                </a:lnTo>
                <a:lnTo>
                  <a:pt x="20200" y="1400"/>
                </a:lnTo>
                <a:close/>
              </a:path>
              <a:path fill="darkenLess" w="21600" h="25943">
                <a:moveTo>
                  <a:pt x="21600" y="25943"/>
                </a:moveTo>
                <a:lnTo>
                  <a:pt x="0" y="25943"/>
                </a:lnTo>
                <a:lnTo>
                  <a:pt x="1400" y="24543"/>
                </a:lnTo>
                <a:lnTo>
                  <a:pt x="20200" y="24543"/>
                </a:lnTo>
                <a:close/>
              </a:path>
              <a:path fill="lighten" w="21600" h="25943">
                <a:moveTo>
                  <a:pt x="0" y="259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3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>
            <a:hlinkClick r:id="rId19" action="ppaction://hlinksldjump"/>
          </p:cNvPr>
          <p:cNvSpPr/>
          <p:nvPr/>
        </p:nvSpPr>
        <p:spPr>
          <a:xfrm>
            <a:off x="3780000" y="4292640"/>
            <a:ext cx="1081080" cy="12985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298520"/>
              <a:gd name="textAreaBottom" fmla="*/ 1228680 h 1298520"/>
            </a:gdLst>
            <a:ahLst/>
            <a:rect l="textAreaLeft" t="textAreaTop" r="textAreaRight" b="textAreaBottom"/>
            <a:pathLst>
              <a:path w="21600" h="25943">
                <a:moveTo>
                  <a:pt x="0" y="0"/>
                </a:moveTo>
                <a:lnTo>
                  <a:pt x="21600" y="0"/>
                </a:lnTo>
                <a:lnTo>
                  <a:pt x="21600" y="25943"/>
                </a:lnTo>
                <a:lnTo>
                  <a:pt x="0" y="25943"/>
                </a:lnTo>
                <a:close/>
              </a:path>
              <a:path fill="lightenLess" w="21600" h="259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3">
                <a:moveTo>
                  <a:pt x="21600" y="0"/>
                </a:moveTo>
                <a:lnTo>
                  <a:pt x="21600" y="25943"/>
                </a:lnTo>
                <a:lnTo>
                  <a:pt x="20200" y="24543"/>
                </a:lnTo>
                <a:lnTo>
                  <a:pt x="20200" y="1400"/>
                </a:lnTo>
                <a:close/>
              </a:path>
              <a:path fill="darkenLess" w="21600" h="25943">
                <a:moveTo>
                  <a:pt x="21600" y="25943"/>
                </a:moveTo>
                <a:lnTo>
                  <a:pt x="0" y="25943"/>
                </a:lnTo>
                <a:lnTo>
                  <a:pt x="1400" y="24543"/>
                </a:lnTo>
                <a:lnTo>
                  <a:pt x="20200" y="24543"/>
                </a:lnTo>
                <a:close/>
              </a:path>
              <a:path fill="lighten" w="21600" h="25943">
                <a:moveTo>
                  <a:pt x="0" y="259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3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>
            <a:hlinkClick r:id="rId20" action="ppaction://hlinksldjump"/>
          </p:cNvPr>
          <p:cNvSpPr/>
          <p:nvPr/>
        </p:nvSpPr>
        <p:spPr>
          <a:xfrm>
            <a:off x="4859280" y="4292640"/>
            <a:ext cx="1081080" cy="12985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298520"/>
              <a:gd name="textAreaBottom" fmla="*/ 1228680 h 1298520"/>
            </a:gdLst>
            <a:ahLst/>
            <a:rect l="textAreaLeft" t="textAreaTop" r="textAreaRight" b="textAreaBottom"/>
            <a:pathLst>
              <a:path w="21600" h="25943">
                <a:moveTo>
                  <a:pt x="0" y="0"/>
                </a:moveTo>
                <a:lnTo>
                  <a:pt x="21600" y="0"/>
                </a:lnTo>
                <a:lnTo>
                  <a:pt x="21600" y="25943"/>
                </a:lnTo>
                <a:lnTo>
                  <a:pt x="0" y="25943"/>
                </a:lnTo>
                <a:close/>
              </a:path>
              <a:path fill="lightenLess" w="21600" h="259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3">
                <a:moveTo>
                  <a:pt x="21600" y="0"/>
                </a:moveTo>
                <a:lnTo>
                  <a:pt x="21600" y="25943"/>
                </a:lnTo>
                <a:lnTo>
                  <a:pt x="20200" y="24543"/>
                </a:lnTo>
                <a:lnTo>
                  <a:pt x="20200" y="1400"/>
                </a:lnTo>
                <a:close/>
              </a:path>
              <a:path fill="darkenLess" w="21600" h="25943">
                <a:moveTo>
                  <a:pt x="21600" y="25943"/>
                </a:moveTo>
                <a:lnTo>
                  <a:pt x="0" y="25943"/>
                </a:lnTo>
                <a:lnTo>
                  <a:pt x="1400" y="24543"/>
                </a:lnTo>
                <a:lnTo>
                  <a:pt x="20200" y="24543"/>
                </a:lnTo>
                <a:close/>
              </a:path>
              <a:path fill="lighten" w="21600" h="25943">
                <a:moveTo>
                  <a:pt x="0" y="259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3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>
            <a:hlinkClick r:id="rId21" action="ppaction://hlinksldjump"/>
          </p:cNvPr>
          <p:cNvSpPr/>
          <p:nvPr/>
        </p:nvSpPr>
        <p:spPr>
          <a:xfrm>
            <a:off x="5940360" y="4292640"/>
            <a:ext cx="1081080" cy="12985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298520"/>
              <a:gd name="textAreaBottom" fmla="*/ 1228680 h 1298520"/>
            </a:gdLst>
            <a:ahLst/>
            <a:rect l="textAreaLeft" t="textAreaTop" r="textAreaRight" b="textAreaBottom"/>
            <a:pathLst>
              <a:path w="21600" h="25943">
                <a:moveTo>
                  <a:pt x="0" y="0"/>
                </a:moveTo>
                <a:lnTo>
                  <a:pt x="21600" y="0"/>
                </a:lnTo>
                <a:lnTo>
                  <a:pt x="21600" y="25943"/>
                </a:lnTo>
                <a:lnTo>
                  <a:pt x="0" y="25943"/>
                </a:lnTo>
                <a:close/>
              </a:path>
              <a:path fill="lightenLess" w="21600" h="259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3">
                <a:moveTo>
                  <a:pt x="21600" y="0"/>
                </a:moveTo>
                <a:lnTo>
                  <a:pt x="21600" y="25943"/>
                </a:lnTo>
                <a:lnTo>
                  <a:pt x="20200" y="24543"/>
                </a:lnTo>
                <a:lnTo>
                  <a:pt x="20200" y="1400"/>
                </a:lnTo>
                <a:close/>
              </a:path>
              <a:path fill="darkenLess" w="21600" h="25943">
                <a:moveTo>
                  <a:pt x="21600" y="25943"/>
                </a:moveTo>
                <a:lnTo>
                  <a:pt x="0" y="25943"/>
                </a:lnTo>
                <a:lnTo>
                  <a:pt x="1400" y="24543"/>
                </a:lnTo>
                <a:lnTo>
                  <a:pt x="20200" y="24543"/>
                </a:lnTo>
                <a:close/>
              </a:path>
              <a:path fill="lighten" w="21600" h="25943">
                <a:moveTo>
                  <a:pt x="0" y="259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3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22" action="ppaction://hlinksldjump"/>
          </p:cNvPr>
          <p:cNvSpPr/>
          <p:nvPr/>
        </p:nvSpPr>
        <p:spPr>
          <a:xfrm>
            <a:off x="7020000" y="4292640"/>
            <a:ext cx="1081080" cy="12985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298520"/>
              <a:gd name="textAreaBottom" fmla="*/ 1228680 h 1298520"/>
            </a:gdLst>
            <a:ahLst/>
            <a:rect l="textAreaLeft" t="textAreaTop" r="textAreaRight" b="textAreaBottom"/>
            <a:pathLst>
              <a:path w="21600" h="25943">
                <a:moveTo>
                  <a:pt x="0" y="0"/>
                </a:moveTo>
                <a:lnTo>
                  <a:pt x="21600" y="0"/>
                </a:lnTo>
                <a:lnTo>
                  <a:pt x="21600" y="25943"/>
                </a:lnTo>
                <a:lnTo>
                  <a:pt x="0" y="25943"/>
                </a:lnTo>
                <a:close/>
              </a:path>
              <a:path fill="lightenLess" w="21600" h="259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3">
                <a:moveTo>
                  <a:pt x="21600" y="0"/>
                </a:moveTo>
                <a:lnTo>
                  <a:pt x="21600" y="25943"/>
                </a:lnTo>
                <a:lnTo>
                  <a:pt x="20200" y="24543"/>
                </a:lnTo>
                <a:lnTo>
                  <a:pt x="20200" y="1400"/>
                </a:lnTo>
                <a:close/>
              </a:path>
              <a:path fill="darkenLess" w="21600" h="25943">
                <a:moveTo>
                  <a:pt x="21600" y="25943"/>
                </a:moveTo>
                <a:lnTo>
                  <a:pt x="0" y="25943"/>
                </a:lnTo>
                <a:lnTo>
                  <a:pt x="1400" y="24543"/>
                </a:lnTo>
                <a:lnTo>
                  <a:pt x="20200" y="24543"/>
                </a:lnTo>
                <a:close/>
              </a:path>
              <a:path fill="lighten" w="21600" h="25943">
                <a:moveTo>
                  <a:pt x="0" y="259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3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062920" y="4292640"/>
            <a:ext cx="1081080" cy="12985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298520"/>
              <a:gd name="textAreaBottom" fmla="*/ 1228680 h 1298520"/>
            </a:gdLst>
            <a:ahLst/>
            <a:rect l="textAreaLeft" t="textAreaTop" r="textAreaRight" b="textAreaBottom"/>
            <a:pathLst>
              <a:path w="21600" h="25943">
                <a:moveTo>
                  <a:pt x="0" y="0"/>
                </a:moveTo>
                <a:lnTo>
                  <a:pt x="21600" y="0"/>
                </a:lnTo>
                <a:lnTo>
                  <a:pt x="21600" y="25943"/>
                </a:lnTo>
                <a:lnTo>
                  <a:pt x="0" y="25943"/>
                </a:lnTo>
                <a:close/>
              </a:path>
              <a:path fill="lightenLess" w="21600" h="259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3">
                <a:moveTo>
                  <a:pt x="21600" y="0"/>
                </a:moveTo>
                <a:lnTo>
                  <a:pt x="21600" y="25943"/>
                </a:lnTo>
                <a:lnTo>
                  <a:pt x="20200" y="24543"/>
                </a:lnTo>
                <a:lnTo>
                  <a:pt x="20200" y="1400"/>
                </a:lnTo>
                <a:close/>
              </a:path>
              <a:path fill="darkenLess" w="21600" h="25943">
                <a:moveTo>
                  <a:pt x="21600" y="25943"/>
                </a:moveTo>
                <a:lnTo>
                  <a:pt x="0" y="25943"/>
                </a:lnTo>
                <a:lnTo>
                  <a:pt x="1400" y="24543"/>
                </a:lnTo>
                <a:lnTo>
                  <a:pt x="20200" y="24543"/>
                </a:lnTo>
                <a:close/>
              </a:path>
              <a:path fill="lighten" w="21600" h="25943">
                <a:moveTo>
                  <a:pt x="0" y="259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3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987640" y="476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987640" y="458136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987640" y="3213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987640" y="1916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140360" y="476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11640" y="458136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11640" y="3213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211640" y="1989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372360" y="54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372360" y="458136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372360" y="3284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372360" y="1989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8360" y="54936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8360" y="328464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388360" y="198900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317080" y="465300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292720" y="54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292720" y="458136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219640" y="32130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292720" y="1916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380360" y="54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51640" y="458136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451640" y="328464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451640" y="198900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62920" y="5661000"/>
            <a:ext cx="1081080" cy="119700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97000"/>
              <a:gd name="textAreaBottom" fmla="*/ 1127160 h 1197000"/>
            </a:gdLst>
            <a:ahLst/>
            <a:rect l="textAreaLeft" t="textAreaTop" r="textAreaRight" b="textAreaBottom"/>
            <a:pathLst>
              <a:path w="21600" h="23915">
                <a:moveTo>
                  <a:pt x="0" y="0"/>
                </a:moveTo>
                <a:lnTo>
                  <a:pt x="21600" y="0"/>
                </a:lnTo>
                <a:lnTo>
                  <a:pt x="21600" y="23915"/>
                </a:lnTo>
                <a:lnTo>
                  <a:pt x="0" y="23915"/>
                </a:lnTo>
                <a:close/>
              </a:path>
              <a:path fill="lightenLess" w="21600" h="239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5">
                <a:moveTo>
                  <a:pt x="21600" y="0"/>
                </a:moveTo>
                <a:lnTo>
                  <a:pt x="21600" y="23915"/>
                </a:lnTo>
                <a:lnTo>
                  <a:pt x="20200" y="22515"/>
                </a:lnTo>
                <a:lnTo>
                  <a:pt x="20200" y="1400"/>
                </a:lnTo>
                <a:close/>
              </a:path>
              <a:path fill="darkenLess" w="21600" h="23915">
                <a:moveTo>
                  <a:pt x="21600" y="23915"/>
                </a:moveTo>
                <a:lnTo>
                  <a:pt x="0" y="23915"/>
                </a:lnTo>
                <a:lnTo>
                  <a:pt x="1400" y="22515"/>
                </a:lnTo>
                <a:lnTo>
                  <a:pt x="20200" y="22515"/>
                </a:lnTo>
                <a:close/>
              </a:path>
              <a:path fill="lighten" w="21600" h="23915">
                <a:moveTo>
                  <a:pt x="0" y="239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5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20000" y="5661000"/>
            <a:ext cx="1081080" cy="119700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97000"/>
              <a:gd name="textAreaBottom" fmla="*/ 1127160 h 1197000"/>
            </a:gdLst>
            <a:ahLst/>
            <a:rect l="textAreaLeft" t="textAreaTop" r="textAreaRight" b="textAreaBottom"/>
            <a:pathLst>
              <a:path w="21600" h="23915">
                <a:moveTo>
                  <a:pt x="0" y="0"/>
                </a:moveTo>
                <a:lnTo>
                  <a:pt x="21600" y="0"/>
                </a:lnTo>
                <a:lnTo>
                  <a:pt x="21600" y="23915"/>
                </a:lnTo>
                <a:lnTo>
                  <a:pt x="0" y="23915"/>
                </a:lnTo>
                <a:close/>
              </a:path>
              <a:path fill="lightenLess" w="21600" h="239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5">
                <a:moveTo>
                  <a:pt x="21600" y="0"/>
                </a:moveTo>
                <a:lnTo>
                  <a:pt x="21600" y="23915"/>
                </a:lnTo>
                <a:lnTo>
                  <a:pt x="20200" y="22515"/>
                </a:lnTo>
                <a:lnTo>
                  <a:pt x="20200" y="1400"/>
                </a:lnTo>
                <a:close/>
              </a:path>
              <a:path fill="darkenLess" w="21600" h="23915">
                <a:moveTo>
                  <a:pt x="21600" y="23915"/>
                </a:moveTo>
                <a:lnTo>
                  <a:pt x="0" y="23915"/>
                </a:lnTo>
                <a:lnTo>
                  <a:pt x="1400" y="22515"/>
                </a:lnTo>
                <a:lnTo>
                  <a:pt x="20200" y="22515"/>
                </a:lnTo>
                <a:close/>
              </a:path>
              <a:path fill="lighten" w="21600" h="23915">
                <a:moveTo>
                  <a:pt x="0" y="239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5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940360" y="5661000"/>
            <a:ext cx="1081080" cy="119700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97000"/>
              <a:gd name="textAreaBottom" fmla="*/ 1127160 h 1197000"/>
            </a:gdLst>
            <a:ahLst/>
            <a:rect l="textAreaLeft" t="textAreaTop" r="textAreaRight" b="textAreaBottom"/>
            <a:pathLst>
              <a:path w="21600" h="23915">
                <a:moveTo>
                  <a:pt x="0" y="0"/>
                </a:moveTo>
                <a:lnTo>
                  <a:pt x="21600" y="0"/>
                </a:lnTo>
                <a:lnTo>
                  <a:pt x="21600" y="23915"/>
                </a:lnTo>
                <a:lnTo>
                  <a:pt x="0" y="23915"/>
                </a:lnTo>
                <a:close/>
              </a:path>
              <a:path fill="lightenLess" w="21600" h="239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5">
                <a:moveTo>
                  <a:pt x="21600" y="0"/>
                </a:moveTo>
                <a:lnTo>
                  <a:pt x="21600" y="23915"/>
                </a:lnTo>
                <a:lnTo>
                  <a:pt x="20200" y="22515"/>
                </a:lnTo>
                <a:lnTo>
                  <a:pt x="20200" y="1400"/>
                </a:lnTo>
                <a:close/>
              </a:path>
              <a:path fill="darkenLess" w="21600" h="23915">
                <a:moveTo>
                  <a:pt x="21600" y="23915"/>
                </a:moveTo>
                <a:lnTo>
                  <a:pt x="0" y="23915"/>
                </a:lnTo>
                <a:lnTo>
                  <a:pt x="1400" y="22515"/>
                </a:lnTo>
                <a:lnTo>
                  <a:pt x="20200" y="22515"/>
                </a:lnTo>
                <a:close/>
              </a:path>
              <a:path fill="lighten" w="21600" h="23915">
                <a:moveTo>
                  <a:pt x="0" y="239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5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5661000"/>
            <a:ext cx="1081080" cy="119700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97000"/>
              <a:gd name="textAreaBottom" fmla="*/ 1127160 h 1197000"/>
            </a:gdLst>
            <a:ahLst/>
            <a:rect l="textAreaLeft" t="textAreaTop" r="textAreaRight" b="textAreaBottom"/>
            <a:pathLst>
              <a:path w="21600" h="23915">
                <a:moveTo>
                  <a:pt x="0" y="0"/>
                </a:moveTo>
                <a:lnTo>
                  <a:pt x="21600" y="0"/>
                </a:lnTo>
                <a:lnTo>
                  <a:pt x="21600" y="23915"/>
                </a:lnTo>
                <a:lnTo>
                  <a:pt x="0" y="23915"/>
                </a:lnTo>
                <a:close/>
              </a:path>
              <a:path fill="lightenLess" w="21600" h="239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5">
                <a:moveTo>
                  <a:pt x="21600" y="0"/>
                </a:moveTo>
                <a:lnTo>
                  <a:pt x="21600" y="23915"/>
                </a:lnTo>
                <a:lnTo>
                  <a:pt x="20200" y="22515"/>
                </a:lnTo>
                <a:lnTo>
                  <a:pt x="20200" y="1400"/>
                </a:lnTo>
                <a:close/>
              </a:path>
              <a:path fill="darkenLess" w="21600" h="23915">
                <a:moveTo>
                  <a:pt x="21600" y="23915"/>
                </a:moveTo>
                <a:lnTo>
                  <a:pt x="0" y="23915"/>
                </a:lnTo>
                <a:lnTo>
                  <a:pt x="1400" y="22515"/>
                </a:lnTo>
                <a:lnTo>
                  <a:pt x="20200" y="22515"/>
                </a:lnTo>
                <a:close/>
              </a:path>
              <a:path fill="lighten" w="21600" h="23915">
                <a:moveTo>
                  <a:pt x="0" y="239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5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5661000"/>
            <a:ext cx="1081080" cy="119700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97000"/>
              <a:gd name="textAreaBottom" fmla="*/ 1127160 h 1197000"/>
            </a:gdLst>
            <a:ahLst/>
            <a:rect l="textAreaLeft" t="textAreaTop" r="textAreaRight" b="textAreaBottom"/>
            <a:pathLst>
              <a:path w="21600" h="23915">
                <a:moveTo>
                  <a:pt x="0" y="0"/>
                </a:moveTo>
                <a:lnTo>
                  <a:pt x="21600" y="0"/>
                </a:lnTo>
                <a:lnTo>
                  <a:pt x="21600" y="23915"/>
                </a:lnTo>
                <a:lnTo>
                  <a:pt x="0" y="23915"/>
                </a:lnTo>
                <a:close/>
              </a:path>
              <a:path fill="lightenLess" w="21600" h="239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5">
                <a:moveTo>
                  <a:pt x="21600" y="0"/>
                </a:moveTo>
                <a:lnTo>
                  <a:pt x="21600" y="23915"/>
                </a:lnTo>
                <a:lnTo>
                  <a:pt x="20200" y="22515"/>
                </a:lnTo>
                <a:lnTo>
                  <a:pt x="20200" y="1400"/>
                </a:lnTo>
                <a:close/>
              </a:path>
              <a:path fill="darkenLess" w="21600" h="23915">
                <a:moveTo>
                  <a:pt x="21600" y="23915"/>
                </a:moveTo>
                <a:lnTo>
                  <a:pt x="0" y="23915"/>
                </a:lnTo>
                <a:lnTo>
                  <a:pt x="1400" y="22515"/>
                </a:lnTo>
                <a:lnTo>
                  <a:pt x="20200" y="22515"/>
                </a:lnTo>
                <a:close/>
              </a:path>
              <a:path fill="lighten" w="21600" h="23915">
                <a:moveTo>
                  <a:pt x="0" y="239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5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56000" y="5661000"/>
            <a:ext cx="1081080" cy="119700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97000"/>
              <a:gd name="textAreaBottom" fmla="*/ 1127160 h 1197000"/>
            </a:gdLst>
            <a:ahLst/>
            <a:rect l="textAreaLeft" t="textAreaTop" r="textAreaRight" b="textAreaBottom"/>
            <a:pathLst>
              <a:path w="21600" h="23915">
                <a:moveTo>
                  <a:pt x="0" y="0"/>
                </a:moveTo>
                <a:lnTo>
                  <a:pt x="21600" y="0"/>
                </a:lnTo>
                <a:lnTo>
                  <a:pt x="21600" y="23915"/>
                </a:lnTo>
                <a:lnTo>
                  <a:pt x="0" y="23915"/>
                </a:lnTo>
                <a:close/>
              </a:path>
              <a:path fill="lightenLess" w="21600" h="239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5">
                <a:moveTo>
                  <a:pt x="21600" y="0"/>
                </a:moveTo>
                <a:lnTo>
                  <a:pt x="21600" y="23915"/>
                </a:lnTo>
                <a:lnTo>
                  <a:pt x="20200" y="22515"/>
                </a:lnTo>
                <a:lnTo>
                  <a:pt x="20200" y="1400"/>
                </a:lnTo>
                <a:close/>
              </a:path>
              <a:path fill="darkenLess" w="21600" h="23915">
                <a:moveTo>
                  <a:pt x="21600" y="23915"/>
                </a:moveTo>
                <a:lnTo>
                  <a:pt x="0" y="23915"/>
                </a:lnTo>
                <a:lnTo>
                  <a:pt x="1400" y="22515"/>
                </a:lnTo>
                <a:lnTo>
                  <a:pt x="20200" y="22515"/>
                </a:lnTo>
                <a:close/>
              </a:path>
              <a:path fill="lighten" w="21600" h="23915">
                <a:moveTo>
                  <a:pt x="0" y="239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5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987640" y="59500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067280" y="59500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292720" y="59500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300720" y="595008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380360" y="5877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244000" y="587700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203640" y="2781360"/>
            <a:ext cx="5365800" cy="37638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5148360" cy="31528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900000" y="2276640"/>
            <a:ext cx="727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озеро Ломпад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539640" y="5805360"/>
            <a:ext cx="1224000" cy="792360"/>
          </a:xfrm>
          <a:custGeom>
            <a:avLst/>
            <a:gdLst>
              <a:gd name="textAreaLeft" fmla="*/ 51120 w 1224000"/>
              <a:gd name="textAreaRight" fmla="*/ 1172880 w 1224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33361" h="21600">
                <a:moveTo>
                  <a:pt x="0" y="0"/>
                </a:moveTo>
                <a:lnTo>
                  <a:pt x="33361" y="0"/>
                </a:lnTo>
                <a:lnTo>
                  <a:pt x="33361" y="21600"/>
                </a:lnTo>
                <a:lnTo>
                  <a:pt x="0" y="21600"/>
                </a:lnTo>
                <a:close/>
              </a:path>
              <a:path fill="lightenLess" w="33361" h="21600">
                <a:moveTo>
                  <a:pt x="0" y="0"/>
                </a:moveTo>
                <a:lnTo>
                  <a:pt x="33361" y="0"/>
                </a:lnTo>
                <a:lnTo>
                  <a:pt x="31961" y="1400"/>
                </a:lnTo>
                <a:lnTo>
                  <a:pt x="1400" y="1400"/>
                </a:lnTo>
                <a:close/>
              </a:path>
              <a:path fill="darken" w="33361" h="21600">
                <a:moveTo>
                  <a:pt x="33361" y="0"/>
                </a:moveTo>
                <a:lnTo>
                  <a:pt x="33361" y="21600"/>
                </a:lnTo>
                <a:lnTo>
                  <a:pt x="31961" y="20200"/>
                </a:lnTo>
                <a:lnTo>
                  <a:pt x="31961" y="1400"/>
                </a:lnTo>
                <a:close/>
              </a:path>
              <a:path fill="darkenLess" w="33361" h="21600">
                <a:moveTo>
                  <a:pt x="33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1" y="20200"/>
                </a:lnTo>
                <a:close/>
              </a:path>
              <a:path fill="lighten" w="33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1" h="21600">
                <a:moveTo>
                  <a:pt x="16681" y="3837"/>
                </a:moveTo>
                <a:lnTo>
                  <a:pt x="19257" y="6448"/>
                </a:lnTo>
                <a:lnTo>
                  <a:pt x="19257" y="4707"/>
                </a:lnTo>
                <a:lnTo>
                  <a:pt x="21033" y="4707"/>
                </a:lnTo>
                <a:lnTo>
                  <a:pt x="21033" y="8224"/>
                </a:lnTo>
                <a:lnTo>
                  <a:pt x="23644" y="10800"/>
                </a:lnTo>
                <a:lnTo>
                  <a:pt x="21990" y="10800"/>
                </a:lnTo>
                <a:lnTo>
                  <a:pt x="21990" y="17989"/>
                </a:lnTo>
                <a:lnTo>
                  <a:pt x="11371" y="17989"/>
                </a:lnTo>
                <a:lnTo>
                  <a:pt x="11371" y="10800"/>
                </a:lnTo>
                <a:lnTo>
                  <a:pt x="9718" y="10800"/>
                </a:lnTo>
                <a:close/>
              </a:path>
              <a:path fill="darkenLess" w="33361" h="21600">
                <a:moveTo>
                  <a:pt x="19257" y="6448"/>
                </a:moveTo>
                <a:lnTo>
                  <a:pt x="19257" y="4707"/>
                </a:lnTo>
                <a:lnTo>
                  <a:pt x="21033" y="4707"/>
                </a:lnTo>
                <a:lnTo>
                  <a:pt x="21033" y="8224"/>
                </a:lnTo>
                <a:close/>
              </a:path>
              <a:path fill="darkenLess" w="33361" h="21600">
                <a:moveTo>
                  <a:pt x="15758" y="14299"/>
                </a:moveTo>
                <a:lnTo>
                  <a:pt x="17603" y="14299"/>
                </a:lnTo>
                <a:lnTo>
                  <a:pt x="17603" y="17989"/>
                </a:lnTo>
                <a:lnTo>
                  <a:pt x="21990" y="17989"/>
                </a:lnTo>
                <a:lnTo>
                  <a:pt x="21990" y="10800"/>
                </a:lnTo>
                <a:lnTo>
                  <a:pt x="11371" y="10800"/>
                </a:lnTo>
                <a:lnTo>
                  <a:pt x="11371" y="17989"/>
                </a:lnTo>
                <a:lnTo>
                  <a:pt x="15758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Деревья и травы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ое травянистое растение зацветает весной первым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firstslide"/>
          </p:cNvPr>
          <p:cNvSpPr/>
          <p:nvPr/>
        </p:nvSpPr>
        <p:spPr>
          <a:xfrm>
            <a:off x="8028000" y="5661000"/>
            <a:ext cx="1116000" cy="1197000"/>
          </a:xfrm>
          <a:custGeom>
            <a:avLst/>
            <a:gdLst>
              <a:gd name="textAreaLeft" fmla="*/ 72000 w 1116000"/>
              <a:gd name="textAreaRight" fmla="*/ 1044000 w 1116000"/>
              <a:gd name="textAreaTop" fmla="*/ 72000 h 1197000"/>
              <a:gd name="textAreaBottom" fmla="*/ 1125000 h 1197000"/>
            </a:gdLst>
            <a:ahLst/>
            <a:rect l="textAreaLeft" t="textAreaTop" r="textAreaRight" b="textAreaBottom"/>
            <a:pathLst>
              <a:path w="21600" h="23167">
                <a:moveTo>
                  <a:pt x="0" y="0"/>
                </a:moveTo>
                <a:lnTo>
                  <a:pt x="21600" y="0"/>
                </a:lnTo>
                <a:lnTo>
                  <a:pt x="21600" y="23167"/>
                </a:lnTo>
                <a:lnTo>
                  <a:pt x="0" y="23167"/>
                </a:lnTo>
                <a:close/>
              </a:path>
              <a:path fill="lightenLess" w="21600" h="231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67">
                <a:moveTo>
                  <a:pt x="21600" y="0"/>
                </a:moveTo>
                <a:lnTo>
                  <a:pt x="21600" y="23167"/>
                </a:lnTo>
                <a:lnTo>
                  <a:pt x="20200" y="21767"/>
                </a:lnTo>
                <a:lnTo>
                  <a:pt x="20200" y="1400"/>
                </a:lnTo>
                <a:close/>
              </a:path>
              <a:path fill="darkenLess" w="21600" h="23167">
                <a:moveTo>
                  <a:pt x="21600" y="23167"/>
                </a:moveTo>
                <a:lnTo>
                  <a:pt x="0" y="23167"/>
                </a:lnTo>
                <a:lnTo>
                  <a:pt x="1400" y="21767"/>
                </a:lnTo>
                <a:lnTo>
                  <a:pt x="20200" y="21767"/>
                </a:lnTo>
                <a:close/>
              </a:path>
              <a:path fill="lighten" w="21600" h="23167">
                <a:moveTo>
                  <a:pt x="0" y="231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67"/>
                </a:lnTo>
                <a:close/>
              </a:path>
              <a:path fill="darken" w="21600" h="23167">
                <a:moveTo>
                  <a:pt x="10800" y="4621"/>
                </a:moveTo>
                <a:lnTo>
                  <a:pt x="13376" y="7232"/>
                </a:lnTo>
                <a:lnTo>
                  <a:pt x="13376" y="5491"/>
                </a:lnTo>
                <a:lnTo>
                  <a:pt x="15152" y="5491"/>
                </a:lnTo>
                <a:lnTo>
                  <a:pt x="15152" y="9007"/>
                </a:lnTo>
                <a:lnTo>
                  <a:pt x="17763" y="11584"/>
                </a:lnTo>
                <a:lnTo>
                  <a:pt x="16109" y="11584"/>
                </a:lnTo>
                <a:lnTo>
                  <a:pt x="16109" y="18773"/>
                </a:lnTo>
                <a:lnTo>
                  <a:pt x="5491" y="18773"/>
                </a:lnTo>
                <a:lnTo>
                  <a:pt x="5491" y="11584"/>
                </a:lnTo>
                <a:lnTo>
                  <a:pt x="3837" y="11584"/>
                </a:lnTo>
                <a:close/>
              </a:path>
              <a:path fill="darkenLess" w="21600" h="23167">
                <a:moveTo>
                  <a:pt x="13376" y="7232"/>
                </a:moveTo>
                <a:lnTo>
                  <a:pt x="13376" y="5491"/>
                </a:lnTo>
                <a:lnTo>
                  <a:pt x="15152" y="5491"/>
                </a:lnTo>
                <a:lnTo>
                  <a:pt x="15152" y="9007"/>
                </a:lnTo>
                <a:close/>
              </a:path>
              <a:path fill="darkenLess" w="21600" h="23167">
                <a:moveTo>
                  <a:pt x="9877" y="15083"/>
                </a:moveTo>
                <a:lnTo>
                  <a:pt x="11723" y="15083"/>
                </a:lnTo>
                <a:lnTo>
                  <a:pt x="11723" y="18773"/>
                </a:lnTo>
                <a:lnTo>
                  <a:pt x="16109" y="18773"/>
                </a:lnTo>
                <a:lnTo>
                  <a:pt x="16109" y="11584"/>
                </a:lnTo>
                <a:lnTo>
                  <a:pt x="5491" y="11584"/>
                </a:lnTo>
                <a:lnTo>
                  <a:pt x="5491" y="18773"/>
                </a:lnTo>
                <a:lnTo>
                  <a:pt x="9877" y="18773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3017880" cy="29178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1258920" y="5830920"/>
            <a:ext cx="640872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ть-и-мачех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о какое растение говорят : «Скорая помощь» на дороге». (Его название говорит, где оно растет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еревья и травы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дорож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>
            <a:hlinkClick r:id="" action="ppaction://hlinkshowjump?jump=firstslide"/>
          </p:cNvPr>
          <p:cNvSpPr/>
          <p:nvPr/>
        </p:nvSpPr>
        <p:spPr>
          <a:xfrm>
            <a:off x="7956720" y="4797360"/>
            <a:ext cx="1008000" cy="107964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35">
                <a:moveTo>
                  <a:pt x="0" y="0"/>
                </a:moveTo>
                <a:lnTo>
                  <a:pt x="21600" y="0"/>
                </a:lnTo>
                <a:lnTo>
                  <a:pt x="21600" y="23135"/>
                </a:lnTo>
                <a:lnTo>
                  <a:pt x="0" y="23135"/>
                </a:lnTo>
                <a:close/>
              </a:path>
              <a:path fill="lightenLess" w="21600" h="231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5">
                <a:moveTo>
                  <a:pt x="21600" y="0"/>
                </a:moveTo>
                <a:lnTo>
                  <a:pt x="21600" y="23135"/>
                </a:lnTo>
                <a:lnTo>
                  <a:pt x="20200" y="21735"/>
                </a:lnTo>
                <a:lnTo>
                  <a:pt x="20200" y="1400"/>
                </a:lnTo>
                <a:close/>
              </a:path>
              <a:path fill="darkenLess" w="21600" h="23135">
                <a:moveTo>
                  <a:pt x="21600" y="23135"/>
                </a:moveTo>
                <a:lnTo>
                  <a:pt x="0" y="23135"/>
                </a:lnTo>
                <a:lnTo>
                  <a:pt x="1400" y="21735"/>
                </a:lnTo>
                <a:lnTo>
                  <a:pt x="20200" y="21735"/>
                </a:lnTo>
                <a:close/>
              </a:path>
              <a:path fill="lighten" w="21600" h="23135">
                <a:moveTo>
                  <a:pt x="0" y="231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5"/>
                </a:lnTo>
                <a:close/>
              </a:path>
              <a:path fill="darken" w="21600" h="23135">
                <a:moveTo>
                  <a:pt x="10800" y="4604"/>
                </a:moveTo>
                <a:lnTo>
                  <a:pt x="13376" y="7215"/>
                </a:lnTo>
                <a:lnTo>
                  <a:pt x="13376" y="5475"/>
                </a:lnTo>
                <a:lnTo>
                  <a:pt x="15152" y="5475"/>
                </a:lnTo>
                <a:lnTo>
                  <a:pt x="15152" y="8991"/>
                </a:lnTo>
                <a:lnTo>
                  <a:pt x="17763" y="11567"/>
                </a:lnTo>
                <a:lnTo>
                  <a:pt x="16109" y="11567"/>
                </a:lnTo>
                <a:lnTo>
                  <a:pt x="16109" y="18757"/>
                </a:lnTo>
                <a:lnTo>
                  <a:pt x="5491" y="18757"/>
                </a:lnTo>
                <a:lnTo>
                  <a:pt x="5491" y="11567"/>
                </a:lnTo>
                <a:lnTo>
                  <a:pt x="3837" y="11567"/>
                </a:lnTo>
                <a:close/>
              </a:path>
              <a:path fill="darkenLess" w="21600" h="23135">
                <a:moveTo>
                  <a:pt x="13376" y="7215"/>
                </a:moveTo>
                <a:lnTo>
                  <a:pt x="13376" y="5475"/>
                </a:lnTo>
                <a:lnTo>
                  <a:pt x="15152" y="5475"/>
                </a:lnTo>
                <a:lnTo>
                  <a:pt x="15152" y="8991"/>
                </a:lnTo>
                <a:close/>
              </a:path>
              <a:path fill="darkenLess" w="21600" h="23135">
                <a:moveTo>
                  <a:pt x="9877" y="15066"/>
                </a:moveTo>
                <a:lnTo>
                  <a:pt x="11723" y="15066"/>
                </a:lnTo>
                <a:lnTo>
                  <a:pt x="11723" y="18757"/>
                </a:lnTo>
                <a:lnTo>
                  <a:pt x="16109" y="18757"/>
                </a:lnTo>
                <a:lnTo>
                  <a:pt x="16109" y="11567"/>
                </a:lnTo>
                <a:lnTo>
                  <a:pt x="5491" y="11567"/>
                </a:lnTo>
                <a:lnTo>
                  <a:pt x="5491" y="18757"/>
                </a:lnTo>
                <a:lnTo>
                  <a:pt x="9877" y="18757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348000" y="2924280"/>
            <a:ext cx="26892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есной весели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етом холоди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сенью питае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имой согревае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Arial"/>
              </a:rPr>
              <a:t>О чем идет реч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еревья и травы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Лес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>
            <a:hlinkClick r:id="" action="ppaction://hlinkshowjump?jump=firstslide"/>
          </p:cNvPr>
          <p:cNvSpPr/>
          <p:nvPr/>
        </p:nvSpPr>
        <p:spPr>
          <a:xfrm>
            <a:off x="8136000" y="5850000"/>
            <a:ext cx="1008000" cy="100800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311280" cy="24732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916360" y="2997360"/>
            <a:ext cx="3168360" cy="23922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5076720" y="4437000"/>
            <a:ext cx="33116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ть ли листья у сос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еревья и травы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8360" y="3170160"/>
            <a:ext cx="867564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сть. Хвоинки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то видоизменённые листья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1" name="">
            <a:hlinkClick r:id="" action="ppaction://hlinkshowjump?jump=firstslide"/>
          </p:cNvPr>
          <p:cNvSpPr/>
          <p:nvPr/>
        </p:nvSpPr>
        <p:spPr>
          <a:xfrm>
            <a:off x="8028000" y="5661000"/>
            <a:ext cx="936720" cy="1197000"/>
          </a:xfrm>
          <a:custGeom>
            <a:avLst/>
            <a:gdLst>
              <a:gd name="textAreaLeft" fmla="*/ 60480 w 936720"/>
              <a:gd name="textAreaRight" fmla="*/ 876240 w 936720"/>
              <a:gd name="textAreaTop" fmla="*/ 60480 h 1197000"/>
              <a:gd name="textAreaBottom" fmla="*/ 1136520 h 1197000"/>
            </a:gdLst>
            <a:ahLst/>
            <a:rect l="textAreaLeft" t="textAreaTop" r="textAreaRight" b="textAreaBottom"/>
            <a:pathLst>
              <a:path w="21600" h="27600">
                <a:moveTo>
                  <a:pt x="0" y="0"/>
                </a:moveTo>
                <a:lnTo>
                  <a:pt x="21600" y="0"/>
                </a:lnTo>
                <a:lnTo>
                  <a:pt x="21600" y="27600"/>
                </a:lnTo>
                <a:lnTo>
                  <a:pt x="0" y="27600"/>
                </a:lnTo>
                <a:close/>
              </a:path>
              <a:path fill="lightenLess" w="21600" h="27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00">
                <a:moveTo>
                  <a:pt x="21600" y="0"/>
                </a:moveTo>
                <a:lnTo>
                  <a:pt x="21600" y="27600"/>
                </a:lnTo>
                <a:lnTo>
                  <a:pt x="20200" y="26200"/>
                </a:lnTo>
                <a:lnTo>
                  <a:pt x="20200" y="1400"/>
                </a:lnTo>
                <a:close/>
              </a:path>
              <a:path fill="darkenLess" w="21600" h="27600">
                <a:moveTo>
                  <a:pt x="21600" y="27600"/>
                </a:moveTo>
                <a:lnTo>
                  <a:pt x="0" y="27600"/>
                </a:lnTo>
                <a:lnTo>
                  <a:pt x="1400" y="26200"/>
                </a:lnTo>
                <a:lnTo>
                  <a:pt x="20200" y="26200"/>
                </a:lnTo>
                <a:close/>
              </a:path>
              <a:path fill="lighten" w="21600" h="27600">
                <a:moveTo>
                  <a:pt x="0" y="27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00"/>
                </a:lnTo>
                <a:close/>
              </a:path>
              <a:path fill="darken" w="21600" h="27600">
                <a:moveTo>
                  <a:pt x="10800" y="6837"/>
                </a:moveTo>
                <a:lnTo>
                  <a:pt x="13376" y="9448"/>
                </a:lnTo>
                <a:lnTo>
                  <a:pt x="13376" y="7707"/>
                </a:lnTo>
                <a:lnTo>
                  <a:pt x="15152" y="7707"/>
                </a:lnTo>
                <a:lnTo>
                  <a:pt x="15152" y="11223"/>
                </a:lnTo>
                <a:lnTo>
                  <a:pt x="17763" y="13800"/>
                </a:lnTo>
                <a:lnTo>
                  <a:pt x="16109" y="13800"/>
                </a:lnTo>
                <a:lnTo>
                  <a:pt x="16109" y="20989"/>
                </a:lnTo>
                <a:lnTo>
                  <a:pt x="5491" y="20989"/>
                </a:lnTo>
                <a:lnTo>
                  <a:pt x="5491" y="13800"/>
                </a:lnTo>
                <a:lnTo>
                  <a:pt x="3837" y="13800"/>
                </a:lnTo>
                <a:close/>
              </a:path>
              <a:path fill="darkenLess" w="21600" h="27600">
                <a:moveTo>
                  <a:pt x="13376" y="9448"/>
                </a:moveTo>
                <a:lnTo>
                  <a:pt x="13376" y="7707"/>
                </a:lnTo>
                <a:lnTo>
                  <a:pt x="15152" y="7707"/>
                </a:lnTo>
                <a:lnTo>
                  <a:pt x="15152" y="11223"/>
                </a:lnTo>
                <a:close/>
              </a:path>
              <a:path fill="darkenLess" w="21600" h="27600">
                <a:moveTo>
                  <a:pt x="9877" y="17299"/>
                </a:moveTo>
                <a:lnTo>
                  <a:pt x="11723" y="17299"/>
                </a:lnTo>
                <a:lnTo>
                  <a:pt x="11723" y="20989"/>
                </a:lnTo>
                <a:lnTo>
                  <a:pt x="16109" y="20989"/>
                </a:lnTo>
                <a:lnTo>
                  <a:pt x="16109" y="13800"/>
                </a:lnTo>
                <a:lnTo>
                  <a:pt x="5491" y="13800"/>
                </a:lnTo>
                <a:lnTo>
                  <a:pt x="5491" y="20989"/>
                </a:lnTo>
                <a:lnTo>
                  <a:pt x="9877" y="20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 каком дереве растёт ананас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еревья и травы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нанасы не растут на деревьях. Ананасы выращивают на земл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firstslide"/>
          </p:cNvPr>
          <p:cNvSpPr/>
          <p:nvPr/>
        </p:nvSpPr>
        <p:spPr>
          <a:xfrm>
            <a:off x="7812000" y="5661000"/>
            <a:ext cx="1081080" cy="119700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97000"/>
              <a:gd name="textAreaBottom" fmla="*/ 1127160 h 1197000"/>
            </a:gdLst>
            <a:ahLst/>
            <a:rect l="textAreaLeft" t="textAreaTop" r="textAreaRight" b="textAreaBottom"/>
            <a:pathLst>
              <a:path w="21600" h="23915">
                <a:moveTo>
                  <a:pt x="0" y="0"/>
                </a:moveTo>
                <a:lnTo>
                  <a:pt x="21600" y="0"/>
                </a:lnTo>
                <a:lnTo>
                  <a:pt x="21600" y="23915"/>
                </a:lnTo>
                <a:lnTo>
                  <a:pt x="0" y="23915"/>
                </a:lnTo>
                <a:close/>
              </a:path>
              <a:path fill="lightenLess" w="21600" h="239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5">
                <a:moveTo>
                  <a:pt x="21600" y="0"/>
                </a:moveTo>
                <a:lnTo>
                  <a:pt x="21600" y="23915"/>
                </a:lnTo>
                <a:lnTo>
                  <a:pt x="20200" y="22515"/>
                </a:lnTo>
                <a:lnTo>
                  <a:pt x="20200" y="1400"/>
                </a:lnTo>
                <a:close/>
              </a:path>
              <a:path fill="darkenLess" w="21600" h="23915">
                <a:moveTo>
                  <a:pt x="21600" y="23915"/>
                </a:moveTo>
                <a:lnTo>
                  <a:pt x="0" y="23915"/>
                </a:lnTo>
                <a:lnTo>
                  <a:pt x="1400" y="22515"/>
                </a:lnTo>
                <a:lnTo>
                  <a:pt x="20200" y="22515"/>
                </a:lnTo>
                <a:close/>
              </a:path>
              <a:path fill="lighten" w="21600" h="23915">
                <a:moveTo>
                  <a:pt x="0" y="239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5"/>
                </a:lnTo>
                <a:close/>
              </a:path>
              <a:path fill="darken" w="21600" h="23915">
                <a:moveTo>
                  <a:pt x="10800" y="4995"/>
                </a:moveTo>
                <a:lnTo>
                  <a:pt x="13376" y="7606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8"/>
                </a:lnTo>
                <a:lnTo>
                  <a:pt x="16109" y="11958"/>
                </a:lnTo>
                <a:lnTo>
                  <a:pt x="16109" y="19147"/>
                </a:lnTo>
                <a:lnTo>
                  <a:pt x="5491" y="19147"/>
                </a:lnTo>
                <a:lnTo>
                  <a:pt x="5491" y="11958"/>
                </a:lnTo>
                <a:lnTo>
                  <a:pt x="3837" y="11958"/>
                </a:lnTo>
                <a:close/>
              </a:path>
              <a:path fill="darkenLess" w="21600" h="23915">
                <a:moveTo>
                  <a:pt x="13376" y="7606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5">
                <a:moveTo>
                  <a:pt x="9877" y="15457"/>
                </a:moveTo>
                <a:lnTo>
                  <a:pt x="11723" y="15457"/>
                </a:lnTo>
                <a:lnTo>
                  <a:pt x="11723" y="19147"/>
                </a:lnTo>
                <a:lnTo>
                  <a:pt x="16109" y="19147"/>
                </a:lnTo>
                <a:lnTo>
                  <a:pt x="16109" y="11958"/>
                </a:lnTo>
                <a:lnTo>
                  <a:pt x="5491" y="11958"/>
                </a:lnTo>
                <a:lnTo>
                  <a:pt x="5491" y="19147"/>
                </a:lnTo>
                <a:lnTo>
                  <a:pt x="9877" y="19147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356000" y="3762360"/>
            <a:ext cx="3384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рава от 99 болезн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еревья и травы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>
            <a:hlinkClick r:id="" action="ppaction://hlinkshowjump?jump=firstslide"/>
          </p:cNvPr>
          <p:cNvSpPr/>
          <p:nvPr/>
        </p:nvSpPr>
        <p:spPr>
          <a:xfrm>
            <a:off x="7885080" y="5589720"/>
            <a:ext cx="1079640" cy="1008000"/>
          </a:xfrm>
          <a:custGeom>
            <a:avLst/>
            <a:gdLst>
              <a:gd name="textAreaLeft" fmla="*/ 65160 w 1079640"/>
              <a:gd name="textAreaRight" fmla="*/ 1014480 w 107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3135" h="21600">
                <a:moveTo>
                  <a:pt x="0" y="0"/>
                </a:moveTo>
                <a:lnTo>
                  <a:pt x="23135" y="0"/>
                </a:lnTo>
                <a:lnTo>
                  <a:pt x="23135" y="21600"/>
                </a:lnTo>
                <a:lnTo>
                  <a:pt x="0" y="21600"/>
                </a:lnTo>
                <a:close/>
              </a:path>
              <a:path fill="lightenLess" w="23135" h="21600">
                <a:moveTo>
                  <a:pt x="0" y="0"/>
                </a:moveTo>
                <a:lnTo>
                  <a:pt x="23135" y="0"/>
                </a:lnTo>
                <a:lnTo>
                  <a:pt x="21735" y="1400"/>
                </a:lnTo>
                <a:lnTo>
                  <a:pt x="1400" y="1400"/>
                </a:lnTo>
                <a:close/>
              </a:path>
              <a:path fill="darken" w="23135" h="21600">
                <a:moveTo>
                  <a:pt x="23135" y="0"/>
                </a:moveTo>
                <a:lnTo>
                  <a:pt x="23135" y="21600"/>
                </a:lnTo>
                <a:lnTo>
                  <a:pt x="21735" y="20200"/>
                </a:lnTo>
                <a:lnTo>
                  <a:pt x="21735" y="1400"/>
                </a:lnTo>
                <a:close/>
              </a:path>
              <a:path fill="darkenLess" w="23135" h="21600">
                <a:moveTo>
                  <a:pt x="23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5" y="20200"/>
                </a:lnTo>
                <a:close/>
              </a:path>
              <a:path fill="lighten" w="23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35" h="21600">
                <a:moveTo>
                  <a:pt x="11567" y="3837"/>
                </a:moveTo>
                <a:lnTo>
                  <a:pt x="14144" y="6448"/>
                </a:lnTo>
                <a:lnTo>
                  <a:pt x="14144" y="4707"/>
                </a:lnTo>
                <a:lnTo>
                  <a:pt x="15919" y="4707"/>
                </a:lnTo>
                <a:lnTo>
                  <a:pt x="15919" y="8224"/>
                </a:lnTo>
                <a:lnTo>
                  <a:pt x="18530" y="10800"/>
                </a:lnTo>
                <a:lnTo>
                  <a:pt x="16877" y="10800"/>
                </a:lnTo>
                <a:lnTo>
                  <a:pt x="16877" y="17989"/>
                </a:lnTo>
                <a:lnTo>
                  <a:pt x="6258" y="17989"/>
                </a:lnTo>
                <a:lnTo>
                  <a:pt x="6258" y="10800"/>
                </a:lnTo>
                <a:lnTo>
                  <a:pt x="4604" y="10800"/>
                </a:lnTo>
                <a:close/>
              </a:path>
              <a:path fill="darkenLess" w="23135" h="21600">
                <a:moveTo>
                  <a:pt x="14144" y="6448"/>
                </a:moveTo>
                <a:lnTo>
                  <a:pt x="14144" y="4707"/>
                </a:lnTo>
                <a:lnTo>
                  <a:pt x="15919" y="4707"/>
                </a:lnTo>
                <a:lnTo>
                  <a:pt x="15919" y="8224"/>
                </a:lnTo>
                <a:close/>
              </a:path>
              <a:path fill="darkenLess" w="23135" h="21600">
                <a:moveTo>
                  <a:pt x="10645" y="14299"/>
                </a:moveTo>
                <a:lnTo>
                  <a:pt x="12490" y="14299"/>
                </a:lnTo>
                <a:lnTo>
                  <a:pt x="12490" y="17989"/>
                </a:lnTo>
                <a:lnTo>
                  <a:pt x="16877" y="17989"/>
                </a:lnTo>
                <a:lnTo>
                  <a:pt x="16877" y="10800"/>
                </a:lnTo>
                <a:lnTo>
                  <a:pt x="6258" y="10800"/>
                </a:lnTo>
                <a:lnTo>
                  <a:pt x="6258" y="17989"/>
                </a:lnTo>
                <a:lnTo>
                  <a:pt x="10645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2268360" y="2268360"/>
            <a:ext cx="3662640" cy="45896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1187280" y="5375160"/>
            <a:ext cx="547380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вероб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да, вода, кругом вода…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меет ли вода летать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Забавные пушистые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 удобнее бежать зайцу – в гору или с горы? Почему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В гору. У зайца передние лапы короче задних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>
            <a:hlinkClick r:id="" action="ppaction://hlinkshowjump?jump=firstslide"/>
          </p:cNvPr>
          <p:cNvSpPr/>
          <p:nvPr/>
        </p:nvSpPr>
        <p:spPr>
          <a:xfrm>
            <a:off x="7236000" y="5229360"/>
            <a:ext cx="1512720" cy="1008000"/>
          </a:xfrm>
          <a:custGeom>
            <a:avLst/>
            <a:gdLst>
              <a:gd name="textAreaLeft" fmla="*/ 65160 w 1512720"/>
              <a:gd name="textAreaRight" fmla="*/ 1447560 w 15127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2412" h="21600">
                <a:moveTo>
                  <a:pt x="0" y="0"/>
                </a:moveTo>
                <a:lnTo>
                  <a:pt x="32412" y="0"/>
                </a:lnTo>
                <a:lnTo>
                  <a:pt x="32412" y="21600"/>
                </a:lnTo>
                <a:lnTo>
                  <a:pt x="0" y="21600"/>
                </a:lnTo>
                <a:close/>
              </a:path>
              <a:path fill="lightenLess" w="32412" h="21600">
                <a:moveTo>
                  <a:pt x="0" y="0"/>
                </a:moveTo>
                <a:lnTo>
                  <a:pt x="32412" y="0"/>
                </a:lnTo>
                <a:lnTo>
                  <a:pt x="31012" y="1400"/>
                </a:lnTo>
                <a:lnTo>
                  <a:pt x="1400" y="1400"/>
                </a:lnTo>
                <a:close/>
              </a:path>
              <a:path fill="darken" w="32412" h="21600">
                <a:moveTo>
                  <a:pt x="32412" y="0"/>
                </a:moveTo>
                <a:lnTo>
                  <a:pt x="32412" y="21600"/>
                </a:lnTo>
                <a:lnTo>
                  <a:pt x="31012" y="20200"/>
                </a:lnTo>
                <a:lnTo>
                  <a:pt x="31012" y="1400"/>
                </a:lnTo>
                <a:close/>
              </a:path>
              <a:path fill="darkenLess" w="32412" h="21600">
                <a:moveTo>
                  <a:pt x="32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2" y="20200"/>
                </a:lnTo>
                <a:close/>
              </a:path>
              <a:path fill="lighten" w="32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2" h="21600">
                <a:moveTo>
                  <a:pt x="16206" y="3837"/>
                </a:moveTo>
                <a:lnTo>
                  <a:pt x="18782" y="6448"/>
                </a:lnTo>
                <a:lnTo>
                  <a:pt x="18782" y="4707"/>
                </a:lnTo>
                <a:lnTo>
                  <a:pt x="20558" y="4707"/>
                </a:lnTo>
                <a:lnTo>
                  <a:pt x="20558" y="8224"/>
                </a:lnTo>
                <a:lnTo>
                  <a:pt x="23169" y="10800"/>
                </a:lnTo>
                <a:lnTo>
                  <a:pt x="21515" y="10800"/>
                </a:lnTo>
                <a:lnTo>
                  <a:pt x="21515" y="17989"/>
                </a:lnTo>
                <a:lnTo>
                  <a:pt x="10897" y="17989"/>
                </a:lnTo>
                <a:lnTo>
                  <a:pt x="10897" y="10800"/>
                </a:lnTo>
                <a:lnTo>
                  <a:pt x="9243" y="10800"/>
                </a:lnTo>
                <a:close/>
              </a:path>
              <a:path fill="darkenLess" w="32412" h="21600">
                <a:moveTo>
                  <a:pt x="18782" y="6448"/>
                </a:moveTo>
                <a:lnTo>
                  <a:pt x="18782" y="4707"/>
                </a:lnTo>
                <a:lnTo>
                  <a:pt x="20558" y="4707"/>
                </a:lnTo>
                <a:lnTo>
                  <a:pt x="20558" y="8224"/>
                </a:lnTo>
                <a:close/>
              </a:path>
              <a:path fill="darkenLess" w="32412" h="21600">
                <a:moveTo>
                  <a:pt x="15283" y="14299"/>
                </a:moveTo>
                <a:lnTo>
                  <a:pt x="17128" y="14299"/>
                </a:lnTo>
                <a:lnTo>
                  <a:pt x="17128" y="17989"/>
                </a:lnTo>
                <a:lnTo>
                  <a:pt x="21515" y="17989"/>
                </a:lnTo>
                <a:lnTo>
                  <a:pt x="21515" y="10800"/>
                </a:lnTo>
                <a:lnTo>
                  <a:pt x="10897" y="10800"/>
                </a:lnTo>
                <a:lnTo>
                  <a:pt x="10897" y="17989"/>
                </a:lnTo>
                <a:lnTo>
                  <a:pt x="15283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348000" y="3987720"/>
            <a:ext cx="380988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то полгода живёт без ед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Забавные пушистые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едведь и другие животные, которые зимой впадают в спячку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>
            <a:hlinkClick r:id="" action="ppaction://hlinkshowjump?jump=firstslide"/>
          </p:cNvPr>
          <p:cNvSpPr/>
          <p:nvPr/>
        </p:nvSpPr>
        <p:spPr>
          <a:xfrm>
            <a:off x="7451640" y="4941720"/>
            <a:ext cx="1224000" cy="115128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1280"/>
              <a:gd name="textAreaBottom" fmla="*/ 1076760 h 1151280"/>
            </a:gdLst>
            <a:ahLst/>
            <a:rect l="textAreaLeft" t="textAreaTop" r="textAreaRight" b="textAreaBottom"/>
            <a:pathLst>
              <a:path w="22964" h="21600">
                <a:moveTo>
                  <a:pt x="0" y="0"/>
                </a:moveTo>
                <a:lnTo>
                  <a:pt x="22964" y="0"/>
                </a:lnTo>
                <a:lnTo>
                  <a:pt x="22964" y="21600"/>
                </a:lnTo>
                <a:lnTo>
                  <a:pt x="0" y="21600"/>
                </a:lnTo>
                <a:close/>
              </a:path>
              <a:path fill="lightenLess" w="22964" h="21600">
                <a:moveTo>
                  <a:pt x="0" y="0"/>
                </a:moveTo>
                <a:lnTo>
                  <a:pt x="22964" y="0"/>
                </a:lnTo>
                <a:lnTo>
                  <a:pt x="21564" y="1400"/>
                </a:lnTo>
                <a:lnTo>
                  <a:pt x="1400" y="1400"/>
                </a:lnTo>
                <a:close/>
              </a:path>
              <a:path fill="darken" w="22964" h="21600">
                <a:moveTo>
                  <a:pt x="22964" y="0"/>
                </a:moveTo>
                <a:lnTo>
                  <a:pt x="22964" y="21600"/>
                </a:lnTo>
                <a:lnTo>
                  <a:pt x="21564" y="20200"/>
                </a:lnTo>
                <a:lnTo>
                  <a:pt x="21564" y="1400"/>
                </a:lnTo>
                <a:close/>
              </a:path>
              <a:path fill="darkenLess" w="22964" h="21600">
                <a:moveTo>
                  <a:pt x="2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64" y="20200"/>
                </a:lnTo>
                <a:close/>
              </a:path>
              <a:path fill="lighten" w="2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64" h="21600">
                <a:moveTo>
                  <a:pt x="11482" y="3837"/>
                </a:moveTo>
                <a:lnTo>
                  <a:pt x="14058" y="6448"/>
                </a:lnTo>
                <a:lnTo>
                  <a:pt x="14058" y="4707"/>
                </a:lnTo>
                <a:lnTo>
                  <a:pt x="15834" y="4707"/>
                </a:lnTo>
                <a:lnTo>
                  <a:pt x="15834" y="8224"/>
                </a:lnTo>
                <a:lnTo>
                  <a:pt x="18445" y="10800"/>
                </a:lnTo>
                <a:lnTo>
                  <a:pt x="16791" y="10800"/>
                </a:lnTo>
                <a:lnTo>
                  <a:pt x="16791" y="17989"/>
                </a:lnTo>
                <a:lnTo>
                  <a:pt x="6173" y="17989"/>
                </a:lnTo>
                <a:lnTo>
                  <a:pt x="6173" y="10800"/>
                </a:lnTo>
                <a:lnTo>
                  <a:pt x="4519" y="10800"/>
                </a:lnTo>
                <a:close/>
              </a:path>
              <a:path fill="darkenLess" w="22964" h="21600">
                <a:moveTo>
                  <a:pt x="14058" y="6448"/>
                </a:moveTo>
                <a:lnTo>
                  <a:pt x="14058" y="4707"/>
                </a:lnTo>
                <a:lnTo>
                  <a:pt x="15834" y="4707"/>
                </a:lnTo>
                <a:lnTo>
                  <a:pt x="15834" y="8224"/>
                </a:lnTo>
                <a:close/>
              </a:path>
              <a:path fill="darkenLess" w="22964" h="21600">
                <a:moveTo>
                  <a:pt x="10559" y="14299"/>
                </a:moveTo>
                <a:lnTo>
                  <a:pt x="12405" y="14299"/>
                </a:lnTo>
                <a:lnTo>
                  <a:pt x="12405" y="17989"/>
                </a:lnTo>
                <a:lnTo>
                  <a:pt x="16791" y="17989"/>
                </a:lnTo>
                <a:lnTo>
                  <a:pt x="16791" y="10800"/>
                </a:lnTo>
                <a:lnTo>
                  <a:pt x="6173" y="10800"/>
                </a:lnTo>
                <a:lnTo>
                  <a:pt x="6173" y="17989"/>
                </a:lnTo>
                <a:lnTo>
                  <a:pt x="10559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492360" y="3068640"/>
            <a:ext cx="3595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а какие заслуги волка прозвали «санитаром леса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Забавные пушистые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411280" y="2997360"/>
            <a:ext cx="4202280" cy="3671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411280" y="2997360"/>
            <a:ext cx="129564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 первую очередь, волк охотится на ослабленных, больных животных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>
            <a:hlinkClick r:id="" action="ppaction://hlinkshowjump?jump=firstslide"/>
          </p:cNvPr>
          <p:cNvSpPr/>
          <p:nvPr/>
        </p:nvSpPr>
        <p:spPr>
          <a:xfrm>
            <a:off x="7308720" y="5229360"/>
            <a:ext cx="1295640" cy="936360"/>
          </a:xfrm>
          <a:custGeom>
            <a:avLst/>
            <a:gdLst>
              <a:gd name="textAreaLeft" fmla="*/ 60480 w 1295640"/>
              <a:gd name="textAreaRight" fmla="*/ 1235160 w 129564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9885" h="21600">
                <a:moveTo>
                  <a:pt x="0" y="0"/>
                </a:moveTo>
                <a:lnTo>
                  <a:pt x="29885" y="0"/>
                </a:lnTo>
                <a:lnTo>
                  <a:pt x="29885" y="21600"/>
                </a:lnTo>
                <a:lnTo>
                  <a:pt x="0" y="21600"/>
                </a:lnTo>
                <a:close/>
              </a:path>
              <a:path fill="lightenLess" w="29885" h="21600">
                <a:moveTo>
                  <a:pt x="0" y="0"/>
                </a:moveTo>
                <a:lnTo>
                  <a:pt x="29885" y="0"/>
                </a:lnTo>
                <a:lnTo>
                  <a:pt x="28485" y="1400"/>
                </a:lnTo>
                <a:lnTo>
                  <a:pt x="1400" y="1400"/>
                </a:lnTo>
                <a:close/>
              </a:path>
              <a:path fill="darken" w="29885" h="21600">
                <a:moveTo>
                  <a:pt x="29885" y="0"/>
                </a:moveTo>
                <a:lnTo>
                  <a:pt x="29885" y="21600"/>
                </a:lnTo>
                <a:lnTo>
                  <a:pt x="28485" y="20200"/>
                </a:lnTo>
                <a:lnTo>
                  <a:pt x="28485" y="1400"/>
                </a:lnTo>
                <a:close/>
              </a:path>
              <a:path fill="darkenLess" w="29885" h="21600">
                <a:moveTo>
                  <a:pt x="29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85" y="20200"/>
                </a:lnTo>
                <a:close/>
              </a:path>
              <a:path fill="lighten" w="29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885" h="21600">
                <a:moveTo>
                  <a:pt x="14942" y="3837"/>
                </a:moveTo>
                <a:lnTo>
                  <a:pt x="17519" y="6448"/>
                </a:lnTo>
                <a:lnTo>
                  <a:pt x="17519" y="4707"/>
                </a:lnTo>
                <a:lnTo>
                  <a:pt x="19294" y="4707"/>
                </a:lnTo>
                <a:lnTo>
                  <a:pt x="19294" y="8224"/>
                </a:lnTo>
                <a:lnTo>
                  <a:pt x="21905" y="10800"/>
                </a:lnTo>
                <a:lnTo>
                  <a:pt x="20252" y="10800"/>
                </a:lnTo>
                <a:lnTo>
                  <a:pt x="20252" y="17989"/>
                </a:lnTo>
                <a:lnTo>
                  <a:pt x="9633" y="17989"/>
                </a:lnTo>
                <a:lnTo>
                  <a:pt x="9633" y="10800"/>
                </a:lnTo>
                <a:lnTo>
                  <a:pt x="7979" y="10800"/>
                </a:lnTo>
                <a:close/>
              </a:path>
              <a:path fill="darkenLess" w="29885" h="21600">
                <a:moveTo>
                  <a:pt x="17519" y="6448"/>
                </a:moveTo>
                <a:lnTo>
                  <a:pt x="17519" y="4707"/>
                </a:lnTo>
                <a:lnTo>
                  <a:pt x="19294" y="4707"/>
                </a:lnTo>
                <a:lnTo>
                  <a:pt x="19294" y="8224"/>
                </a:lnTo>
                <a:close/>
              </a:path>
              <a:path fill="darkenLess" w="29885" h="21600">
                <a:moveTo>
                  <a:pt x="14020" y="14299"/>
                </a:moveTo>
                <a:lnTo>
                  <a:pt x="15865" y="14299"/>
                </a:lnTo>
                <a:lnTo>
                  <a:pt x="15865" y="17989"/>
                </a:lnTo>
                <a:lnTo>
                  <a:pt x="20252" y="17989"/>
                </a:lnTo>
                <a:lnTo>
                  <a:pt x="20252" y="10800"/>
                </a:lnTo>
                <a:lnTo>
                  <a:pt x="9633" y="10800"/>
                </a:lnTo>
                <a:lnTo>
                  <a:pt x="9633" y="17989"/>
                </a:lnTo>
                <a:lnTo>
                  <a:pt x="14020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вое животное – космонав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бавные пушистые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780000" y="4292640"/>
            <a:ext cx="2941560" cy="25653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обака Лайка. Она пробыла на околоземной орбите на борту космического аппарата «Спутник-2» в течение двух недел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7596360" y="5734080"/>
            <a:ext cx="1079280" cy="934920"/>
          </a:xfrm>
          <a:custGeom>
            <a:avLst/>
            <a:gdLst>
              <a:gd name="textAreaLeft" fmla="*/ 60480 w 1079280"/>
              <a:gd name="textAreaRight" fmla="*/ 1018800 w 107928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4934" h="21600">
                <a:moveTo>
                  <a:pt x="0" y="0"/>
                </a:moveTo>
                <a:lnTo>
                  <a:pt x="24934" y="0"/>
                </a:lnTo>
                <a:lnTo>
                  <a:pt x="24934" y="21600"/>
                </a:lnTo>
                <a:lnTo>
                  <a:pt x="0" y="21600"/>
                </a:lnTo>
                <a:close/>
              </a:path>
              <a:path fill="lightenLess" w="24934" h="21600">
                <a:moveTo>
                  <a:pt x="0" y="0"/>
                </a:moveTo>
                <a:lnTo>
                  <a:pt x="24934" y="0"/>
                </a:lnTo>
                <a:lnTo>
                  <a:pt x="23534" y="1400"/>
                </a:lnTo>
                <a:lnTo>
                  <a:pt x="1400" y="1400"/>
                </a:lnTo>
                <a:close/>
              </a:path>
              <a:path fill="darken" w="24934" h="21600">
                <a:moveTo>
                  <a:pt x="24934" y="0"/>
                </a:moveTo>
                <a:lnTo>
                  <a:pt x="24934" y="21600"/>
                </a:lnTo>
                <a:lnTo>
                  <a:pt x="23534" y="20200"/>
                </a:lnTo>
                <a:lnTo>
                  <a:pt x="23534" y="1400"/>
                </a:lnTo>
                <a:close/>
              </a:path>
              <a:path fill="darkenLess" w="24934" h="21600">
                <a:moveTo>
                  <a:pt x="249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34" y="20200"/>
                </a:lnTo>
                <a:close/>
              </a:path>
              <a:path fill="lighten" w="249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34" h="21600">
                <a:moveTo>
                  <a:pt x="12467" y="3837"/>
                </a:moveTo>
                <a:lnTo>
                  <a:pt x="15043" y="6448"/>
                </a:lnTo>
                <a:lnTo>
                  <a:pt x="15043" y="4707"/>
                </a:lnTo>
                <a:lnTo>
                  <a:pt x="16819" y="4707"/>
                </a:lnTo>
                <a:lnTo>
                  <a:pt x="16819" y="8224"/>
                </a:lnTo>
                <a:lnTo>
                  <a:pt x="19430" y="10800"/>
                </a:lnTo>
                <a:lnTo>
                  <a:pt x="17776" y="10800"/>
                </a:lnTo>
                <a:lnTo>
                  <a:pt x="17776" y="17989"/>
                </a:lnTo>
                <a:lnTo>
                  <a:pt x="7158" y="17989"/>
                </a:lnTo>
                <a:lnTo>
                  <a:pt x="7158" y="10800"/>
                </a:lnTo>
                <a:lnTo>
                  <a:pt x="5504" y="10800"/>
                </a:lnTo>
                <a:close/>
              </a:path>
              <a:path fill="darkenLess" w="24934" h="21600">
                <a:moveTo>
                  <a:pt x="15043" y="6448"/>
                </a:moveTo>
                <a:lnTo>
                  <a:pt x="15043" y="4707"/>
                </a:lnTo>
                <a:lnTo>
                  <a:pt x="16819" y="4707"/>
                </a:lnTo>
                <a:lnTo>
                  <a:pt x="16819" y="8224"/>
                </a:lnTo>
                <a:close/>
              </a:path>
              <a:path fill="darkenLess" w="24934" h="21600">
                <a:moveTo>
                  <a:pt x="11544" y="14299"/>
                </a:moveTo>
                <a:lnTo>
                  <a:pt x="13390" y="14299"/>
                </a:lnTo>
                <a:lnTo>
                  <a:pt x="13390" y="17989"/>
                </a:lnTo>
                <a:lnTo>
                  <a:pt x="17776" y="17989"/>
                </a:lnTo>
                <a:lnTo>
                  <a:pt x="17776" y="10800"/>
                </a:lnTo>
                <a:lnTo>
                  <a:pt x="7158" y="10800"/>
                </a:lnTo>
                <a:lnTo>
                  <a:pt x="7158" y="17989"/>
                </a:lnTo>
                <a:lnTo>
                  <a:pt x="11544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80000" y="4292640"/>
            <a:ext cx="93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то из зверей самый быстрый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кенгур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ле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гепар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панте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Забавные пушистые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Гепард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н может развивать скорость более 100 км в час, но только не более 30 секунд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>
            <a:hlinkClick r:id="" action="ppaction://hlinkshowjump?jump=firstslide"/>
          </p:cNvPr>
          <p:cNvSpPr/>
          <p:nvPr/>
        </p:nvSpPr>
        <p:spPr>
          <a:xfrm>
            <a:off x="7956720" y="6093000"/>
            <a:ext cx="1008000" cy="765000"/>
          </a:xfrm>
          <a:custGeom>
            <a:avLst/>
            <a:gdLst>
              <a:gd name="textAreaLeft" fmla="*/ 49320 w 1008000"/>
              <a:gd name="textAreaRight" fmla="*/ 958680 w 1008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8458" h="21600">
                <a:moveTo>
                  <a:pt x="0" y="0"/>
                </a:moveTo>
                <a:lnTo>
                  <a:pt x="28458" y="0"/>
                </a:lnTo>
                <a:lnTo>
                  <a:pt x="28458" y="21600"/>
                </a:lnTo>
                <a:lnTo>
                  <a:pt x="0" y="21600"/>
                </a:lnTo>
                <a:close/>
              </a:path>
              <a:path fill="lightenLess" w="28458" h="21600">
                <a:moveTo>
                  <a:pt x="0" y="0"/>
                </a:moveTo>
                <a:lnTo>
                  <a:pt x="28458" y="0"/>
                </a:lnTo>
                <a:lnTo>
                  <a:pt x="27058" y="1400"/>
                </a:lnTo>
                <a:lnTo>
                  <a:pt x="1400" y="1400"/>
                </a:lnTo>
                <a:close/>
              </a:path>
              <a:path fill="darken" w="28458" h="21600">
                <a:moveTo>
                  <a:pt x="28458" y="0"/>
                </a:moveTo>
                <a:lnTo>
                  <a:pt x="28458" y="21600"/>
                </a:lnTo>
                <a:lnTo>
                  <a:pt x="27058" y="20200"/>
                </a:lnTo>
                <a:lnTo>
                  <a:pt x="27058" y="1400"/>
                </a:lnTo>
                <a:close/>
              </a:path>
              <a:path fill="darkenLess" w="28458" h="21600">
                <a:moveTo>
                  <a:pt x="2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58" y="20200"/>
                </a:lnTo>
                <a:close/>
              </a:path>
              <a:path fill="lighten" w="2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58" h="21600">
                <a:moveTo>
                  <a:pt x="14229" y="3837"/>
                </a:moveTo>
                <a:lnTo>
                  <a:pt x="16805" y="6448"/>
                </a:lnTo>
                <a:lnTo>
                  <a:pt x="16805" y="4707"/>
                </a:lnTo>
                <a:lnTo>
                  <a:pt x="18581" y="4707"/>
                </a:lnTo>
                <a:lnTo>
                  <a:pt x="18581" y="8224"/>
                </a:lnTo>
                <a:lnTo>
                  <a:pt x="21192" y="10800"/>
                </a:lnTo>
                <a:lnTo>
                  <a:pt x="19538" y="10800"/>
                </a:lnTo>
                <a:lnTo>
                  <a:pt x="19538" y="17989"/>
                </a:lnTo>
                <a:lnTo>
                  <a:pt x="8920" y="17989"/>
                </a:lnTo>
                <a:lnTo>
                  <a:pt x="8920" y="10800"/>
                </a:lnTo>
                <a:lnTo>
                  <a:pt x="7266" y="10800"/>
                </a:lnTo>
                <a:close/>
              </a:path>
              <a:path fill="darkenLess" w="28458" h="21600">
                <a:moveTo>
                  <a:pt x="16805" y="6448"/>
                </a:moveTo>
                <a:lnTo>
                  <a:pt x="16805" y="4707"/>
                </a:lnTo>
                <a:lnTo>
                  <a:pt x="18581" y="4707"/>
                </a:lnTo>
                <a:lnTo>
                  <a:pt x="18581" y="8224"/>
                </a:lnTo>
                <a:close/>
              </a:path>
              <a:path fill="darkenLess" w="28458" h="21600">
                <a:moveTo>
                  <a:pt x="13306" y="14299"/>
                </a:moveTo>
                <a:lnTo>
                  <a:pt x="15152" y="14299"/>
                </a:lnTo>
                <a:lnTo>
                  <a:pt x="15152" y="17989"/>
                </a:lnTo>
                <a:lnTo>
                  <a:pt x="19538" y="17989"/>
                </a:lnTo>
                <a:lnTo>
                  <a:pt x="19538" y="10800"/>
                </a:lnTo>
                <a:lnTo>
                  <a:pt x="8920" y="10800"/>
                </a:lnTo>
                <a:lnTo>
                  <a:pt x="8920" y="17989"/>
                </a:lnTo>
                <a:lnTo>
                  <a:pt x="13306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348000" y="4581360"/>
            <a:ext cx="36352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а, когда превращается в па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067280" y="2205000"/>
            <a:ext cx="4392360" cy="2449440"/>
          </a:xfrm>
          <a:prstGeom prst="cloudCallout">
            <a:avLst>
              <a:gd name="adj1" fmla="val -90333"/>
              <a:gd name="adj2" fmla="val 6464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firstslide"/>
          </p:cNvPr>
          <p:cNvSpPr/>
          <p:nvPr/>
        </p:nvSpPr>
        <p:spPr>
          <a:xfrm>
            <a:off x="7956720" y="5734080"/>
            <a:ext cx="936360" cy="792000"/>
          </a:xfrm>
          <a:custGeom>
            <a:avLst/>
            <a:gdLst>
              <a:gd name="textAreaLeft" fmla="*/ 51120 w 936360"/>
              <a:gd name="textAreaRight" fmla="*/ 885240 w 93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35" h="21600">
                <a:moveTo>
                  <a:pt x="0" y="0"/>
                </a:moveTo>
                <a:lnTo>
                  <a:pt x="25535" y="0"/>
                </a:lnTo>
                <a:lnTo>
                  <a:pt x="25535" y="21600"/>
                </a:lnTo>
                <a:lnTo>
                  <a:pt x="0" y="21600"/>
                </a:lnTo>
                <a:close/>
              </a:path>
              <a:path fill="lightenLess" w="25535" h="21600">
                <a:moveTo>
                  <a:pt x="0" y="0"/>
                </a:moveTo>
                <a:lnTo>
                  <a:pt x="25535" y="0"/>
                </a:lnTo>
                <a:lnTo>
                  <a:pt x="24135" y="1400"/>
                </a:lnTo>
                <a:lnTo>
                  <a:pt x="1400" y="1400"/>
                </a:lnTo>
                <a:close/>
              </a:path>
              <a:path fill="darken" w="25535" h="21600">
                <a:moveTo>
                  <a:pt x="25535" y="0"/>
                </a:moveTo>
                <a:lnTo>
                  <a:pt x="25535" y="21600"/>
                </a:lnTo>
                <a:lnTo>
                  <a:pt x="24135" y="20200"/>
                </a:lnTo>
                <a:lnTo>
                  <a:pt x="24135" y="1400"/>
                </a:lnTo>
                <a:close/>
              </a:path>
              <a:path fill="darkenLess" w="25535" h="21600">
                <a:moveTo>
                  <a:pt x="25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5" y="20200"/>
                </a:lnTo>
                <a:close/>
              </a:path>
              <a:path fill="lighten" w="25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5" h="21600">
                <a:moveTo>
                  <a:pt x="12768" y="3837"/>
                </a:moveTo>
                <a:lnTo>
                  <a:pt x="15344" y="6448"/>
                </a:lnTo>
                <a:lnTo>
                  <a:pt x="15344" y="4707"/>
                </a:lnTo>
                <a:lnTo>
                  <a:pt x="17120" y="4707"/>
                </a:lnTo>
                <a:lnTo>
                  <a:pt x="17120" y="8224"/>
                </a:lnTo>
                <a:lnTo>
                  <a:pt x="19731" y="10800"/>
                </a:lnTo>
                <a:lnTo>
                  <a:pt x="18077" y="10800"/>
                </a:lnTo>
                <a:lnTo>
                  <a:pt x="18077" y="17989"/>
                </a:lnTo>
                <a:lnTo>
                  <a:pt x="7458" y="17989"/>
                </a:lnTo>
                <a:lnTo>
                  <a:pt x="7458" y="10800"/>
                </a:lnTo>
                <a:lnTo>
                  <a:pt x="5805" y="10800"/>
                </a:lnTo>
                <a:close/>
              </a:path>
              <a:path fill="darkenLess" w="25535" h="21600">
                <a:moveTo>
                  <a:pt x="15344" y="6448"/>
                </a:moveTo>
                <a:lnTo>
                  <a:pt x="15344" y="4707"/>
                </a:lnTo>
                <a:lnTo>
                  <a:pt x="17120" y="4707"/>
                </a:lnTo>
                <a:lnTo>
                  <a:pt x="17120" y="8224"/>
                </a:lnTo>
                <a:close/>
              </a:path>
              <a:path fill="darkenLess" w="25535" h="21600">
                <a:moveTo>
                  <a:pt x="11845" y="14299"/>
                </a:moveTo>
                <a:lnTo>
                  <a:pt x="13690" y="14299"/>
                </a:lnTo>
                <a:lnTo>
                  <a:pt x="13690" y="17989"/>
                </a:lnTo>
                <a:lnTo>
                  <a:pt x="18077" y="17989"/>
                </a:lnTo>
                <a:lnTo>
                  <a:pt x="18077" y="10800"/>
                </a:lnTo>
                <a:lnTo>
                  <a:pt x="7458" y="10800"/>
                </a:lnTo>
                <a:lnTo>
                  <a:pt x="7458" y="17989"/>
                </a:lnTo>
                <a:lnTo>
                  <a:pt x="11845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Где одновременно можно встретить и белого медведя, и пингвина?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бавные пушистые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олько в зоопарке. Родина белых медведей Северный полюс, а пингвинов - Южны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firstslide"/>
          </p:cNvPr>
          <p:cNvSpPr/>
          <p:nvPr/>
        </p:nvSpPr>
        <p:spPr>
          <a:xfrm>
            <a:off x="7596360" y="5084640"/>
            <a:ext cx="1079280" cy="108108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10800" y="3855"/>
                </a:moveTo>
                <a:lnTo>
                  <a:pt x="13376" y="6466"/>
                </a:lnTo>
                <a:lnTo>
                  <a:pt x="13376" y="4725"/>
                </a:lnTo>
                <a:lnTo>
                  <a:pt x="15152" y="4725"/>
                </a:lnTo>
                <a:lnTo>
                  <a:pt x="15152" y="8242"/>
                </a:lnTo>
                <a:lnTo>
                  <a:pt x="17763" y="10818"/>
                </a:lnTo>
                <a:lnTo>
                  <a:pt x="16109" y="10818"/>
                </a:lnTo>
                <a:lnTo>
                  <a:pt x="16109" y="18007"/>
                </a:lnTo>
                <a:lnTo>
                  <a:pt x="5491" y="18007"/>
                </a:lnTo>
                <a:lnTo>
                  <a:pt x="5491" y="10818"/>
                </a:lnTo>
                <a:lnTo>
                  <a:pt x="3837" y="10818"/>
                </a:lnTo>
                <a:close/>
              </a:path>
              <a:path fill="darkenLess" w="21600" h="21636">
                <a:moveTo>
                  <a:pt x="13376" y="6466"/>
                </a:moveTo>
                <a:lnTo>
                  <a:pt x="13376" y="4725"/>
                </a:lnTo>
                <a:lnTo>
                  <a:pt x="15152" y="4725"/>
                </a:lnTo>
                <a:lnTo>
                  <a:pt x="15152" y="8242"/>
                </a:lnTo>
                <a:close/>
              </a:path>
              <a:path fill="darkenLess" w="21600" h="21636">
                <a:moveTo>
                  <a:pt x="9877" y="14317"/>
                </a:moveTo>
                <a:lnTo>
                  <a:pt x="11723" y="14317"/>
                </a:lnTo>
                <a:lnTo>
                  <a:pt x="11723" y="18007"/>
                </a:lnTo>
                <a:lnTo>
                  <a:pt x="16109" y="18007"/>
                </a:lnTo>
                <a:lnTo>
                  <a:pt x="16109" y="10818"/>
                </a:lnTo>
                <a:lnTo>
                  <a:pt x="5491" y="10818"/>
                </a:lnTo>
                <a:lnTo>
                  <a:pt x="5491" y="18007"/>
                </a:lnTo>
                <a:lnTo>
                  <a:pt x="9877" y="18007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826920" y="3716280"/>
            <a:ext cx="2762280" cy="27799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4327560" y="3716280"/>
            <a:ext cx="1973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Тайны пернатых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илетает к нам с тепло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уть проделав длинны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епит домик под окн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з травы и глин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О какой птице идет реч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асточ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>
            <a:hlinkClick r:id="" action="ppaction://hlinkshowjump?jump=firstslide"/>
          </p:cNvPr>
          <p:cNvSpPr/>
          <p:nvPr/>
        </p:nvSpPr>
        <p:spPr>
          <a:xfrm>
            <a:off x="7740720" y="5516640"/>
            <a:ext cx="1152360" cy="1008000"/>
          </a:xfrm>
          <a:custGeom>
            <a:avLst/>
            <a:gdLst>
              <a:gd name="textAreaLeft" fmla="*/ 65160 w 1152360"/>
              <a:gd name="textAreaRight" fmla="*/ 1087200 w 1152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3837"/>
                </a:moveTo>
                <a:lnTo>
                  <a:pt x="14922" y="6448"/>
                </a:ln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lnTo>
                  <a:pt x="19309" y="10800"/>
                </a:lnTo>
                <a:lnTo>
                  <a:pt x="17655" y="10800"/>
                </a:lnTo>
                <a:lnTo>
                  <a:pt x="17655" y="17989"/>
                </a:lnTo>
                <a:lnTo>
                  <a:pt x="7037" y="17989"/>
                </a:lnTo>
                <a:lnTo>
                  <a:pt x="7037" y="10800"/>
                </a:lnTo>
                <a:lnTo>
                  <a:pt x="5383" y="10800"/>
                </a:lnTo>
                <a:close/>
              </a:path>
              <a:path fill="darkenLess" w="24692" h="21600">
                <a:moveTo>
                  <a:pt x="14922" y="6448"/>
                </a:move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close/>
              </a:path>
              <a:path fill="darkenLess" w="24692" h="21600">
                <a:moveTo>
                  <a:pt x="11424" y="14299"/>
                </a:moveTo>
                <a:lnTo>
                  <a:pt x="13269" y="14299"/>
                </a:lnTo>
                <a:lnTo>
                  <a:pt x="13269" y="17989"/>
                </a:lnTo>
                <a:lnTo>
                  <a:pt x="17655" y="17989"/>
                </a:lnTo>
                <a:lnTo>
                  <a:pt x="17655" y="10800"/>
                </a:lnTo>
                <a:lnTo>
                  <a:pt x="7037" y="10800"/>
                </a:lnTo>
                <a:lnTo>
                  <a:pt x="7037" y="17989"/>
                </a:lnTo>
                <a:lnTo>
                  <a:pt x="11424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700360" y="2349360"/>
            <a:ext cx="36385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олько ли птицы откладывают яйц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айны пернаты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птилии: крокодилы, черепахи и др. Звери: ехидна, утконос. Насекомые, пауки., и д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>
            <a:hlinkClick r:id="" action="ppaction://hlinkshowjump?jump=firstslide"/>
          </p:cNvPr>
          <p:cNvSpPr/>
          <p:nvPr/>
        </p:nvSpPr>
        <p:spPr>
          <a:xfrm>
            <a:off x="766764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88" h="21600">
                <a:moveTo>
                  <a:pt x="11644" y="3837"/>
                </a:moveTo>
                <a:lnTo>
                  <a:pt x="14220" y="6448"/>
                </a:lnTo>
                <a:lnTo>
                  <a:pt x="14220" y="4707"/>
                </a:lnTo>
                <a:lnTo>
                  <a:pt x="15996" y="4707"/>
                </a:lnTo>
                <a:lnTo>
                  <a:pt x="15996" y="8224"/>
                </a:lnTo>
                <a:lnTo>
                  <a:pt x="18607" y="10800"/>
                </a:lnTo>
                <a:lnTo>
                  <a:pt x="16953" y="10800"/>
                </a:lnTo>
                <a:lnTo>
                  <a:pt x="16953" y="17989"/>
                </a:lnTo>
                <a:lnTo>
                  <a:pt x="6335" y="17989"/>
                </a:lnTo>
                <a:lnTo>
                  <a:pt x="6335" y="10800"/>
                </a:lnTo>
                <a:lnTo>
                  <a:pt x="4681" y="10800"/>
                </a:lnTo>
                <a:close/>
              </a:path>
              <a:path fill="darkenLess" w="23288" h="21600">
                <a:moveTo>
                  <a:pt x="14220" y="6448"/>
                </a:moveTo>
                <a:lnTo>
                  <a:pt x="14220" y="4707"/>
                </a:lnTo>
                <a:lnTo>
                  <a:pt x="15996" y="4707"/>
                </a:lnTo>
                <a:lnTo>
                  <a:pt x="15996" y="8224"/>
                </a:lnTo>
                <a:close/>
              </a:path>
              <a:path fill="darkenLess" w="23288" h="21600">
                <a:moveTo>
                  <a:pt x="10721" y="14299"/>
                </a:moveTo>
                <a:lnTo>
                  <a:pt x="12566" y="14299"/>
                </a:lnTo>
                <a:lnTo>
                  <a:pt x="12566" y="17989"/>
                </a:lnTo>
                <a:lnTo>
                  <a:pt x="16953" y="17989"/>
                </a:lnTo>
                <a:lnTo>
                  <a:pt x="16953" y="10800"/>
                </a:lnTo>
                <a:lnTo>
                  <a:pt x="6335" y="10800"/>
                </a:lnTo>
                <a:lnTo>
                  <a:pt x="6335" y="17989"/>
                </a:lnTo>
                <a:lnTo>
                  <a:pt x="10721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5640" y="3357720"/>
            <a:ext cx="7921800" cy="2144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443640" y="3357720"/>
            <a:ext cx="1152720" cy="14256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Тайны пернатых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ая птица выводит птенцов зимой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снегир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клёс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вороб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синиц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лёс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Эти птицы кормят своих птенцов не насекомыми, а еловыми семена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firstslide"/>
          </p:cNvPr>
          <p:cNvSpPr/>
          <p:nvPr/>
        </p:nvSpPr>
        <p:spPr>
          <a:xfrm>
            <a:off x="7812000" y="5805360"/>
            <a:ext cx="1152720" cy="1052640"/>
          </a:xfrm>
          <a:custGeom>
            <a:avLst/>
            <a:gdLst>
              <a:gd name="textAreaLeft" fmla="*/ 68040 w 1152720"/>
              <a:gd name="textAreaRight" fmla="*/ 1084680 w 1152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3653" h="21600">
                <a:moveTo>
                  <a:pt x="0" y="0"/>
                </a:moveTo>
                <a:lnTo>
                  <a:pt x="23653" y="0"/>
                </a:lnTo>
                <a:lnTo>
                  <a:pt x="23653" y="21600"/>
                </a:lnTo>
                <a:lnTo>
                  <a:pt x="0" y="21600"/>
                </a:lnTo>
                <a:close/>
              </a:path>
              <a:path fill="lightenLess" w="23653" h="21600">
                <a:moveTo>
                  <a:pt x="0" y="0"/>
                </a:moveTo>
                <a:lnTo>
                  <a:pt x="23653" y="0"/>
                </a:lnTo>
                <a:lnTo>
                  <a:pt x="22253" y="1400"/>
                </a:lnTo>
                <a:lnTo>
                  <a:pt x="1400" y="1400"/>
                </a:lnTo>
                <a:close/>
              </a:path>
              <a:path fill="darken" w="23653" h="21600">
                <a:moveTo>
                  <a:pt x="23653" y="0"/>
                </a:moveTo>
                <a:lnTo>
                  <a:pt x="23653" y="21600"/>
                </a:lnTo>
                <a:lnTo>
                  <a:pt x="22253" y="20200"/>
                </a:lnTo>
                <a:lnTo>
                  <a:pt x="22253" y="1400"/>
                </a:lnTo>
                <a:close/>
              </a:path>
              <a:path fill="darkenLess" w="23653" h="21600">
                <a:moveTo>
                  <a:pt x="236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3" y="20200"/>
                </a:lnTo>
                <a:close/>
              </a:path>
              <a:path fill="lighten" w="236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53" h="21600">
                <a:moveTo>
                  <a:pt x="11826" y="3837"/>
                </a:moveTo>
                <a:lnTo>
                  <a:pt x="14403" y="6448"/>
                </a:lnTo>
                <a:lnTo>
                  <a:pt x="14403" y="4707"/>
                </a:lnTo>
                <a:lnTo>
                  <a:pt x="16178" y="4707"/>
                </a:lnTo>
                <a:lnTo>
                  <a:pt x="16178" y="8224"/>
                </a:lnTo>
                <a:lnTo>
                  <a:pt x="18789" y="10800"/>
                </a:lnTo>
                <a:lnTo>
                  <a:pt x="17136" y="10800"/>
                </a:lnTo>
                <a:lnTo>
                  <a:pt x="17136" y="17989"/>
                </a:lnTo>
                <a:lnTo>
                  <a:pt x="6517" y="17989"/>
                </a:lnTo>
                <a:lnTo>
                  <a:pt x="6517" y="10800"/>
                </a:lnTo>
                <a:lnTo>
                  <a:pt x="4863" y="10800"/>
                </a:lnTo>
                <a:close/>
              </a:path>
              <a:path fill="darkenLess" w="23653" h="21600">
                <a:moveTo>
                  <a:pt x="14403" y="6448"/>
                </a:moveTo>
                <a:lnTo>
                  <a:pt x="14403" y="4707"/>
                </a:lnTo>
                <a:lnTo>
                  <a:pt x="16178" y="4707"/>
                </a:lnTo>
                <a:lnTo>
                  <a:pt x="16178" y="8224"/>
                </a:lnTo>
                <a:close/>
              </a:path>
              <a:path fill="darkenLess" w="23653" h="21600">
                <a:moveTo>
                  <a:pt x="10904" y="14299"/>
                </a:moveTo>
                <a:lnTo>
                  <a:pt x="12749" y="14299"/>
                </a:lnTo>
                <a:lnTo>
                  <a:pt x="12749" y="17989"/>
                </a:lnTo>
                <a:lnTo>
                  <a:pt x="17136" y="17989"/>
                </a:lnTo>
                <a:lnTo>
                  <a:pt x="17136" y="10800"/>
                </a:lnTo>
                <a:lnTo>
                  <a:pt x="6517" y="10800"/>
                </a:lnTo>
                <a:lnTo>
                  <a:pt x="6517" y="17989"/>
                </a:lnTo>
                <a:lnTo>
                  <a:pt x="10904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Картинка 2 из 121"/>
          <p:cNvPicPr/>
          <p:nvPr/>
        </p:nvPicPr>
        <p:blipFill>
          <a:blip r:embed="rId1"/>
          <a:stretch/>
        </p:blipFill>
        <p:spPr>
          <a:xfrm>
            <a:off x="2987640" y="3389400"/>
            <a:ext cx="47894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Тайны пернатых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ключи из списка лишнег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трау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ингв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ету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етучая мыш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оснуй от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етучая мышь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Её тело покрыто шерстью. Это - звер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firstslide"/>
          </p:cNvPr>
          <p:cNvSpPr/>
          <p:nvPr/>
        </p:nvSpPr>
        <p:spPr>
          <a:xfrm>
            <a:off x="7740720" y="5661000"/>
            <a:ext cx="1008000" cy="100800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>
            <a:lum bright="-18000"/>
          </a:blip>
          <a:srcRect l="0" t="8287" r="0" b="0"/>
          <a:stretch/>
        </p:blipFill>
        <p:spPr>
          <a:xfrm>
            <a:off x="2050920" y="3141720"/>
            <a:ext cx="4303800" cy="31971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979640" y="2781360"/>
            <a:ext cx="2736720" cy="1152360"/>
          </a:xfrm>
          <a:prstGeom prst="rect">
            <a:avLst/>
          </a:prstGeom>
          <a:solidFill>
            <a:srgbClr val="2566ad"/>
          </a:solidFill>
          <a:ln w="9360">
            <a:solidFill>
              <a:srgbClr val="2566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да, вода, кругом вода…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куда течет река? Где её начало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ая птица имеет общие интересы с кошкой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айны пернаты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ова. Она ловит мыш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>
            <a:hlinkClick r:id="" action="ppaction://hlinkshowjump?jump=firstslide"/>
          </p:cNvPr>
          <p:cNvSpPr/>
          <p:nvPr/>
        </p:nvSpPr>
        <p:spPr>
          <a:xfrm>
            <a:off x="7885080" y="5589720"/>
            <a:ext cx="1008000" cy="107928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79280"/>
              <a:gd name="textAreaBottom" fmla="*/ 1014120 h 1079280"/>
            </a:gdLst>
            <a:ahLst/>
            <a:rect l="textAreaLeft" t="textAreaTop" r="textAreaRight" b="textAreaBottom"/>
            <a:pathLst>
              <a:path w="21600" h="23127">
                <a:moveTo>
                  <a:pt x="0" y="0"/>
                </a:moveTo>
                <a:lnTo>
                  <a:pt x="21600" y="0"/>
                </a:lnTo>
                <a:lnTo>
                  <a:pt x="21600" y="23127"/>
                </a:lnTo>
                <a:lnTo>
                  <a:pt x="0" y="23127"/>
                </a:lnTo>
                <a:close/>
              </a:path>
              <a:path fill="lightenLess" w="21600" h="231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7">
                <a:moveTo>
                  <a:pt x="21600" y="0"/>
                </a:moveTo>
                <a:lnTo>
                  <a:pt x="21600" y="23127"/>
                </a:lnTo>
                <a:lnTo>
                  <a:pt x="20200" y="21727"/>
                </a:lnTo>
                <a:lnTo>
                  <a:pt x="20200" y="1400"/>
                </a:lnTo>
                <a:close/>
              </a:path>
              <a:path fill="darkenLess" w="21600" h="23127">
                <a:moveTo>
                  <a:pt x="21600" y="23127"/>
                </a:moveTo>
                <a:lnTo>
                  <a:pt x="0" y="23127"/>
                </a:lnTo>
                <a:lnTo>
                  <a:pt x="1400" y="21727"/>
                </a:lnTo>
                <a:lnTo>
                  <a:pt x="20200" y="21727"/>
                </a:lnTo>
                <a:close/>
              </a:path>
              <a:path fill="lighten" w="21600" h="23127">
                <a:moveTo>
                  <a:pt x="0" y="231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7"/>
                </a:lnTo>
                <a:close/>
              </a:path>
              <a:path fill="darken" w="21600" h="23127">
                <a:moveTo>
                  <a:pt x="10800" y="4600"/>
                </a:moveTo>
                <a:lnTo>
                  <a:pt x="13376" y="7212"/>
                </a:lnTo>
                <a:lnTo>
                  <a:pt x="13376" y="5471"/>
                </a:lnTo>
                <a:lnTo>
                  <a:pt x="15152" y="5471"/>
                </a:lnTo>
                <a:lnTo>
                  <a:pt x="15152" y="8987"/>
                </a:lnTo>
                <a:lnTo>
                  <a:pt x="17763" y="11563"/>
                </a:lnTo>
                <a:lnTo>
                  <a:pt x="16109" y="11563"/>
                </a:lnTo>
                <a:lnTo>
                  <a:pt x="16109" y="18753"/>
                </a:lnTo>
                <a:lnTo>
                  <a:pt x="5491" y="18753"/>
                </a:lnTo>
                <a:lnTo>
                  <a:pt x="5491" y="11563"/>
                </a:lnTo>
                <a:lnTo>
                  <a:pt x="3837" y="11563"/>
                </a:lnTo>
                <a:close/>
              </a:path>
              <a:path fill="darkenLess" w="21600" h="23127">
                <a:moveTo>
                  <a:pt x="13376" y="7212"/>
                </a:moveTo>
                <a:lnTo>
                  <a:pt x="13376" y="5471"/>
                </a:lnTo>
                <a:lnTo>
                  <a:pt x="15152" y="5471"/>
                </a:lnTo>
                <a:lnTo>
                  <a:pt x="15152" y="8987"/>
                </a:lnTo>
                <a:close/>
              </a:path>
              <a:path fill="darkenLess" w="21600" h="23127">
                <a:moveTo>
                  <a:pt x="9877" y="15062"/>
                </a:moveTo>
                <a:lnTo>
                  <a:pt x="11723" y="15062"/>
                </a:lnTo>
                <a:lnTo>
                  <a:pt x="11723" y="18753"/>
                </a:lnTo>
                <a:lnTo>
                  <a:pt x="16109" y="18753"/>
                </a:lnTo>
                <a:lnTo>
                  <a:pt x="16109" y="11563"/>
                </a:lnTo>
                <a:lnTo>
                  <a:pt x="5491" y="11563"/>
                </a:lnTo>
                <a:lnTo>
                  <a:pt x="5491" y="18753"/>
                </a:lnTo>
                <a:lnTo>
                  <a:pt x="9877" y="18753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987640" y="242100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имета: ласточки летают низко – будет дожд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ъясните странное поведение ласточек перед дождё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айны пернаты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овсе не ласточки боятся дождя, а насекомые, на которых охотятся ласточки. Перед дождем воздух тяжёлый и влажный. Под его тяжестью насекомые летают ниже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firstslide"/>
          </p:cNvPr>
          <p:cNvSpPr/>
          <p:nvPr/>
        </p:nvSpPr>
        <p:spPr>
          <a:xfrm>
            <a:off x="7667640" y="5661000"/>
            <a:ext cx="1081080" cy="1008000"/>
          </a:xfrm>
          <a:custGeom>
            <a:avLst/>
            <a:gdLst>
              <a:gd name="textAreaLeft" fmla="*/ 65160 w 1081080"/>
              <a:gd name="textAreaRight" fmla="*/ 1015920 w 108108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3165" h="21600">
                <a:moveTo>
                  <a:pt x="0" y="0"/>
                </a:moveTo>
                <a:lnTo>
                  <a:pt x="23165" y="0"/>
                </a:lnTo>
                <a:lnTo>
                  <a:pt x="23165" y="21600"/>
                </a:lnTo>
                <a:lnTo>
                  <a:pt x="0" y="21600"/>
                </a:lnTo>
                <a:close/>
              </a:path>
              <a:path fill="lightenLess" w="23165" h="21600">
                <a:moveTo>
                  <a:pt x="0" y="0"/>
                </a:moveTo>
                <a:lnTo>
                  <a:pt x="23165" y="0"/>
                </a:lnTo>
                <a:lnTo>
                  <a:pt x="21765" y="1400"/>
                </a:lnTo>
                <a:lnTo>
                  <a:pt x="1400" y="1400"/>
                </a:lnTo>
                <a:close/>
              </a:path>
              <a:path fill="darken" w="23165" h="21600">
                <a:moveTo>
                  <a:pt x="23165" y="0"/>
                </a:moveTo>
                <a:lnTo>
                  <a:pt x="23165" y="21600"/>
                </a:lnTo>
                <a:lnTo>
                  <a:pt x="21765" y="20200"/>
                </a:lnTo>
                <a:lnTo>
                  <a:pt x="21765" y="1400"/>
                </a:lnTo>
                <a:close/>
              </a:path>
              <a:path fill="darkenLess" w="23165" h="21600">
                <a:moveTo>
                  <a:pt x="23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65" y="20200"/>
                </a:lnTo>
                <a:close/>
              </a:path>
              <a:path fill="lighten" w="23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65" h="21600">
                <a:moveTo>
                  <a:pt x="11583" y="3837"/>
                </a:moveTo>
                <a:lnTo>
                  <a:pt x="14159" y="6448"/>
                </a:lnTo>
                <a:lnTo>
                  <a:pt x="14159" y="4707"/>
                </a:lnTo>
                <a:lnTo>
                  <a:pt x="15935" y="4707"/>
                </a:lnTo>
                <a:lnTo>
                  <a:pt x="15935" y="8224"/>
                </a:lnTo>
                <a:lnTo>
                  <a:pt x="18546" y="10800"/>
                </a:lnTo>
                <a:lnTo>
                  <a:pt x="16892" y="10800"/>
                </a:lnTo>
                <a:lnTo>
                  <a:pt x="16892" y="17989"/>
                </a:lnTo>
                <a:lnTo>
                  <a:pt x="6273" y="17989"/>
                </a:lnTo>
                <a:lnTo>
                  <a:pt x="6273" y="10800"/>
                </a:lnTo>
                <a:lnTo>
                  <a:pt x="4620" y="10800"/>
                </a:lnTo>
                <a:close/>
              </a:path>
              <a:path fill="darkenLess" w="23165" h="21600">
                <a:moveTo>
                  <a:pt x="14159" y="6448"/>
                </a:moveTo>
                <a:lnTo>
                  <a:pt x="14159" y="4707"/>
                </a:lnTo>
                <a:lnTo>
                  <a:pt x="15935" y="4707"/>
                </a:lnTo>
                <a:lnTo>
                  <a:pt x="15935" y="8224"/>
                </a:lnTo>
                <a:close/>
              </a:path>
              <a:path fill="darkenLess" w="23165" h="21600">
                <a:moveTo>
                  <a:pt x="10660" y="14299"/>
                </a:moveTo>
                <a:lnTo>
                  <a:pt x="12505" y="14299"/>
                </a:lnTo>
                <a:lnTo>
                  <a:pt x="12505" y="17989"/>
                </a:lnTo>
                <a:lnTo>
                  <a:pt x="16892" y="17989"/>
                </a:lnTo>
                <a:lnTo>
                  <a:pt x="16892" y="10800"/>
                </a:lnTo>
                <a:lnTo>
                  <a:pt x="6273" y="10800"/>
                </a:lnTo>
                <a:lnTo>
                  <a:pt x="6273" y="17989"/>
                </a:lnTo>
                <a:lnTo>
                  <a:pt x="10660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С миру по нитке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ключи лишнег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не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ес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сфаль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ме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сфальт. Все остальные вещества относятся к неживой природ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>
            <a:hlinkClick r:id="" action="ppaction://hlinkshowjump?jump=firstslide"/>
          </p:cNvPr>
          <p:cNvSpPr/>
          <p:nvPr/>
        </p:nvSpPr>
        <p:spPr>
          <a:xfrm>
            <a:off x="7740720" y="587700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12686" y="3837"/>
                </a:moveTo>
                <a:lnTo>
                  <a:pt x="15262" y="6448"/>
                </a:lnTo>
                <a:lnTo>
                  <a:pt x="15262" y="4707"/>
                </a:lnTo>
                <a:lnTo>
                  <a:pt x="17038" y="4707"/>
                </a:lnTo>
                <a:lnTo>
                  <a:pt x="17038" y="8224"/>
                </a:lnTo>
                <a:lnTo>
                  <a:pt x="19649" y="10800"/>
                </a:lnTo>
                <a:lnTo>
                  <a:pt x="17995" y="10800"/>
                </a:lnTo>
                <a:lnTo>
                  <a:pt x="17995" y="17989"/>
                </a:lnTo>
                <a:lnTo>
                  <a:pt x="7377" y="17989"/>
                </a:lnTo>
                <a:lnTo>
                  <a:pt x="7377" y="10800"/>
                </a:lnTo>
                <a:lnTo>
                  <a:pt x="5723" y="10800"/>
                </a:lnTo>
                <a:close/>
              </a:path>
              <a:path fill="darkenLess" w="25372" h="21600">
                <a:moveTo>
                  <a:pt x="15262" y="6448"/>
                </a:moveTo>
                <a:lnTo>
                  <a:pt x="15262" y="4707"/>
                </a:lnTo>
                <a:lnTo>
                  <a:pt x="17038" y="4707"/>
                </a:lnTo>
                <a:lnTo>
                  <a:pt x="17038" y="8224"/>
                </a:lnTo>
                <a:close/>
              </a:path>
              <a:path fill="darkenLess" w="25372" h="21600">
                <a:moveTo>
                  <a:pt x="11763" y="14299"/>
                </a:moveTo>
                <a:lnTo>
                  <a:pt x="13608" y="14299"/>
                </a:lnTo>
                <a:lnTo>
                  <a:pt x="13608" y="17989"/>
                </a:lnTo>
                <a:lnTo>
                  <a:pt x="17995" y="17989"/>
                </a:lnTo>
                <a:lnTo>
                  <a:pt x="17995" y="10800"/>
                </a:lnTo>
                <a:lnTo>
                  <a:pt x="7377" y="10800"/>
                </a:lnTo>
                <a:lnTo>
                  <a:pt x="7377" y="17989"/>
                </a:lnTo>
                <a:lnTo>
                  <a:pt x="11763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С миру по нитке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 называется явление природы, когда «просыпается» вулкан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излия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сход лавин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изверж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обва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звержение вулкан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>
            <a:hlinkClick r:id="" action="ppaction://hlinkshowjump?jump=firstslide"/>
          </p:cNvPr>
          <p:cNvSpPr/>
          <p:nvPr/>
        </p:nvSpPr>
        <p:spPr>
          <a:xfrm>
            <a:off x="7812000" y="5589720"/>
            <a:ext cx="1008000" cy="100800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2700360" y="2398680"/>
            <a:ext cx="381636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С миру по нитке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Какой снег тает быстрее грязный или чистый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Грязный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Чистый белый снег отражает солнечные лучи, тогда как темный снег притягивает к себе солнечный с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>
            <a:hlinkClick r:id="" action="ppaction://hlinkshowjump?jump=firstslide"/>
          </p:cNvPr>
          <p:cNvSpPr/>
          <p:nvPr/>
        </p:nvSpPr>
        <p:spPr>
          <a:xfrm>
            <a:off x="7740720" y="5516640"/>
            <a:ext cx="1152360" cy="115236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мните слова песенки: «С голубого ручейка начинается река…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7885080" y="5589720"/>
            <a:ext cx="1008000" cy="981000"/>
          </a:xfrm>
          <a:custGeom>
            <a:avLst/>
            <a:gdLst>
              <a:gd name="textAreaLeft" fmla="*/ 63360 w 1008000"/>
              <a:gd name="textAreaRight" fmla="*/ 944640 w 100800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2194" h="21600">
                <a:moveTo>
                  <a:pt x="0" y="0"/>
                </a:moveTo>
                <a:lnTo>
                  <a:pt x="22194" y="0"/>
                </a:lnTo>
                <a:lnTo>
                  <a:pt x="22194" y="21600"/>
                </a:lnTo>
                <a:lnTo>
                  <a:pt x="0" y="21600"/>
                </a:lnTo>
                <a:close/>
              </a:path>
              <a:path fill="lightenLess" w="22194" h="21600">
                <a:moveTo>
                  <a:pt x="0" y="0"/>
                </a:moveTo>
                <a:lnTo>
                  <a:pt x="22194" y="0"/>
                </a:lnTo>
                <a:lnTo>
                  <a:pt x="20794" y="1400"/>
                </a:lnTo>
                <a:lnTo>
                  <a:pt x="1400" y="1400"/>
                </a:lnTo>
                <a:close/>
              </a:path>
              <a:path fill="darken" w="22194" h="21600">
                <a:moveTo>
                  <a:pt x="22194" y="0"/>
                </a:moveTo>
                <a:lnTo>
                  <a:pt x="22194" y="21600"/>
                </a:lnTo>
                <a:lnTo>
                  <a:pt x="20794" y="20200"/>
                </a:lnTo>
                <a:lnTo>
                  <a:pt x="20794" y="1400"/>
                </a:lnTo>
                <a:close/>
              </a:path>
              <a:path fill="darkenLess" w="22194" h="21600">
                <a:moveTo>
                  <a:pt x="22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94" y="20200"/>
                </a:lnTo>
                <a:close/>
              </a:path>
              <a:path fill="lighten" w="22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94" h="21600">
                <a:moveTo>
                  <a:pt x="11097" y="3837"/>
                </a:moveTo>
                <a:lnTo>
                  <a:pt x="13673" y="6448"/>
                </a:lnTo>
                <a:lnTo>
                  <a:pt x="13673" y="4707"/>
                </a:lnTo>
                <a:lnTo>
                  <a:pt x="15449" y="4707"/>
                </a:lnTo>
                <a:lnTo>
                  <a:pt x="15449" y="8224"/>
                </a:lnTo>
                <a:lnTo>
                  <a:pt x="18060" y="10800"/>
                </a:lnTo>
                <a:lnTo>
                  <a:pt x="16406" y="10800"/>
                </a:lnTo>
                <a:lnTo>
                  <a:pt x="16406" y="17989"/>
                </a:lnTo>
                <a:lnTo>
                  <a:pt x="5788" y="17989"/>
                </a:lnTo>
                <a:lnTo>
                  <a:pt x="5788" y="10800"/>
                </a:lnTo>
                <a:lnTo>
                  <a:pt x="4134" y="10800"/>
                </a:lnTo>
                <a:close/>
              </a:path>
              <a:path fill="darkenLess" w="22194" h="21600">
                <a:moveTo>
                  <a:pt x="13673" y="6448"/>
                </a:moveTo>
                <a:lnTo>
                  <a:pt x="13673" y="4707"/>
                </a:lnTo>
                <a:lnTo>
                  <a:pt x="15449" y="4707"/>
                </a:lnTo>
                <a:lnTo>
                  <a:pt x="15449" y="8224"/>
                </a:lnTo>
                <a:close/>
              </a:path>
              <a:path fill="darkenLess" w="22194" h="21600">
                <a:moveTo>
                  <a:pt x="10175" y="14299"/>
                </a:moveTo>
                <a:lnTo>
                  <a:pt x="12020" y="14299"/>
                </a:lnTo>
                <a:lnTo>
                  <a:pt x="12020" y="17989"/>
                </a:lnTo>
                <a:lnTo>
                  <a:pt x="16406" y="17989"/>
                </a:lnTo>
                <a:lnTo>
                  <a:pt x="16406" y="10800"/>
                </a:lnTo>
                <a:lnTo>
                  <a:pt x="5788" y="10800"/>
                </a:lnTo>
                <a:lnTo>
                  <a:pt x="5788" y="17989"/>
                </a:lnTo>
                <a:lnTo>
                  <a:pt x="10175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059280" y="3500280"/>
            <a:ext cx="3889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С миру по нитке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ой природный объект называют «фабрикой кислорода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ес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firstslide"/>
          </p:cNvPr>
          <p:cNvSpPr/>
          <p:nvPr/>
        </p:nvSpPr>
        <p:spPr>
          <a:xfrm>
            <a:off x="7885080" y="5877000"/>
            <a:ext cx="1008000" cy="981000"/>
          </a:xfrm>
          <a:custGeom>
            <a:avLst/>
            <a:gdLst>
              <a:gd name="textAreaLeft" fmla="*/ 63360 w 1008000"/>
              <a:gd name="textAreaRight" fmla="*/ 944640 w 100800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2194" h="21600">
                <a:moveTo>
                  <a:pt x="0" y="0"/>
                </a:moveTo>
                <a:lnTo>
                  <a:pt x="22194" y="0"/>
                </a:lnTo>
                <a:lnTo>
                  <a:pt x="22194" y="21600"/>
                </a:lnTo>
                <a:lnTo>
                  <a:pt x="0" y="21600"/>
                </a:lnTo>
                <a:close/>
              </a:path>
              <a:path fill="lightenLess" w="22194" h="21600">
                <a:moveTo>
                  <a:pt x="0" y="0"/>
                </a:moveTo>
                <a:lnTo>
                  <a:pt x="22194" y="0"/>
                </a:lnTo>
                <a:lnTo>
                  <a:pt x="20794" y="1400"/>
                </a:lnTo>
                <a:lnTo>
                  <a:pt x="1400" y="1400"/>
                </a:lnTo>
                <a:close/>
              </a:path>
              <a:path fill="darken" w="22194" h="21600">
                <a:moveTo>
                  <a:pt x="22194" y="0"/>
                </a:moveTo>
                <a:lnTo>
                  <a:pt x="22194" y="21600"/>
                </a:lnTo>
                <a:lnTo>
                  <a:pt x="20794" y="20200"/>
                </a:lnTo>
                <a:lnTo>
                  <a:pt x="20794" y="1400"/>
                </a:lnTo>
                <a:close/>
              </a:path>
              <a:path fill="darkenLess" w="22194" h="21600">
                <a:moveTo>
                  <a:pt x="22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94" y="20200"/>
                </a:lnTo>
                <a:close/>
              </a:path>
              <a:path fill="lighten" w="22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94" h="21600">
                <a:moveTo>
                  <a:pt x="11097" y="3837"/>
                </a:moveTo>
                <a:lnTo>
                  <a:pt x="13673" y="6448"/>
                </a:lnTo>
                <a:lnTo>
                  <a:pt x="13673" y="4707"/>
                </a:lnTo>
                <a:lnTo>
                  <a:pt x="15449" y="4707"/>
                </a:lnTo>
                <a:lnTo>
                  <a:pt x="15449" y="8224"/>
                </a:lnTo>
                <a:lnTo>
                  <a:pt x="18060" y="10800"/>
                </a:lnTo>
                <a:lnTo>
                  <a:pt x="16406" y="10800"/>
                </a:lnTo>
                <a:lnTo>
                  <a:pt x="16406" y="17989"/>
                </a:lnTo>
                <a:lnTo>
                  <a:pt x="5788" y="17989"/>
                </a:lnTo>
                <a:lnTo>
                  <a:pt x="5788" y="10800"/>
                </a:lnTo>
                <a:lnTo>
                  <a:pt x="4134" y="10800"/>
                </a:lnTo>
                <a:close/>
              </a:path>
              <a:path fill="darkenLess" w="22194" h="21600">
                <a:moveTo>
                  <a:pt x="13673" y="6448"/>
                </a:moveTo>
                <a:lnTo>
                  <a:pt x="13673" y="4707"/>
                </a:lnTo>
                <a:lnTo>
                  <a:pt x="15449" y="4707"/>
                </a:lnTo>
                <a:lnTo>
                  <a:pt x="15449" y="8224"/>
                </a:lnTo>
                <a:close/>
              </a:path>
              <a:path fill="darkenLess" w="22194" h="21600">
                <a:moveTo>
                  <a:pt x="10175" y="14299"/>
                </a:moveTo>
                <a:lnTo>
                  <a:pt x="12020" y="14299"/>
                </a:lnTo>
                <a:lnTo>
                  <a:pt x="12020" y="17989"/>
                </a:lnTo>
                <a:lnTo>
                  <a:pt x="16406" y="17989"/>
                </a:lnTo>
                <a:lnTo>
                  <a:pt x="16406" y="10800"/>
                </a:lnTo>
                <a:lnTo>
                  <a:pt x="5788" y="10800"/>
                </a:lnTo>
                <a:lnTo>
                  <a:pt x="5788" y="17989"/>
                </a:lnTo>
                <a:lnTo>
                  <a:pt x="10175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39610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С миру по нитке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ие животные, буквально, лезут из кожи вон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ме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>
            <a:hlinkClick r:id="" action="ppaction://hlinkshowjump?jump=firstslide"/>
          </p:cNvPr>
          <p:cNvSpPr/>
          <p:nvPr/>
        </p:nvSpPr>
        <p:spPr>
          <a:xfrm>
            <a:off x="7667640" y="5805360"/>
            <a:ext cx="1297080" cy="1052640"/>
          </a:xfrm>
          <a:custGeom>
            <a:avLst/>
            <a:gdLst>
              <a:gd name="textAreaLeft" fmla="*/ 68040 w 1297080"/>
              <a:gd name="textAreaRight" fmla="*/ 1229040 w 129708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6614" h="21600">
                <a:moveTo>
                  <a:pt x="0" y="0"/>
                </a:moveTo>
                <a:lnTo>
                  <a:pt x="26614" y="0"/>
                </a:lnTo>
                <a:lnTo>
                  <a:pt x="26614" y="21600"/>
                </a:lnTo>
                <a:lnTo>
                  <a:pt x="0" y="21600"/>
                </a:lnTo>
                <a:close/>
              </a:path>
              <a:path fill="lightenLess" w="26614" h="21600">
                <a:moveTo>
                  <a:pt x="0" y="0"/>
                </a:moveTo>
                <a:lnTo>
                  <a:pt x="26614" y="0"/>
                </a:lnTo>
                <a:lnTo>
                  <a:pt x="25214" y="1400"/>
                </a:lnTo>
                <a:lnTo>
                  <a:pt x="1400" y="1400"/>
                </a:lnTo>
                <a:close/>
              </a:path>
              <a:path fill="darken" w="26614" h="21600">
                <a:moveTo>
                  <a:pt x="26614" y="0"/>
                </a:moveTo>
                <a:lnTo>
                  <a:pt x="26614" y="21600"/>
                </a:lnTo>
                <a:lnTo>
                  <a:pt x="25214" y="20200"/>
                </a:lnTo>
                <a:lnTo>
                  <a:pt x="25214" y="1400"/>
                </a:lnTo>
                <a:close/>
              </a:path>
              <a:path fill="darkenLess" w="26614" h="21600">
                <a:moveTo>
                  <a:pt x="26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14" y="20200"/>
                </a:lnTo>
                <a:close/>
              </a:path>
              <a:path fill="lighten" w="26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14" h="21600">
                <a:moveTo>
                  <a:pt x="13307" y="3837"/>
                </a:moveTo>
                <a:lnTo>
                  <a:pt x="15883" y="6448"/>
                </a:lnTo>
                <a:lnTo>
                  <a:pt x="15883" y="4707"/>
                </a:lnTo>
                <a:lnTo>
                  <a:pt x="17659" y="4707"/>
                </a:lnTo>
                <a:lnTo>
                  <a:pt x="17659" y="8224"/>
                </a:lnTo>
                <a:lnTo>
                  <a:pt x="20270" y="10800"/>
                </a:lnTo>
                <a:lnTo>
                  <a:pt x="18616" y="10800"/>
                </a:lnTo>
                <a:lnTo>
                  <a:pt x="18616" y="17989"/>
                </a:lnTo>
                <a:lnTo>
                  <a:pt x="7998" y="17989"/>
                </a:lnTo>
                <a:lnTo>
                  <a:pt x="7998" y="10800"/>
                </a:lnTo>
                <a:lnTo>
                  <a:pt x="6344" y="10800"/>
                </a:lnTo>
                <a:close/>
              </a:path>
              <a:path fill="darkenLess" w="26614" h="21600">
                <a:moveTo>
                  <a:pt x="15883" y="6448"/>
                </a:moveTo>
                <a:lnTo>
                  <a:pt x="15883" y="4707"/>
                </a:lnTo>
                <a:lnTo>
                  <a:pt x="17659" y="4707"/>
                </a:lnTo>
                <a:lnTo>
                  <a:pt x="17659" y="8224"/>
                </a:lnTo>
                <a:close/>
              </a:path>
              <a:path fill="darkenLess" w="26614" h="21600">
                <a:moveTo>
                  <a:pt x="12384" y="14299"/>
                </a:moveTo>
                <a:lnTo>
                  <a:pt x="14230" y="14299"/>
                </a:lnTo>
                <a:lnTo>
                  <a:pt x="14230" y="17989"/>
                </a:lnTo>
                <a:lnTo>
                  <a:pt x="18616" y="17989"/>
                </a:lnTo>
                <a:lnTo>
                  <a:pt x="18616" y="10800"/>
                </a:lnTo>
                <a:lnTo>
                  <a:pt x="7998" y="10800"/>
                </a:lnTo>
                <a:lnTo>
                  <a:pt x="7998" y="17989"/>
                </a:lnTo>
                <a:lnTo>
                  <a:pt x="12384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050920" y="1557360"/>
            <a:ext cx="48387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С миру по нитке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ем отличаются Солнце и Лун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олнце –звезд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уна – твёрдое космическое тело, спутник Земл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1258920" cy="907920"/>
          </a:xfrm>
          <a:custGeom>
            <a:avLst/>
            <a:gdLst>
              <a:gd name="textAreaLeft" fmla="*/ 58680 w 1258920"/>
              <a:gd name="textAreaRight" fmla="*/ 1200240 w 1258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9947" h="21600">
                <a:moveTo>
                  <a:pt x="0" y="0"/>
                </a:moveTo>
                <a:lnTo>
                  <a:pt x="29947" y="0"/>
                </a:lnTo>
                <a:lnTo>
                  <a:pt x="29947" y="21600"/>
                </a:lnTo>
                <a:lnTo>
                  <a:pt x="0" y="21600"/>
                </a:lnTo>
                <a:close/>
              </a:path>
              <a:path fill="lightenLess" w="29947" h="21600">
                <a:moveTo>
                  <a:pt x="0" y="0"/>
                </a:moveTo>
                <a:lnTo>
                  <a:pt x="29947" y="0"/>
                </a:lnTo>
                <a:lnTo>
                  <a:pt x="28547" y="1400"/>
                </a:lnTo>
                <a:lnTo>
                  <a:pt x="1400" y="1400"/>
                </a:lnTo>
                <a:close/>
              </a:path>
              <a:path fill="darken" w="29947" h="21600">
                <a:moveTo>
                  <a:pt x="29947" y="0"/>
                </a:moveTo>
                <a:lnTo>
                  <a:pt x="29947" y="21600"/>
                </a:lnTo>
                <a:lnTo>
                  <a:pt x="28547" y="20200"/>
                </a:lnTo>
                <a:lnTo>
                  <a:pt x="28547" y="1400"/>
                </a:lnTo>
                <a:close/>
              </a:path>
              <a:path fill="darkenLess" w="29947" h="21600">
                <a:moveTo>
                  <a:pt x="299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47" y="20200"/>
                </a:lnTo>
                <a:close/>
              </a:path>
              <a:path fill="lighten" w="299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47" h="21600">
                <a:moveTo>
                  <a:pt x="14974" y="3837"/>
                </a:moveTo>
                <a:lnTo>
                  <a:pt x="17550" y="6448"/>
                </a:lnTo>
                <a:lnTo>
                  <a:pt x="17550" y="4707"/>
                </a:lnTo>
                <a:lnTo>
                  <a:pt x="19325" y="4707"/>
                </a:lnTo>
                <a:lnTo>
                  <a:pt x="19325" y="8224"/>
                </a:lnTo>
                <a:lnTo>
                  <a:pt x="21937" y="10800"/>
                </a:lnTo>
                <a:lnTo>
                  <a:pt x="20283" y="10800"/>
                </a:lnTo>
                <a:lnTo>
                  <a:pt x="20283" y="17989"/>
                </a:lnTo>
                <a:lnTo>
                  <a:pt x="9664" y="17989"/>
                </a:lnTo>
                <a:lnTo>
                  <a:pt x="9664" y="10800"/>
                </a:lnTo>
                <a:lnTo>
                  <a:pt x="8011" y="10800"/>
                </a:lnTo>
                <a:close/>
              </a:path>
              <a:path fill="darkenLess" w="29947" h="21600">
                <a:moveTo>
                  <a:pt x="17550" y="6448"/>
                </a:moveTo>
                <a:lnTo>
                  <a:pt x="17550" y="4707"/>
                </a:lnTo>
                <a:lnTo>
                  <a:pt x="19325" y="4707"/>
                </a:lnTo>
                <a:lnTo>
                  <a:pt x="19325" y="8224"/>
                </a:lnTo>
                <a:close/>
              </a:path>
              <a:path fill="darkenLess" w="29947" h="21600">
                <a:moveTo>
                  <a:pt x="14051" y="14299"/>
                </a:moveTo>
                <a:lnTo>
                  <a:pt x="15896" y="14299"/>
                </a:lnTo>
                <a:lnTo>
                  <a:pt x="15896" y="17989"/>
                </a:lnTo>
                <a:lnTo>
                  <a:pt x="20283" y="17989"/>
                </a:lnTo>
                <a:lnTo>
                  <a:pt x="20283" y="10800"/>
                </a:lnTo>
                <a:lnTo>
                  <a:pt x="9664" y="10800"/>
                </a:lnTo>
                <a:lnTo>
                  <a:pt x="9664" y="17989"/>
                </a:lnTo>
                <a:lnTo>
                  <a:pt x="14051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1258920" y="4221000"/>
            <a:ext cx="2521080" cy="179892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4211640" y="4221000"/>
            <a:ext cx="2089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да, вода, кругом вода…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се обходят это место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десь земля, как будто тесто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десь осока, кочки, мхи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ет опоры для ног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>
            <a:hlinkClick r:id="" action="ppaction://hlinkshowjump?jump=firstslide"/>
          </p:cNvPr>
          <p:cNvSpPr/>
          <p:nvPr/>
        </p:nvSpPr>
        <p:spPr>
          <a:xfrm>
            <a:off x="7885080" y="5589720"/>
            <a:ext cx="1008000" cy="107928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79280"/>
              <a:gd name="textAreaBottom" fmla="*/ 1014120 h 1079280"/>
            </a:gdLst>
            <a:ahLst/>
            <a:rect l="textAreaLeft" t="textAreaTop" r="textAreaRight" b="textAreaBottom"/>
            <a:pathLst>
              <a:path w="21600" h="23127">
                <a:moveTo>
                  <a:pt x="0" y="0"/>
                </a:moveTo>
                <a:lnTo>
                  <a:pt x="21600" y="0"/>
                </a:lnTo>
                <a:lnTo>
                  <a:pt x="21600" y="23127"/>
                </a:lnTo>
                <a:lnTo>
                  <a:pt x="0" y="23127"/>
                </a:lnTo>
                <a:close/>
              </a:path>
              <a:path fill="lightenLess" w="21600" h="231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7">
                <a:moveTo>
                  <a:pt x="21600" y="0"/>
                </a:moveTo>
                <a:lnTo>
                  <a:pt x="21600" y="23127"/>
                </a:lnTo>
                <a:lnTo>
                  <a:pt x="20200" y="21727"/>
                </a:lnTo>
                <a:lnTo>
                  <a:pt x="20200" y="1400"/>
                </a:lnTo>
                <a:close/>
              </a:path>
              <a:path fill="darkenLess" w="21600" h="23127">
                <a:moveTo>
                  <a:pt x="21600" y="23127"/>
                </a:moveTo>
                <a:lnTo>
                  <a:pt x="0" y="23127"/>
                </a:lnTo>
                <a:lnTo>
                  <a:pt x="1400" y="21727"/>
                </a:lnTo>
                <a:lnTo>
                  <a:pt x="20200" y="21727"/>
                </a:lnTo>
                <a:close/>
              </a:path>
              <a:path fill="lighten" w="21600" h="23127">
                <a:moveTo>
                  <a:pt x="0" y="231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7"/>
                </a:lnTo>
                <a:close/>
              </a:path>
              <a:path fill="darken" w="21600" h="23127">
                <a:moveTo>
                  <a:pt x="10800" y="4600"/>
                </a:moveTo>
                <a:lnTo>
                  <a:pt x="13376" y="7212"/>
                </a:lnTo>
                <a:lnTo>
                  <a:pt x="13376" y="5471"/>
                </a:lnTo>
                <a:lnTo>
                  <a:pt x="15152" y="5471"/>
                </a:lnTo>
                <a:lnTo>
                  <a:pt x="15152" y="8987"/>
                </a:lnTo>
                <a:lnTo>
                  <a:pt x="17763" y="11563"/>
                </a:lnTo>
                <a:lnTo>
                  <a:pt x="16109" y="11563"/>
                </a:lnTo>
                <a:lnTo>
                  <a:pt x="16109" y="18753"/>
                </a:lnTo>
                <a:lnTo>
                  <a:pt x="5491" y="18753"/>
                </a:lnTo>
                <a:lnTo>
                  <a:pt x="5491" y="11563"/>
                </a:lnTo>
                <a:lnTo>
                  <a:pt x="3837" y="11563"/>
                </a:lnTo>
                <a:close/>
              </a:path>
              <a:path fill="darkenLess" w="21600" h="23127">
                <a:moveTo>
                  <a:pt x="13376" y="7212"/>
                </a:moveTo>
                <a:lnTo>
                  <a:pt x="13376" y="5471"/>
                </a:lnTo>
                <a:lnTo>
                  <a:pt x="15152" y="5471"/>
                </a:lnTo>
                <a:lnTo>
                  <a:pt x="15152" y="8987"/>
                </a:lnTo>
                <a:close/>
              </a:path>
              <a:path fill="darkenLess" w="21600" h="23127">
                <a:moveTo>
                  <a:pt x="9877" y="15062"/>
                </a:moveTo>
                <a:lnTo>
                  <a:pt x="11723" y="15062"/>
                </a:lnTo>
                <a:lnTo>
                  <a:pt x="11723" y="18753"/>
                </a:lnTo>
                <a:lnTo>
                  <a:pt x="16109" y="18753"/>
                </a:lnTo>
                <a:lnTo>
                  <a:pt x="16109" y="11563"/>
                </a:lnTo>
                <a:lnTo>
                  <a:pt x="5491" y="11563"/>
                </a:lnTo>
                <a:lnTo>
                  <a:pt x="5491" y="18753"/>
                </a:lnTo>
                <a:lnTo>
                  <a:pt x="9877" y="18753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056360" cy="47228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755640" y="2205000"/>
            <a:ext cx="6985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оло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ой воды на Земле больше всего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да, вода, кругом вода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411280" y="4292640"/>
            <a:ext cx="4176720" cy="138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олён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4" name="">
            <a:hlinkClick r:id="" action="ppaction://hlinkshowjump?jump=firstslide"/>
          </p:cNvPr>
          <p:cNvSpPr/>
          <p:nvPr/>
        </p:nvSpPr>
        <p:spPr>
          <a:xfrm>
            <a:off x="7885080" y="5734080"/>
            <a:ext cx="1258920" cy="934920"/>
          </a:xfrm>
          <a:custGeom>
            <a:avLst/>
            <a:gdLst>
              <a:gd name="textAreaLeft" fmla="*/ 60480 w 1258920"/>
              <a:gd name="textAreaRight" fmla="*/ 1198440 w 12589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9083" h="21600">
                <a:moveTo>
                  <a:pt x="0" y="0"/>
                </a:moveTo>
                <a:lnTo>
                  <a:pt x="29083" y="0"/>
                </a:lnTo>
                <a:lnTo>
                  <a:pt x="29083" y="21600"/>
                </a:lnTo>
                <a:lnTo>
                  <a:pt x="0" y="21600"/>
                </a:lnTo>
                <a:close/>
              </a:path>
              <a:path fill="lightenLess" w="29083" h="21600">
                <a:moveTo>
                  <a:pt x="0" y="0"/>
                </a:moveTo>
                <a:lnTo>
                  <a:pt x="29083" y="0"/>
                </a:lnTo>
                <a:lnTo>
                  <a:pt x="27683" y="1400"/>
                </a:lnTo>
                <a:lnTo>
                  <a:pt x="1400" y="1400"/>
                </a:lnTo>
                <a:close/>
              </a:path>
              <a:path fill="darken" w="29083" h="21600">
                <a:moveTo>
                  <a:pt x="29083" y="0"/>
                </a:moveTo>
                <a:lnTo>
                  <a:pt x="29083" y="21600"/>
                </a:lnTo>
                <a:lnTo>
                  <a:pt x="27683" y="20200"/>
                </a:lnTo>
                <a:lnTo>
                  <a:pt x="27683" y="1400"/>
                </a:lnTo>
                <a:close/>
              </a:path>
              <a:path fill="darkenLess" w="29083" h="21600">
                <a:moveTo>
                  <a:pt x="2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83" y="20200"/>
                </a:lnTo>
                <a:close/>
              </a:path>
              <a:path fill="lighten" w="2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83" h="21600">
                <a:moveTo>
                  <a:pt x="14541" y="3837"/>
                </a:moveTo>
                <a:lnTo>
                  <a:pt x="17118" y="6448"/>
                </a:lnTo>
                <a:lnTo>
                  <a:pt x="17118" y="4707"/>
                </a:lnTo>
                <a:lnTo>
                  <a:pt x="18893" y="4707"/>
                </a:lnTo>
                <a:lnTo>
                  <a:pt x="18893" y="8224"/>
                </a:lnTo>
                <a:lnTo>
                  <a:pt x="21504" y="10800"/>
                </a:lnTo>
                <a:lnTo>
                  <a:pt x="19851" y="10800"/>
                </a:lnTo>
                <a:lnTo>
                  <a:pt x="19851" y="17989"/>
                </a:lnTo>
                <a:lnTo>
                  <a:pt x="9232" y="17989"/>
                </a:lnTo>
                <a:lnTo>
                  <a:pt x="9232" y="10800"/>
                </a:lnTo>
                <a:lnTo>
                  <a:pt x="7578" y="10800"/>
                </a:lnTo>
                <a:close/>
              </a:path>
              <a:path fill="darkenLess" w="29083" h="21600">
                <a:moveTo>
                  <a:pt x="17118" y="6448"/>
                </a:moveTo>
                <a:lnTo>
                  <a:pt x="17118" y="4707"/>
                </a:lnTo>
                <a:lnTo>
                  <a:pt x="18893" y="4707"/>
                </a:lnTo>
                <a:lnTo>
                  <a:pt x="18893" y="8224"/>
                </a:lnTo>
                <a:close/>
              </a:path>
              <a:path fill="darkenLess" w="29083" h="21600">
                <a:moveTo>
                  <a:pt x="13619" y="14299"/>
                </a:moveTo>
                <a:lnTo>
                  <a:pt x="15464" y="14299"/>
                </a:lnTo>
                <a:lnTo>
                  <a:pt x="15464" y="17989"/>
                </a:lnTo>
                <a:lnTo>
                  <a:pt x="19851" y="17989"/>
                </a:lnTo>
                <a:lnTo>
                  <a:pt x="19851" y="10800"/>
                </a:lnTo>
                <a:lnTo>
                  <a:pt x="9232" y="10800"/>
                </a:lnTo>
                <a:lnTo>
                  <a:pt x="9232" y="17989"/>
                </a:lnTo>
                <a:lnTo>
                  <a:pt x="13619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Какое озеро на Земле самое глубокое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да, вода, кругом вода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firstslide"/>
          </p:cNvPr>
          <p:cNvSpPr/>
          <p:nvPr/>
        </p:nvSpPr>
        <p:spPr>
          <a:xfrm>
            <a:off x="7740720" y="5661000"/>
            <a:ext cx="1152360" cy="1008000"/>
          </a:xfrm>
          <a:custGeom>
            <a:avLst/>
            <a:gdLst>
              <a:gd name="textAreaLeft" fmla="*/ 65160 w 1152360"/>
              <a:gd name="textAreaRight" fmla="*/ 1087200 w 1152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3837"/>
                </a:moveTo>
                <a:lnTo>
                  <a:pt x="14922" y="6448"/>
                </a:ln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lnTo>
                  <a:pt x="19309" y="10800"/>
                </a:lnTo>
                <a:lnTo>
                  <a:pt x="17655" y="10800"/>
                </a:lnTo>
                <a:lnTo>
                  <a:pt x="17655" y="17989"/>
                </a:lnTo>
                <a:lnTo>
                  <a:pt x="7037" y="17989"/>
                </a:lnTo>
                <a:lnTo>
                  <a:pt x="7037" y="10800"/>
                </a:lnTo>
                <a:lnTo>
                  <a:pt x="5383" y="10800"/>
                </a:lnTo>
                <a:close/>
              </a:path>
              <a:path fill="darkenLess" w="24692" h="21600">
                <a:moveTo>
                  <a:pt x="14922" y="6448"/>
                </a:move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close/>
              </a:path>
              <a:path fill="darkenLess" w="24692" h="21600">
                <a:moveTo>
                  <a:pt x="11424" y="14299"/>
                </a:moveTo>
                <a:lnTo>
                  <a:pt x="13269" y="14299"/>
                </a:lnTo>
                <a:lnTo>
                  <a:pt x="13269" y="17989"/>
                </a:lnTo>
                <a:lnTo>
                  <a:pt x="17655" y="17989"/>
                </a:lnTo>
                <a:lnTo>
                  <a:pt x="17655" y="10800"/>
                </a:lnTo>
                <a:lnTo>
                  <a:pt x="7037" y="10800"/>
                </a:lnTo>
                <a:lnTo>
                  <a:pt x="7037" y="17989"/>
                </a:lnTo>
                <a:lnTo>
                  <a:pt x="11424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273800" cy="47577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2050920" y="5541840"/>
            <a:ext cx="460872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йк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т природный объект стал одни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 7 чудес Калужской обла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да, вода, кругом вода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258920" y="2924280"/>
            <a:ext cx="6012000" cy="3627360"/>
          </a:xfrm>
          <a:prstGeom prst="rect">
            <a:avLst/>
          </a:prstGeom>
          <a:ln w="76320">
            <a:solidFill>
              <a:srgbClr val="99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0:17:19Z</dcterms:created>
  <dc:creator>1</dc:creator>
  <dc:description/>
  <dc:language>en-US</dc:language>
  <cp:lastModifiedBy>1</cp:lastModifiedBy>
  <dcterms:modified xsi:type="dcterms:W3CDTF">2010-04-20T19:38:20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