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1A5-DF2F-4507-A940-07998D18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F33-EB34-46DC-9C64-57102158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979-2C1A-4023-B5E7-27263087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CE3-3044-4BF2-91A4-60D42E3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A91-ED34-46DB-B327-063B9E1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518-9115-460A-BADF-1EFF012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845-24C7-40EB-9001-2DADD7D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5E3-5E3B-4581-AE44-A8C2EA0B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BCE-7651-4EFC-84A3-BC6B143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796-A3E6-4218-A720-7F1131A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E26-0F49-4927-B198-0B38868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14D-4C6C-4901-B033-9F68865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781E-E8D5-4AD4-A4BA-97F34BFBD1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836640" y="873000"/>
            <a:ext cx="5313240" cy="73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1052640" y="900000"/>
            <a:ext cx="49212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765000" y="826920"/>
            <a:ext cx="5389560" cy="74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052640" y="900000"/>
            <a:ext cx="49212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4:52:22Z</dcterms:created>
  <dc:creator>Nataly</dc:creator>
  <dc:description/>
  <dc:language>en-US</dc:language>
  <cp:lastModifiedBy>Nataly</cp:lastModifiedBy>
  <dcterms:modified xsi:type="dcterms:W3CDTF">2014-11-06T14:56:49Z</dcterms:modified>
  <cp:revision>1</cp:revision>
  <dc:subject/>
  <dc:title>Презентация PowerPoint</dc:title>
</cp:coreProperties>
</file>