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7D9-21E4-4647-9792-601935B6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F71-CBAD-477F-B378-08714AEB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C43-7054-4FAC-81B8-ABD8D04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6C3-16AF-43B9-8C8F-92BA013C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A492F-76FD-42FA-8E9E-E9641BD0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E562B-7B91-496F-8864-3BE0115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6C93-473B-4C5A-AFF3-51A3071E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1B92D-28CE-458A-869F-F6C6233E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1C81A-BBF5-49A3-B81A-2271C649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3AE9A-AAAD-42DA-9A97-A4F2216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90EE8-76E3-47D1-9DE0-EE24267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118-4355-4516-BCF9-CDC1C420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35DC-262B-4FF9-90B5-E8F86E3B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66197-899A-4E31-814F-EB913695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A4E72-4B23-4906-A745-47CE36F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D9D16-0079-423E-ADEC-AFE86BBF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DF13C-9C8C-490F-86F6-01BE3891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098-2ACE-4417-B567-D48597D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4CB-9755-43EA-B734-88C15473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A06-7C92-408E-933D-531224E8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446-9864-4151-9D4D-0E13A0F1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D31-61A0-4C77-A210-3D9362F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01A-97FD-4C31-A368-54944963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E95-D316-42F6-B136-F96A00D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E5CB-110E-49CF-A58F-24D7348FC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7F0-21C3-4FBE-A31E-5BFF1933A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485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Литературная гостиная 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Светлая душа» 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свящённая 230 – летию со дня рождения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силия Андреевича Жуковского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43280" y="2421000"/>
            <a:ext cx="36003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464000" cy="6121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692280"/>
            <a:ext cx="3961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уковский – один из создателей русской романтической поэзии. Основная тема его баллад – преступление и наказание, добро и зло. Постоянный герой – сильная личность. Особое место среди произведений Жуковского занимают баллады, посвященные любв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Людмила» , « Светлана» , «Эолова арфа». Главное здесь для поэта – успокоить, наставить на путь истинный влюбленное человека, пережившего трагедию в люб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640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завета Рейтерн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жена В.А.Жуковского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9960" cy="5327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628640"/>
            <a:ext cx="45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ю семью Жуковский обрел лишь 21 мая 1841 года, обвенчавшись в русской и лютеранской церквах в Штутгарте с Елизаветой Рейтерн, дочерью своего друга художника Е. Р. Рейте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ександра Васильевна Жуковская - дочь поэ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7280" y="189000"/>
            <a:ext cx="4103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крополь Александро-Невской лавры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дгробие на могиле В.А.Жуковск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832360" cy="324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89000"/>
            <a:ext cx="889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 августа 1852 года сердце Жуковского перестало биться. Последний год своей жизни он, полуослепший, затворился в тёмной комнате своего дома в Баден-Бадене, писал стихи и всё ещё надеялся вернуться на Родину в Росс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он вернулс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29 августа он был похоронен в Санкт-Петербурге на кладбище Александро-Невской Лавры, рядом с Н.М.Карамзи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ник Жуковскому в Александровском са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2865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истине, как голубь, чист и ц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н духом был; хоть мудрости змеи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е презирал, понять её ум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о веял в нём дух чисто голубин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И этою духовной чистот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н возмужал, окреп и просветл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уша его возвысилась до строю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н стройно жил, он стройно пел…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И этот-то души высокий стр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оздавший жизнь его, проникший лир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ак лучший плод, как лучший подвиг св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н завещал взволнованному миру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Ф.И.Тютч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«Неизмерим подвиг Жуковского и велико значение его в русской литературе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.Г.Бели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«Пример добрых дел есть лучшее , что мы можем даровать тем , кто живёт вместе с нами; память добрых дел есть лучшее , что можем оставить тем , кто будет жить после нас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.А.Жу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«При мысли великой , что я человек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сегда возвышаюсь душою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.А.Жу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005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Его стихов пленительная слад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Пройдёт веков завистливую д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И, внемля им , вздохнёт о славе младос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Утешится безмолвная печа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И резвая задумается рад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А.Пушк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331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А. Жуковский родился 29 января ( 9 февраля ) 1783 года в селе Мишенском Белевского уезда Тульской губернии. Его отцом был помещик Афанасий Иванович Бунин, а матерью – пленная турчанка Сальха. В России её окрестили и назвали Елизаветой Дементьевной Турчанино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ёнок считался «незаконнорождённым», и двусмысленность своего положения Жуковский, живший в семье Бунина, остро чувствовал и переживал. Однако к мальчику относились милостиво, особенно его сестра по отцу Варвара Афанасьевна. По тогдашним законам, ребёнок, рождённый вне брака, не считался дворянином. А.И.Бунин, заботясь о судьбе сына, пожелал, чтобы, живший в доме бедный дворянин, Андрей Григорьевич усыновил мальч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4392720" cy="4753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4920" y="479736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завета Дементьевна Турчанинова(мать В.Жуковског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600720" cy="4221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00720" y="465300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рия Андреевна Протас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521964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жизни поэта наступает один из самых драматичных периодов. Роман с Марией Андреевной Протасовой нанёс Жуковскому глубокую рану. Она была необыкновенно обаятельно, хотя и не отличалась красотой, - живая, остроумная, простая, сочетающая ум с воображением, доброту с образованностью. История этой безысходной любви нашла отражение в цикле любовных песен и романсов. По ним можно проследить перипетии этого чувства, глубокого и чистого во всех его состоян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й друг, хранитель-ангел м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 ты, с которой нет сравнень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юблю тебя, дышу тоб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81636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93236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стальная чистота Жуковского видна и в отношении с Пушкиным, перед которым поэт скромно склонял свою голову как перед гением русской поэз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15 году, едва познакомившись с Пушкиным, Жуковский писал Вяземском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Это надежна нашей словесности… Нам всем надобно соединиться, чтобы помочь вырасти этому будущему гиганту, который всех нас перерастёт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призыве – весь Жуковский. Его «светлая душа» , как назвал его душу Пушкин, не знала зависти. И этого гения Жуковский взял под свою опе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0" y="479700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ылов, Пушкин, Жуковский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недич в Летнем са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67440" cy="4813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89000"/>
            <a:ext cx="45007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окинуть взглядом даль русской поэзии, то среди немногих всегда заметных ее творцов будет возвышаться Василий Андреевич Жуковский, учитель Пушкина и сам великий русский поэт. Пушкин – солнце, Жуковский – вечерняя звезда первой величины, причем звезда глубокого живого мерцания. Василий Андреевич в 1820 году подарил Пушкину портрет с известной надписью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обедителю – ученику от побежденного учител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88000" y="530028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.А.Жуковский с будущим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ледником престо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5184720" cy="4273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549360"/>
            <a:ext cx="36352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25 году он стал воспитателем наследника престола. «В плане учения» для наследника Жуковский записа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Цель воспитания вообще и учение в особенности есть образование для добродетел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ликий князь по его расписанию должен был подниматься в 6 утра и приступать к занятиям. Жуковский объездил с ним в 1837 году всю Россию ( чтобы будущий царь знал, в какой стране живёт ) , а после и Европ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0:23:45Z</dcterms:created>
  <dc:creator>user</dc:creator>
  <dc:description/>
  <dc:language>en-US</dc:language>
  <cp:lastModifiedBy>User</cp:lastModifiedBy>
  <dcterms:modified xsi:type="dcterms:W3CDTF">2014-10-28T14:26:55Z</dcterms:modified>
  <cp:revision>15</cp:revision>
  <dc:subject/>
  <dc:title>  Литературная гостиная   «Светлая душа» , посвящённая 230 – летию со дня рождения Василия Андреевича Жуковского. </dc:title>
</cp:coreProperties>
</file>