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342-E91F-4797-911F-6557B984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723-8627-486F-940D-B51F12A2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CCE-3013-4B88-B752-3F8F5B38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200-6952-4794-AF0B-FD102B41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391-5E9B-48AA-9E18-ED2B79C4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44A-8186-4A3D-9090-B39B3DF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071-085A-4477-AC0D-D7779763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D12-B6F1-42D8-BA4F-8EBB1F3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0A3-9786-4E26-B2FB-5E6FEEEE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E20-6613-44E2-94BF-84EF7BA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170-6EDD-4682-A785-11A5D6C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1C2-6E3B-48C5-B2EF-7AF1267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2C5D-9B8C-403F-9E52-055B9E96D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63128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2837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0920" y="1278000"/>
            <a:ext cx="889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читаются незнаком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игма” - “фи” - “ипсилон” - “ню” - “кс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СФИНКС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600200"/>
          <a:ext cx="8291520" cy="1108080"/>
        </p:xfrm>
        <a:graphic>
          <a:graphicData uri="http://schemas.openxmlformats.org/drawingml/2006/table">
            <a:tbl>
              <a:tblPr/>
              <a:tblGrid>
                <a:gridCol w="1184400"/>
                <a:gridCol w="1184040"/>
                <a:gridCol w="1184400"/>
                <a:gridCol w="1185840"/>
                <a:gridCol w="1184400"/>
                <a:gridCol w="1184040"/>
                <a:gridCol w="1184400"/>
              </a:tblGrid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8000" y="476280"/>
            <a:ext cx="8928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отгадать слово и указанные буквы подставить в определенные ячейки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Это здание находится на Дворцовой площади, напротив Зимнего дворца (в слове 4 буквы, выделить 2 и вписать вместо клеток с цифрами 2 и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лонна, расположенная на Дворцовой площади(1 букву поставить на 1 клетку, 6 букву на 4 клетку, 2  букву на 3 клетку, 7 букву на 5 клетку), + 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ый Эрмита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4319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1600200"/>
          <a:ext cx="8578800" cy="1108080"/>
        </p:xfrm>
        <a:graphic>
          <a:graphicData uri="http://schemas.openxmlformats.org/drawingml/2006/table">
            <a:tbl>
              <a:tblPr/>
              <a:tblGrid>
                <a:gridCol w="1716120"/>
                <a:gridCol w="1716120"/>
                <a:gridCol w="1714320"/>
                <a:gridCol w="1716120"/>
                <a:gridCol w="1716120"/>
              </a:tblGrid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Именно ей посвящен памятник на площади Островского(выдели 5 букву и поставь на 4 клет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Именно такой штаб на Дворцовой площади (1 буква слова заменит цифру 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Два архитектурных сооружения отделяют Аничков дворец от пл. Островского (1 на место цифры 1,  8 на место цифры 2,  5 на место цифры 5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5:49:55Z</dcterms:created>
  <dc:creator>Оля</dc:creator>
  <dc:description/>
  <dc:language>en-US</dc:language>
  <cp:lastModifiedBy>Sony</cp:lastModifiedBy>
  <dcterms:modified xsi:type="dcterms:W3CDTF">2014-11-06T21:34:20Z</dcterms:modified>
  <cp:revision>10</cp:revision>
  <dc:subject/>
  <dc:title>Повторение</dc:title>
</cp:coreProperties>
</file>