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DB3-2C80-4428-9E7F-5D1ECDC4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0CA-57E5-4C59-BE8A-18AACBC5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ADF-C964-45E2-9877-28C4B945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8C1-3041-42E1-9E62-81CD4D32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3ECD0-6A38-4948-9B39-2A59E79A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7FB3B-865B-4C2B-A30E-8FC477CC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2441A-9458-4E2A-8CE5-8189C66C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93A49-1473-4FB3-9239-C2CAA058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B212E-3CEA-41FC-9A90-2F22B510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F2EC6-C075-4896-8AC8-9236E0A6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8F23C-4F38-45DB-AC00-03AE2725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AB7-2497-4945-8353-49F06A9C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01300-7D13-40FD-A96B-DF4AE134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5477A-61BD-46CD-B033-94D0B83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9CB65-56A6-4EF7-8113-BF331B7F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42DCF-EB29-4995-82FA-886F8441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691E3-8E86-4ACD-AD52-3DFAFE87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F656-D251-4BC8-972D-056E7721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99C1-F389-4509-93A2-4ADE95A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C3B15-1BE0-4DC9-8EB5-2E2D61AE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1C62-CE9E-49D1-8F5A-CB386015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EEEF-8DF7-4D98-B00A-AF8A8D6F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999-1BD0-490D-BB61-3987D58C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F926-5782-47A0-98C6-B1803740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28F7C-8C2F-4B81-A3C5-E97967D1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C4C0-54EC-4C8C-8A60-80B1CA7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14B3-6B0A-421B-B634-0657614F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8296-C329-48E5-BB08-BF71AD35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2E24-19C3-4BAB-B00D-AF25565B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F1852-74E9-4F54-95A1-0F778D8F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B80B98-FB85-4592-A37E-874B047E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C11CE-19B9-4C89-BF56-856D2FD8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AFD341-68AB-4C57-89AB-FA33A183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1B3-1857-4A33-A738-2AA1440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4EE83-F19E-44CB-8E10-8FFAE50C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38777-87F0-4FD7-AFC5-0073A2C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F7981-A078-4024-A9E7-E64B2D00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5DF12-471F-432E-B33D-83920150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EBF54-6250-4127-8527-8BB2CA06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7B9790-75DF-4179-A0A1-446E39EC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0887C-9ED9-4D52-A10C-F8FA160D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DB2B5-2136-4D03-8A69-686A53FC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51BC8-315E-4965-8F1F-CB7B0CBB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964-161D-47F4-AF93-46EF9421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C6D-35B1-41FB-83F4-26A474DA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71B-E6BE-44F1-A8EB-9AD63D13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E54-2315-4C19-876C-C591F9E1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48C-8526-45BF-8B16-C9982672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AF72-5C6F-4F5C-9FB4-B6BC2136EB92}" type="slidenum">
              <a:rPr b="0" lang="en-US" sz="18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612800" y="3913200"/>
            <a:ext cx="327672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5191200" y="3913200"/>
            <a:ext cx="32763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5005440" y="3887640"/>
            <a:ext cx="50760" cy="493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38FC-DAC1-43D1-B0BA-59DE757D5AC4}" type="slidenum">
              <a:rPr b="0" lang="en-US" sz="18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2538-0A07-49B4-AAEC-3AC4E4B00D19}" type="slidenum">
              <a:rPr b="0" lang="en-US" sz="18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620640" y="2403360"/>
            <a:ext cx="41324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5241960" y="2403360"/>
            <a:ext cx="413208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380B-C59C-410F-8920-79EB488752A5}" type="slidenum">
              <a:rPr b="0" lang="en-US" sz="18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96720" y="565200"/>
            <a:ext cx="3929040" cy="5508720"/>
          </a:xfrm>
          <a:prstGeom prst="rect">
            <a:avLst/>
          </a:prstGeom>
          <a:ln w="0">
            <a:noFill/>
          </a:ln>
        </p:spPr>
      </p:pic>
      <p:pic>
        <p:nvPicPr>
          <p:cNvPr id="247" name="Заголовок 4" descr=""/>
          <p:cNvPicPr/>
          <p:nvPr/>
        </p:nvPicPr>
        <p:blipFill>
          <a:blip r:embed="rId2"/>
          <a:stretch/>
        </p:blipFill>
        <p:spPr>
          <a:xfrm>
            <a:off x="4322880" y="347760"/>
            <a:ext cx="5259240" cy="6796080"/>
          </a:xfrm>
          <a:prstGeom prst="rect">
            <a:avLst/>
          </a:prstGeom>
          <a:ln w="0">
            <a:noFill/>
          </a:ln>
        </p:spPr>
      </p:pic>
      <p:pic>
        <p:nvPicPr>
          <p:cNvPr id="248" name="oktyabrj.mp3" descr=""/>
          <p:cNvPicPr/>
          <p:nvPr/>
        </p:nvPicPr>
        <p:blipFill>
          <a:blip r:embed="rId3"/>
          <a:stretch/>
        </p:blipFill>
        <p:spPr>
          <a:xfrm>
            <a:off x="682560" y="35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1" descr=""/>
          <p:cNvPicPr/>
          <p:nvPr/>
        </p:nvPicPr>
        <p:blipFill>
          <a:blip r:embed="rId1"/>
          <a:stretch/>
        </p:blipFill>
        <p:spPr>
          <a:xfrm>
            <a:off x="536400" y="291960"/>
            <a:ext cx="8936280" cy="1281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930240" y="2101320"/>
            <a:ext cx="4106880" cy="4761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5111280" y="1541160"/>
            <a:ext cx="4705560" cy="6018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14400" indent="0" algn="ctr">
              <a:lnSpc>
                <a:spcPct val="95000"/>
              </a:lnSpc>
              <a:spcBef>
                <a:spcPts val="663"/>
              </a:spcBef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курчавые волосы, смуглое лицо, тёмно-серые с синеватым отливом глаза, большие, ясные. Весь облик его был исполнен обаяния и благородства. “Я никогда не видала лица более выразительного: умное, доброе, энергичное”,-говорила позднее Никольская. Она с упоением слушала незнакомого гостя, восхищаясь блеском его живого, искрящегося умом и веселостью разговора. “Он хорошо говорил: ах сколько было ума и жизни в его неискусственной речи!” - вспоминала она. В этих словах верно была отмечена ещё одна замечательная сторона гения Пушкина -  блестящий дар живой, увлекательной речи. Лишь после того как гость откланялся и уехал, торопясь  в Казань, Никольская узнала, что это был прославленный поэт – Пушкин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3"/>
          <a:stretch/>
        </p:blipFill>
        <p:spPr>
          <a:xfrm>
            <a:off x="611280" y="1565280"/>
            <a:ext cx="460692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1" descr=""/>
          <p:cNvPicPr/>
          <p:nvPr/>
        </p:nvPicPr>
        <p:blipFill>
          <a:blip r:embed="rId1"/>
          <a:stretch/>
        </p:blipFill>
        <p:spPr>
          <a:xfrm>
            <a:off x="390600" y="195120"/>
            <a:ext cx="9393120" cy="15908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968360" y="1785960"/>
            <a:ext cx="4613400" cy="577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85000"/>
              </a:lnSpc>
              <a:spcBef>
                <a:spcPts val="663"/>
              </a:spcBef>
              <a:buNone/>
              <a:tabLst>
                <a:tab algn="l" pos="0"/>
                <a:tab algn="l" pos="398520"/>
                <a:tab algn="l" pos="847800"/>
                <a:tab algn="l" pos="1297080"/>
                <a:tab algn="l" pos="1746360"/>
                <a:tab algn="l" pos="2195640"/>
                <a:tab algn="l" pos="2644920"/>
                <a:tab algn="l" pos="3094200"/>
                <a:tab algn="l" pos="3543480"/>
                <a:tab algn="l" pos="3992400"/>
                <a:tab algn="l" pos="4441680"/>
                <a:tab algn="l" pos="4890960"/>
                <a:tab algn="l" pos="5340240"/>
                <a:tab algn="l" pos="5789520"/>
                <a:tab algn="l" pos="6238800"/>
                <a:tab algn="l" pos="6688080"/>
                <a:tab algn="l" pos="7137360"/>
                <a:tab algn="l" pos="7586640"/>
                <a:tab algn="l" pos="8035920"/>
                <a:tab algn="l" pos="8485200"/>
                <a:tab algn="l" pos="893448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Tahoma"/>
                <a:ea typeface="Tahoma"/>
              </a:rPr>
              <a:t>Тотчас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GB" sz="1100" spc="-1" strike="noStrike">
                <a:solidFill>
                  <a:srgbClr val="ffffff"/>
                </a:solidFill>
                <a:latin typeface="Tahoma"/>
                <a:ea typeface="Tahoma"/>
              </a:rPr>
              <a:t>по его отъезде он пишет оренбургскому губернатору В.А. Перовскому письмо, в котором спешит предупредить его о тайных целях поездки поэта: “У нас недавно проезжал Пушкин. Я, зная, кто он, обласкал его, но должно признаться, никак не верю, чтобы он разъезжал за документами о Пугачёвском бунте; должно быть ему дали тайное поручение собрать сведения о неисправностях. Вы знаете моё к вам расположение; я почёл долгом посоветовать, чтобы вы были осторожнее.” Утром 20 сентября Перовский прочел Пушкину письмо Бутурлина.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5000"/>
              </a:lnSpc>
              <a:spcBef>
                <a:spcPts val="663"/>
              </a:spcBef>
              <a:buNone/>
              <a:tabLst>
                <a:tab algn="l" pos="0"/>
                <a:tab algn="l" pos="398520"/>
                <a:tab algn="l" pos="847800"/>
                <a:tab algn="l" pos="1297080"/>
                <a:tab algn="l" pos="1746360"/>
                <a:tab algn="l" pos="2195640"/>
                <a:tab algn="l" pos="2644920"/>
                <a:tab algn="l" pos="3094200"/>
                <a:tab algn="l" pos="3543480"/>
                <a:tab algn="l" pos="3992400"/>
                <a:tab algn="l" pos="4441680"/>
                <a:tab algn="l" pos="4890960"/>
                <a:tab algn="l" pos="5340240"/>
                <a:tab algn="l" pos="5789520"/>
                <a:tab algn="l" pos="6238800"/>
                <a:tab algn="l" pos="6688080"/>
                <a:tab algn="l" pos="7137360"/>
                <a:tab algn="l" pos="7586640"/>
                <a:tab algn="l" pos="8035920"/>
                <a:tab algn="l" pos="8485200"/>
                <a:tab algn="l" pos="893448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5000"/>
              </a:lnSpc>
              <a:spcBef>
                <a:spcPts val="663"/>
              </a:spcBef>
              <a:buNone/>
              <a:tabLst>
                <a:tab algn="l" pos="0"/>
                <a:tab algn="l" pos="398520"/>
                <a:tab algn="l" pos="847800"/>
                <a:tab algn="l" pos="1297080"/>
                <a:tab algn="l" pos="1746360"/>
                <a:tab algn="l" pos="2195640"/>
                <a:tab algn="l" pos="2644920"/>
                <a:tab algn="l" pos="3094200"/>
                <a:tab algn="l" pos="3543480"/>
                <a:tab algn="l" pos="3992400"/>
                <a:tab algn="l" pos="4441680"/>
                <a:tab algn="l" pos="4890960"/>
                <a:tab algn="l" pos="5340240"/>
                <a:tab algn="l" pos="5789520"/>
                <a:tab algn="l" pos="6238800"/>
                <a:tab algn="l" pos="6688080"/>
                <a:tab algn="l" pos="7137360"/>
                <a:tab algn="l" pos="7586640"/>
                <a:tab algn="l" pos="8035920"/>
                <a:tab algn="l" pos="8485200"/>
                <a:tab algn="l" pos="89344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5000"/>
              </a:lnSpc>
              <a:spcBef>
                <a:spcPts val="663"/>
              </a:spcBef>
              <a:buNone/>
              <a:tabLst>
                <a:tab algn="l" pos="0"/>
                <a:tab algn="l" pos="398520"/>
                <a:tab algn="l" pos="847800"/>
                <a:tab algn="l" pos="1297080"/>
                <a:tab algn="l" pos="1746360"/>
                <a:tab algn="l" pos="2195640"/>
                <a:tab algn="l" pos="2644920"/>
                <a:tab algn="l" pos="3094200"/>
                <a:tab algn="l" pos="3543480"/>
                <a:tab algn="l" pos="3992400"/>
                <a:tab algn="l" pos="4441680"/>
                <a:tab algn="l" pos="4890960"/>
                <a:tab algn="l" pos="5340240"/>
                <a:tab algn="l" pos="5789520"/>
                <a:tab algn="l" pos="6238800"/>
                <a:tab algn="l" pos="6688080"/>
                <a:tab algn="l" pos="7137360"/>
                <a:tab algn="l" pos="7586640"/>
                <a:tab algn="l" pos="8035920"/>
                <a:tab algn="l" pos="8485200"/>
                <a:tab algn="l" pos="89344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5000"/>
              </a:lnSpc>
              <a:spcBef>
                <a:spcPts val="663"/>
              </a:spcBef>
              <a:buNone/>
              <a:tabLst>
                <a:tab algn="l" pos="0"/>
                <a:tab algn="l" pos="398520"/>
                <a:tab algn="l" pos="847800"/>
                <a:tab algn="l" pos="1297080"/>
                <a:tab algn="l" pos="1746360"/>
                <a:tab algn="l" pos="2195640"/>
                <a:tab algn="l" pos="2644920"/>
                <a:tab algn="l" pos="3094200"/>
                <a:tab algn="l" pos="3543480"/>
                <a:tab algn="l" pos="3992400"/>
                <a:tab algn="l" pos="4441680"/>
                <a:tab algn="l" pos="4890960"/>
                <a:tab algn="l" pos="5340240"/>
                <a:tab algn="l" pos="5789520"/>
                <a:tab algn="l" pos="6238800"/>
                <a:tab algn="l" pos="6688080"/>
                <a:tab algn="l" pos="7137360"/>
                <a:tab algn="l" pos="7586640"/>
                <a:tab algn="l" pos="8035920"/>
                <a:tab algn="l" pos="8485200"/>
                <a:tab algn="l" pos="893448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ahoma"/>
                <a:ea typeface="Tahoma"/>
              </a:rPr>
              <a:t>М.П.Бутурлин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468360" y="1779480"/>
            <a:ext cx="44924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1" descr=""/>
          <p:cNvPicPr/>
          <p:nvPr/>
        </p:nvPicPr>
        <p:blipFill>
          <a:blip r:embed="rId1"/>
          <a:stretch/>
        </p:blipFill>
        <p:spPr>
          <a:xfrm>
            <a:off x="749160" y="5870520"/>
            <a:ext cx="9144000" cy="1347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325440" y="493560"/>
            <a:ext cx="9387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088800" y="-3780360"/>
            <a:ext cx="133200" cy="1512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30240" y="2101320"/>
            <a:ext cx="4106880" cy="47595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540040" y="207720"/>
            <a:ext cx="4403880" cy="755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5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Во второй половине октября Пушкин, по собственному признанию, “расписался и уже написал пропасть”. И действительно, за короткий срок – Пушкин в эту осень провел в Болдине 40 дней – он написал поразительно много. Здесь выполняет он большую часть работы над “Историей Пугачёва”, создаёт гениальнейшую из своих поэм  “Медный всадник”, пишет сказки “О рыбаке и рыбке” и “О мёртвой царевне”, переводит два стихотворения Мицкевича: “Воевода” и “Будрыс и его сыновья”. Здесь, наконец, он работает над бессмертным образцом предельно сжатой, лаконической повести - “Пиковой дамой”. В этот период им написано было лирическое стихотворение - “Осень”, по обширности содержания, яркости красок и поэтическому совершенству оно достойно  занять одно из первых мест в лирике Пушкина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2"/>
          <a:stretch/>
        </p:blipFill>
        <p:spPr>
          <a:xfrm>
            <a:off x="325440" y="279360"/>
            <a:ext cx="5459400" cy="70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930240" y="2101680"/>
            <a:ext cx="4129200" cy="47548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968720" y="136080"/>
            <a:ext cx="5112000" cy="728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1" lang="ru-RU" sz="1100" spc="-1" strike="noStrike">
                <a:solidFill>
                  <a:srgbClr val="ffffff"/>
                </a:solidFill>
                <a:latin typeface="Constantia"/>
              </a:rPr>
              <a:t>«Осень»                                  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Октябрь уж наступил — уж роща отряхает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Последние листы с нагих своих ветвей;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Дохнул осенний хлад — дорога промерзает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Журча еще бежит за мельницу ручей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Но пруд уже застыл; сосед мой поспешает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В отъезжие поля с охотою своей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И страждут озими от бешеной забавы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И будит лай собак уснувшие дубравы…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Унылая пора! Очей очарованье!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Приятна мне твоя прощальная краса-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Люблю я пышное природы увяданье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В багрец и в золото одетые леса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В их сенях ветра шум и свежее дыханье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И мглой волнистою покрыты небеса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И редкий солнца луч, и первые морозы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И отдаленные седой зимы угрозы…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Picture 2" descr="C:\Documents and Settings\Женёк-РУЛИТ\Рабочий стол\s1118.jpg"/>
          <p:cNvPicPr/>
          <p:nvPr/>
        </p:nvPicPr>
        <p:blipFill>
          <a:blip r:embed="rId2"/>
          <a:stretch/>
        </p:blipFill>
        <p:spPr>
          <a:xfrm>
            <a:off x="396720" y="351000"/>
            <a:ext cx="464364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930240" y="2101680"/>
            <a:ext cx="4106880" cy="47577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683320" y="493200"/>
            <a:ext cx="3929040" cy="657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lnSpc>
                <a:spcPts val="22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398520"/>
                <a:tab algn="l" pos="847800"/>
                <a:tab algn="l" pos="1297080"/>
                <a:tab algn="l" pos="1746360"/>
                <a:tab algn="l" pos="2195640"/>
                <a:tab algn="l" pos="2644920"/>
                <a:tab algn="l" pos="3094200"/>
                <a:tab algn="l" pos="3543480"/>
                <a:tab algn="l" pos="3992400"/>
                <a:tab algn="l" pos="4441680"/>
                <a:tab algn="l" pos="4890960"/>
                <a:tab algn="l" pos="5340240"/>
                <a:tab algn="l" pos="5789520"/>
                <a:tab algn="l" pos="6238800"/>
                <a:tab algn="l" pos="6688080"/>
                <a:tab algn="l" pos="7137360"/>
                <a:tab algn="l" pos="7586640"/>
                <a:tab algn="l" pos="8035920"/>
                <a:tab algn="l" pos="8485200"/>
                <a:tab algn="l" pos="893448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ahoma"/>
              </a:rPr>
              <a:t>Всё</a:t>
            </a:r>
            <a:r>
              <a:rPr b="0" lang="ru-RU" sz="11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1100" spc="-1" strike="noStrike">
                <a:solidFill>
                  <a:srgbClr val="ffffff"/>
                </a:solidFill>
                <a:latin typeface="Tahoma"/>
              </a:rPr>
              <a:t>созданное Пушкиным во вторую Болдинскую осень</a:t>
            </a:r>
            <a:r>
              <a:rPr b="0" lang="ru-RU" sz="11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1100" spc="-1" strike="noStrike">
                <a:solidFill>
                  <a:srgbClr val="ffffff"/>
                </a:solidFill>
                <a:latin typeface="Tahoma"/>
              </a:rPr>
              <a:t>свидетельствовало о страстной, вдохновенной напряжённости его труда, о неиссякаемом богатстве его творческих сил, о всё более широком и мощном размахе его гениальной, мирообъемлющей мысли.                                                                   Как отрадно ему было всё в этой деревенской жизни! Как нескучно было однообразное течение дней! Какой полнотой творческого бытия были отмечены эти дни!                           Это была последняя из его счастливых творческих осеней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2"/>
          <a:stretch/>
        </p:blipFill>
        <p:spPr>
          <a:xfrm>
            <a:off x="325440" y="279360"/>
            <a:ext cx="5321160" cy="68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>
            <a:hlinkClick r:id="" action="ppaction://hlinkshowjump?jump=nextslide"/>
          </p:cNvPr>
          <p:cNvSpPr/>
          <p:nvPr/>
        </p:nvSpPr>
        <p:spPr>
          <a:xfrm>
            <a:off x="5111640" y="422280"/>
            <a:ext cx="47149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Летом </a:t>
            </a:r>
            <a:r>
              <a:rPr b="0" i="1" lang="en-GB" sz="1100" spc="-1" strike="noStrike">
                <a:solidFill>
                  <a:srgbClr val="ffffff"/>
                </a:solidFill>
                <a:latin typeface="Constantia"/>
              </a:rPr>
              <a:t>1833</a:t>
            </a: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года</a:t>
            </a: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 Пушкин настойчиво добивается </a:t>
            </a:r>
            <a:r>
              <a:rPr b="0" lang="en-GB" sz="1100" spc="-1" strike="noStrike">
                <a:solidFill>
                  <a:srgbClr val="ffffff"/>
                </a:solidFill>
                <a:latin typeface="Constantia"/>
              </a:rPr>
              <a:t>предоставления</a:t>
            </a: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 ему возможности совершить поездку на Урал и в Болдино. Он обращается к шефу жандармов и начальнику Третьего отделения Бенкендорфу с просьбой позволить ему ознакомится с архивами Оренбурга и Казани. “Обстоятельства, - писал он ему, - принуждают меня вскоре уехать на 2-3 месяца в моё нижегородское имение – мне хотелось бы воспользоваться этим и съездить в Оренбург  и Казань, которых я ещё не видел”. Вскоре последовал придирчивый ответ, согласно которому требовалось объяснения поэта о причинах поездки. Пушкин вынужден был сделать подробный отчет о своих творческих замыслах и целях. “В продолжение двух последних лет, - сообщал он, - занимался я одними историческими изысканиями, не написав ни одной строчки чисто литературной. Мне необходимо месяца два провести в совершенном уединении, дабы отдохнуть от важнейших занятий и кончить книгу, давно мною начатую, и которая доставит мне деньги, в коих имею нужду... Может быть, государю угодно знать, какую именно книгу хочу я дописать в деревне: это роман, коего большая часть действия происходит в Оренбурге и Казани, и вот почему хотелось бы мне посетить обе сии губернии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325440" y="422280"/>
            <a:ext cx="4714920" cy="657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" action="ppaction://hlinkshowjump?jump=nextslide"/>
          </p:cNvPr>
          <p:cNvSpPr/>
          <p:nvPr/>
        </p:nvSpPr>
        <p:spPr>
          <a:xfrm>
            <a:off x="5111640" y="1779480"/>
            <a:ext cx="46897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 indent="-4464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свободного творческого труда. Его всегда привлекала деревня и тем, что здесь ощущал он особенно глубоко свою близость с народом, и тем, что здесь, окружённый с детства родными картинами природы, просторами полей и сенью лесов, он находил “приют спокойствия, трудов и вдохновенья”. Устами героя  “Романа в письмах” Пушкин называл деревню своим кабинетом; он не мог переступить его желанного порога.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августа Пушкин получил разрешение на поездку, но смог выехать из Петербурга лишь через одиннадцать дней.  Вновь перед поэтом  раскинулись  бескрайние просторы полей и лугов, тенистые леса, замерцали белые березы - символы северно-русской природ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2560" y="1851120"/>
            <a:ext cx="4429080" cy="49053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754200" y="351000"/>
            <a:ext cx="89406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1830 года многое изменилось в жизни А.С. Пушкина. Женитьба на светской красавице Н.Н. Гончаровой внесла в его жизнь бесконечные хлопоты о деньгах, материальные лишения, тревогу о завтрашнем дне. С горечью признается он в письме к своему другу П.В. Нащокину: “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ет у меня досуга, вольной холостой жизни, необходимой для писателя. Кружусь в свете, жена моя в большой моде – всё это требует денег, деньги достаются мне через труды, а труды требуют уединения”.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Пушкин рвался на свежий воздух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1" descr=""/>
          <p:cNvPicPr/>
          <p:nvPr/>
        </p:nvPicPr>
        <p:blipFill>
          <a:blip r:embed="rId1"/>
          <a:stretch/>
        </p:blipFill>
        <p:spPr>
          <a:xfrm>
            <a:off x="603360" y="4200480"/>
            <a:ext cx="9253440" cy="30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Object 2"/>
          <p:cNvGraphicFramePr/>
          <p:nvPr/>
        </p:nvGraphicFramePr>
        <p:xfrm>
          <a:off x="12479400" y="8028000"/>
          <a:ext cx="119160" cy="11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79400" y="8028000"/>
                    <a:ext cx="119160" cy="1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Picture 3" descr=""/>
          <p:cNvPicPr/>
          <p:nvPr/>
        </p:nvPicPr>
        <p:blipFill>
          <a:blip r:embed="rId4"/>
          <a:stretch/>
        </p:blipFill>
        <p:spPr>
          <a:xfrm>
            <a:off x="611280" y="279360"/>
            <a:ext cx="90010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1" descr=""/>
          <p:cNvPicPr/>
          <p:nvPr/>
        </p:nvPicPr>
        <p:blipFill>
          <a:blip r:embed="rId1"/>
          <a:stretch/>
        </p:blipFill>
        <p:spPr>
          <a:xfrm>
            <a:off x="390600" y="4340160"/>
            <a:ext cx="9362880" cy="3224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396720" y="351000"/>
            <a:ext cx="92044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20360" y="-3780360"/>
            <a:ext cx="19080" cy="1512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30240" y="2101320"/>
            <a:ext cx="4106880" cy="4761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79680" y="166680"/>
            <a:ext cx="4691160" cy="7819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 algn="just">
              <a:lnSpc>
                <a:spcPct val="95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А.С. Пушкин видел старинный кремль. В тридцатые годы прошлого века вдоль кремлёвской стены, между Георгиевской и Коромысловой башнями, ещё проходил глубокий, хотя и сильно осыпавшийся ров. Этот город видел в своих стенах Александра Невского (1263г.); трижды здесь был Иван Грозный, два раза – сопровождая свои войска, шедшие через Нижний на Казань, и в третий – возвращаясь с победой из завоёванной Казани, когда он был торжественно встречен нижегородцами. В течение двух недель нижегородцы видели на своих улицах и пристанях высокую фигуру Петра 1. Одним из самых драгоценных имен русской истории было для Пушкина имя Кузьмы Минина. За семь лет до приезда Пушкина в Нижний Новгород на одной из самых живописных высот в кремле был воздвигнут гранитный обелиск в честь Минина и Пожарского. Отойдя на несколько шагов от обелиска к берегу Волги, Пушкин видел под крутыми и ровным скатом горы Ивановскую башню, через ворота которой в феврале 1612 года выступило в поход Нижегородское ополчение.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396720" y="351000"/>
            <a:ext cx="5073840" cy="69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304800" y="-3780360"/>
            <a:ext cx="38160" cy="1512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54200" y="208080"/>
            <a:ext cx="4621320" cy="7611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 algn="ctr">
              <a:lnSpc>
                <a:spcPct val="85000"/>
              </a:lnSpc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В день своего приезда в Нижний Новгород Пушкин посетил ярмарку, которую по традиции всё ещё называли “Макарьевской”, так как всего в лишь шестнадцать лет тому назад (в 1817 году) она была переведена в Нижний из Макарьева. По дороге туда А.С. Пушкин видел  на Рождественской улице один из замечательнейших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памятников старинного русского зодчества – Строгановскую церковь. Великолепная стройность и соразмерность всех её частей, богатство и разнообразие лепных украшений, тончайший узор вокруг окон, на карнизах и капителях бесчисленных колонн, пестрая чешуя куполов, лёгкий и стремительный взлет колокольни – всё это, пленяющее изяществом вкуса, блеском мастерства, говорило поэту о творческом гении народа, способного создавать такие шедевры искусства. На деревянном окском мосту, лежавшем на широких баржах, в этот день было мало движения: торговли на ярмарке уже не было. За неделю до приезда Пушкина были спущены флаги в знак окончании торга, а накануне были закрыты последние лавки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396720" y="351000"/>
            <a:ext cx="5054760" cy="69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1" descr=""/>
          <p:cNvPicPr/>
          <p:nvPr/>
        </p:nvPicPr>
        <p:blipFill>
          <a:blip r:embed="rId1"/>
          <a:stretch/>
        </p:blipFill>
        <p:spPr>
          <a:xfrm>
            <a:off x="390600" y="5205240"/>
            <a:ext cx="9271080" cy="2359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539640" y="422280"/>
            <a:ext cx="89377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1" descr=""/>
          <p:cNvPicPr/>
          <p:nvPr/>
        </p:nvPicPr>
        <p:blipFill>
          <a:blip r:embed="rId1"/>
          <a:stretch/>
        </p:blipFill>
        <p:spPr>
          <a:xfrm>
            <a:off x="1463760" y="4267080"/>
            <a:ext cx="6369120" cy="3737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468360" y="351000"/>
            <a:ext cx="9093240" cy="40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Николаевна</cp:lastModifiedBy>
  <dcterms:modified xsi:type="dcterms:W3CDTF">2014-11-06T23:29:04Z</dcterms:modified>
  <cp:revision>43</cp:revision>
  <dc:subject/>
  <dc:title>                                                                                                            МОУ  ДАЛЬНЕКОНСТАНТИНОВСКАЯ  СОШ                                                                                                                                             А.С. ПУШКИН                                                            В  НИЖЕГОРОДСКОМ                                                                         КРАЕ.                                                 ОСЕНЬ 1833 ГОДА                                                        Работу  выполнил: Стрекнёв Иван                                                                                                                                                        ученик 10”а” класса,                                                                                                            Дальнеконстантиновская средняя образовательная школа                                                                                                            Дальнеконстантиновского муниципального района.                                                                    Руководитель: Кочетова Ольга Николаевна,                                                                                                            учитель русского языка и литературы                                                                                                            Дальнеконстантиновская средняя образовательная школа,                                                                                                            Дальнеконстантиновского муниципального района.                                                                    Адрес: 606310, Нижегородская область ,                                                                                                            р.п. Дальнее Константиново, ул. Советская, д. 57                                                                                                            т. 8(831-68)2-13-05, 2-14-87                                                               р.п. Дальнее Константиново                                                           2009 год                                </dc:title>
</cp:coreProperties>
</file>