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9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DA6-A41D-4D2A-B0DF-E20DD3E2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6954-4E57-4CB9-B4D1-332ACA65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61A86-AD0E-4A59-B3C3-893DA754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CA2FC-AF34-4515-91F0-F914A37D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C74F7-9277-415E-9995-8B9A9365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7F580-FEC1-41DA-937D-EA75590F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9245F-BE9C-417E-909A-56ADF21A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72BEC-572A-44B6-AAB2-6C2AE745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BA974-22F0-4EA7-89BD-52D2937A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92ED9-E082-401D-84C8-25B6FD59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954E4-2FAF-40D1-B6FE-020196DD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9DA49-B448-4FDF-86A0-C2A26F37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289-11D0-4240-B9E5-7CEC2D3E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579E5-868D-4FFC-915B-89D366DF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65673-986F-4C5C-847C-E205DD5F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472DB-2692-424F-B4A7-98AFA6EE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10DC4-FC95-4479-8874-3CFF4174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771EF-030E-45B7-BBD6-FC70FA7F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7236A-D763-4EFE-AEB1-5C72A6A8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7EC41-A065-4612-BB0B-3F3733F5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1421D-9740-4A47-9097-E2DCD2B5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B5E31-16EE-43E4-A753-CD527D99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FDA93-8994-497C-A8AC-9FFA904F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EAF-8464-4661-BE95-8A5A2AD2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26A3B-26C6-4F67-BD63-BC40A06C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CC92E-9A52-4553-A1C3-2F5F80D8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EE65E-59D2-487D-949C-787CC881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5E251-819F-4246-B04A-9DB735A2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E81BC-2CA5-48E5-9679-97EC0D8D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3B3D8-EE12-489F-98E4-31E3789B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C0930-31DE-44AA-99DB-6FE0CA24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2F9C1-77D7-4CE7-9AFE-4413969A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3915D-6125-487F-A663-BBEF2F63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8B08E-7CC6-44F0-A29F-B123217D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D508-388C-42E5-83B5-13C20558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D4459-AB61-4B7F-BC8C-B5759AF2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C93CC-0741-4E74-8E20-D3ACBDAB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3684B-43AE-4075-A087-E5442971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BE208-163B-470E-A5AB-3F72EF64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85569-38C8-4AD3-963C-52911746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B0D65-A77B-40F8-BE5F-486E167B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F706B-B791-403D-A5BD-1FDC2E4C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180D4-097C-4870-B013-4C420D31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72E46-437A-4DAE-BA2A-66867FB7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0D463-BC87-4AD6-A3BC-41D5901A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217A-DB0C-47B5-A1E7-1CE169AC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FCBFE-B38A-4B48-8186-8DE279C4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D87C0-081E-4A26-80FA-B0C24591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F36ED-AE5F-44CF-8026-EC15B49F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4A35D-D131-4EA8-8293-3E631C6D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56C5D-C33B-4F34-A550-DDD5A115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E0CE6-BAAD-4912-AC37-6DD0EFE2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E75F1-7F98-4DFA-9339-AF01BC30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4381D-FD2B-4FB9-988F-B7433736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E20E3E-D9CC-4C35-9BB0-77A2135F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457A4-0384-4F4C-8EE9-2D43230F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6955-AD34-4D3D-BFE9-A31688BB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24321-337C-4A1C-A8A2-E0B903FD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8F3EE-2B38-4465-A1F7-B57460E1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3A5C89-ECC0-4A7C-BFAB-FF4DF556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65EFB-29A1-40EE-BA69-2058CE21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5A7F7-9443-4D17-9A48-7D1F4981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A2E5CE-C7F7-4A53-AA8D-CB7D8F00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B8337-C5DD-428B-B32B-1DC2E1B7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92468-868D-4B41-8AE6-1068AD6F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55EB5-5088-4BDE-AE65-70DF045D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B6A93-9229-4622-8AD2-15758904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F6D6-51BC-4E3E-88B2-B634AF89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21686-658D-4355-8ADA-D344DB2B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F38F4B-9A7B-4456-8BBA-BD638391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B1B4D-E358-46C0-9D04-4E3C6845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8CCE9C-5312-432B-8E8B-986EBD2F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02D0A-09A9-4092-915C-D492F824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B58A59-9DCA-4FA1-A9AC-2F7911FE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229D8-EC82-472F-B93F-FABF5136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9FC347-E95C-4B9A-AC06-46CC0CAF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B71D78-02DE-4BB5-8362-ED688ABB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0004C1-779C-4B65-9830-7A6E1C37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9CA3-A1B1-4294-BC43-D235D9A6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89BC61-A491-4B4A-8CFD-9813BB83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840432-9264-4432-86BF-9AC7ACD9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0287B7-9018-4984-AFFF-0C9D7406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EF093A-D29C-41CF-BF17-E66109BA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F1674-06A2-47DC-9968-23270F3E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3D94ED-E980-466A-A33F-9802442D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AB3F75-35A0-4D4F-8BD9-B74D1240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CCC9B-7ABA-491B-A1C0-95C428FC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001B95-360C-41D0-992C-C85C3277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0E4CFA-81D4-40A2-82BA-DEEA4339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0D28-C396-45B8-9D60-3D33C84B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6DC08-22E9-4B4C-8C85-C82166D0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73564A-8964-4F4E-A186-ED039CFC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0FA9B6-8E31-4587-B4BB-20A63807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97111A-42C9-4AF3-B41A-28EA9B45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D7B57A-61AF-4532-A077-6B25E8A6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4D8AB-EAD0-41D7-B455-F0731A73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37EA0D-77CF-4BBC-9110-3021F24C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41BCB5-44CF-40B1-BAAF-F0AF0303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E2ED94-12B5-40A6-928B-9E43AC7D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302E6F-2398-4A96-8638-AE2C965B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AF41-BAFF-4C68-99E8-8EC234B2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4678A1-84C0-442A-9AC5-5D67BFB8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BCBA3-AD65-4210-AD32-C537BB51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C5F51D-39EF-470B-96A0-09AECE2D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1966C6-C04F-4890-A3C6-618F9E27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B4C78F-1944-45A3-8AD1-4DC788AA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EE47B0-7814-4B7C-8374-2F511212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AA9E3A-C96C-4AF0-979B-F0C868F2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1568CC-D05B-4439-B12A-66BA2976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76C003-6E84-41FB-9B61-3F64A5C8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59FAF3-084C-4237-9D26-9A78B4CC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9E2-879B-4692-9454-D1293702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BAB7-F8AC-4E24-A7C3-3B4D8275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3DFB52-4B78-4542-951C-11994C48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F25398-7477-4D31-B0CF-92AB1412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1255E-C3AD-4ECB-9E97-20BFA19C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189670-195F-422C-8B98-F4699DAD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90F78D-3440-46A0-BB16-599AD381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9BA215-334D-4D95-A9F3-DC365FC2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54FC1A-9C9F-4F00-9FF4-7348548B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8DDAA7-1EC1-4486-9589-93BAA54E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1DAA33-9DCA-4715-87BC-84673156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C0EEF8-5E85-42F5-974B-8AB17654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803A-ADA7-42CF-8A55-4BF0C056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884D45-D557-4735-8305-2B8B1EEA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CB8E09-3B31-4A2F-B562-185CD819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7545FF-4408-4474-939E-56BE0293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2B9EDE-95F1-43B6-9108-FD58A76A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BA624-0D1A-4E1D-9FF3-95D5A715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3BE43D-A534-4FC3-B794-2A1DECEF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589AC8-9610-4EF7-B19F-445D78A2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B6D494-A1B6-4B43-AF23-306F9171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0BEB16-8390-47CA-A908-D6E1E23A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B4C634-14C3-4D9C-A0CF-B3369BFD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E124-78AE-473F-BD21-1E894831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B6E8F8-DD3C-44D9-BD74-0045D1E4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261084-5685-4C18-AFCE-8FFF76A9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005C69-93CA-467E-B0F6-860C02CC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FDB5B0-1764-4B59-8BB9-21B933FF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50DFC1-5E7D-4E5C-93AE-5B1DC15E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D4D560-69D1-4193-A129-7834A214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690DBB-0AAF-41B8-BC9A-AE0BF455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AD5A8B-9177-4528-B15D-4F71088E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AB127E-B6C3-43EB-BCF8-4F468063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E970CF-1B34-4CB4-AC85-8F204868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B081-C3B0-494B-8B19-2F439802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B61030-38F6-4139-8B63-E3EB58DD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5A8172-0A56-4E51-B493-52EF4A56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2A78E0-486C-45CE-852D-A34ECB49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DA7B2B-25E4-4456-81CC-050B44F6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082780-4DEC-4491-95BB-34BDA67F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D6EE7D-B748-4F42-8DB8-58E39592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F74375-F94D-41A3-A493-F3A62B3A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95D240-5B51-41A4-B5D9-AF284EBB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ED3400-C67B-4A67-9DE4-FDF478FF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7A4E79-3C4E-46C4-83ED-06741238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E592-4CB6-44F2-96D5-1FBE3954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47EF6B-0951-4A9C-96EE-184260E4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0074C-D3D9-41A5-94BB-E8C6CE6B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378C9-BA9A-4514-A9E6-6E7FB6F6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6F412-76CA-4F0C-8A4A-8BDAD5F8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5A0C5-81D4-48DF-9C55-763F07C5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EBDB-A14B-499C-9B69-7C3EDBE3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7842-F26E-424A-B16C-7E01F075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FF02B-E0F8-4A5D-90F1-95DFBBBB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5BCC5-3C08-4AC5-8DEB-51ED2F2B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CC587-B243-47A0-95B6-1D5245DE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0E475-7B14-4BF4-BBCA-F5243D95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F0A39-3AF6-4D1C-AA81-4D244A50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3174A-046F-427E-8891-7347BA52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7F005-9D6D-4891-B339-E4A545B8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CC9E7-0FEB-4988-ABEB-2D6EE76C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FAAD1-E2F2-4A71-BBFF-2EB88F6D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CDE60-1AC7-447E-82BF-9CBD9C6E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EDA-1E7A-49A4-96AC-B0F0CB15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A6791-2F64-480D-8A78-9DAD3AEC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B750C-45B5-4193-B58A-C7165830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DBF18-42A1-4414-A300-6160A788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D7E73-C6AF-4747-BD55-E36DC69C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BC5F2-5F7F-4984-BC12-CCA0C3EB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0DB8E-B69C-419F-ACE1-0BDD7CD4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20AB8-F91F-45D6-AC1D-A6A6A92F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3DD92-D629-4855-87A3-06FD2747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14B05-7FA4-437B-9D90-42396C1A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AA987-6A37-4897-95F7-51544531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A4B-C77A-4A6C-A578-5F433E5B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899F9-15AB-498C-9D7D-F2570D17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369B6-A9F2-430A-8CC5-150D7D05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2F86B-D0F3-4311-A3C7-520B3131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6DBE9-E485-446C-BB45-3425D029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AA7FD-915F-473A-8B75-787E2850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A43BD-006D-4327-B81D-120DCF38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70C5A-7FC7-486E-B95B-33C73147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7DE66-1C9E-49DD-BF88-CD3F953C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50DEB-3366-448B-81E0-60E8A704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DFC5E-E72D-49FF-935F-3C59CAF4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040-EFA8-4BC9-8493-D7F62917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DAF2A-E717-4689-BF7C-D1FB7DDF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F2A1C-EBA7-4BD0-B7D8-55CF5EE0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CF9BA-F0B1-4B57-A7F7-2C194339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EBCDD-3B09-4791-B5A6-59D4AD4B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9ABB1-997F-4F94-9898-ED4023ED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44ED7-93CE-4420-A07E-8B5C6D6B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6C7F3-3A64-4AAE-9847-54417EE7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2A4E7-CE13-4F81-94C4-2DABA8EB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A9256-F9BA-4BCA-9751-F9E74065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04A1F-C0D3-4A56-81AE-C942AAF3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C03-134C-469C-BFF3-36D2D274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6FD51-D1BC-4685-9C63-00716B5C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83FCE-2B1D-4CA7-BB1E-1D6F22B6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B007B-F60E-4992-8644-222FF14C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C3B3D-4C84-41EA-BF7C-02B45974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243D6-08EA-486D-8F28-D3C9D3E4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BB5A3-3E59-472D-9721-E26BEE04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9F63D-6CD6-497F-8D37-047C8630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B75EA-51CA-42B6-B308-A23489F4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BD94B-7C9C-4961-9FF5-70E1D8C4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513DF-0542-462E-913C-A0DB9F8A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33C-67F9-4D83-BB73-91847E1B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ACD5E-F4D1-4DE5-9287-C2DA0D78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B9D8C-BF1D-465A-9465-19EF0775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BD559-0886-432E-994A-590753D8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CDDE3-ECD6-474A-BF1A-4DEA9552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D5FEC-E741-4BA0-885B-9AFBFB3B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B3B0F-1A29-4DCB-BE86-A095EE8E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CEB3F-6A42-48B3-A9EF-FA1DD4E6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2EFD0-8705-4B51-B835-7AA9DB51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9EE86-A5ED-4939-8A0B-1D6155D1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8616E-C924-4747-9830-905F4DCD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5C3E-AFD5-4303-8753-9C88196E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51B69-C0ED-43AB-9520-7B595D99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6559A-3FAC-406C-8D81-68408758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D1312-71E5-4584-8659-BD573C1C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BA1E8-3DDF-4A86-908A-B195E53C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C1F75-A2F3-449D-BB0F-93AA1E2D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72CB4-1D5A-4DB3-8ED7-3716D1DF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59F93-7DF6-47BC-8BC9-446A5703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8A822-444E-45B1-877E-A3FE4769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0A86E-FC47-43AF-B8F8-BC737C7D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5252C-77A6-4CAE-BBD0-9CA92917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812E-20CB-4F10-987F-F9AD876CF9A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446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447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448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449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450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451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452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453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454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455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grpSp>
        <p:nvGrpSpPr>
          <p:cNvPr id="456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457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oudy Stout"/>
              </a:endParaRPr>
            </a:p>
          </p:txBody>
        </p:sp>
        <p:sp>
          <p:nvSpPr>
            <p:cNvPr id="458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oudy Stout"/>
              </a:endParaRPr>
            </a:p>
          </p:txBody>
        </p:sp>
        <p:sp>
          <p:nvSpPr>
            <p:cNvPr id="459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oudy Stout"/>
              </a:endParaRPr>
            </a:p>
          </p:txBody>
        </p:sp>
      </p:grpSp>
      <p:grpSp>
        <p:nvGrpSpPr>
          <p:cNvPr id="460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461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oudy Stout"/>
              </a:endParaRPr>
            </a:p>
          </p:txBody>
        </p:sp>
        <p:sp>
          <p:nvSpPr>
            <p:cNvPr id="462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oudy Stout"/>
              </a:endParaRPr>
            </a:p>
          </p:txBody>
        </p:sp>
        <p:sp>
          <p:nvSpPr>
            <p:cNvPr id="463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oudy Stout"/>
              </a:endParaRPr>
            </a:p>
          </p:txBody>
        </p:sp>
      </p:grpSp>
      <p:grpSp>
        <p:nvGrpSpPr>
          <p:cNvPr id="464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465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oudy Stout"/>
              </a:endParaRPr>
            </a:p>
          </p:txBody>
        </p:sp>
        <p:sp>
          <p:nvSpPr>
            <p:cNvPr id="466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oudy Stout"/>
              </a:endParaRPr>
            </a:p>
          </p:txBody>
        </p:sp>
        <p:sp>
          <p:nvSpPr>
            <p:cNvPr id="467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oudy Stout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5C4B-542A-49A7-A893-44635BEF303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510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grpSp>
        <p:nvGrpSpPr>
          <p:cNvPr id="51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1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Goudy Stout"/>
                </a:endParaRPr>
              </a:p>
            </p:txBody>
          </p:sp>
        </p:grpSp>
        <p:grpSp>
          <p:nvGrpSpPr>
            <p:cNvPr id="51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Goudy Stout"/>
                </a:endParaRPr>
              </a:p>
            </p:txBody>
          </p:sp>
        </p:grp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9527-FA22-47E3-B8FF-9CA720B5536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560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grpSp>
        <p:nvGrpSpPr>
          <p:cNvPr id="56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Goudy Stout"/>
                </a:endParaRPr>
              </a:p>
            </p:txBody>
          </p:sp>
        </p:grpSp>
        <p:grpSp>
          <p:nvGrpSpPr>
            <p:cNvPr id="56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Goudy Stout"/>
                </a:endParaRPr>
              </a:p>
            </p:txBody>
          </p:sp>
        </p:grp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1AF0-2206-4E33-8B55-550C66A588B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61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61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61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3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C7AE-2311-49E8-A17E-07132D49DE8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655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656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657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658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659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660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661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662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4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4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7E9D-A0CA-4425-B1EB-17060F0721A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13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14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15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16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17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18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19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20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21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22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23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24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25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26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27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28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29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30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31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32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33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E131-A5BE-4476-86C6-469340F552F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71F2-0B27-42BC-92D2-1A0EFF58A4E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817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818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819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820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821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822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823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824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825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A1FC-F76A-42A3-853E-7EB0CA2D1A3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5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5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5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E31A-75D4-44C9-B66D-C948E5306EB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90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91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91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91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91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91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91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91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917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918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grpSp>
        <p:nvGrpSpPr>
          <p:cNvPr id="919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920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oudy Stout"/>
              </a:endParaRPr>
            </a:p>
          </p:txBody>
        </p:sp>
        <p:sp>
          <p:nvSpPr>
            <p:cNvPr id="921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oudy Stout"/>
              </a:endParaRPr>
            </a:p>
          </p:txBody>
        </p:sp>
        <p:sp>
          <p:nvSpPr>
            <p:cNvPr id="922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oudy Stout"/>
              </a:endParaRPr>
            </a:p>
          </p:txBody>
        </p:sp>
      </p:grpSp>
      <p:grpSp>
        <p:nvGrpSpPr>
          <p:cNvPr id="923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924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oudy Stout"/>
              </a:endParaRPr>
            </a:p>
          </p:txBody>
        </p:sp>
        <p:sp>
          <p:nvSpPr>
            <p:cNvPr id="925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oudy Stout"/>
              </a:endParaRPr>
            </a:p>
          </p:txBody>
        </p:sp>
        <p:sp>
          <p:nvSpPr>
            <p:cNvPr id="926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oudy Stout"/>
              </a:endParaRPr>
            </a:p>
          </p:txBody>
        </p:sp>
      </p:grpSp>
      <p:grpSp>
        <p:nvGrpSpPr>
          <p:cNvPr id="927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928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oudy Stout"/>
              </a:endParaRPr>
            </a:p>
          </p:txBody>
        </p:sp>
        <p:sp>
          <p:nvSpPr>
            <p:cNvPr id="929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oudy Stout"/>
              </a:endParaRPr>
            </a:p>
          </p:txBody>
        </p:sp>
        <p:sp>
          <p:nvSpPr>
            <p:cNvPr id="930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oudy Stout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55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56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57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83CE-A9AC-41A8-AE0E-3310A8E45BC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FC46-01A0-4A11-BD05-A46C167CA96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Goudy Stout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Goudy Stou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5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5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6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8C4D-290D-443D-B15C-E38EDFF09AB7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0EDF-857D-4F20-8D00-99DD34F0693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8150-EE78-4018-9E7C-4490C9CAB84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92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93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94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95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96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97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98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99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2FBE-C29D-474F-BE8B-12C4E3D2384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42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43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44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45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46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48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49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50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51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52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53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54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55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56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57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58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59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60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61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62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63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64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65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66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67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68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69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70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256C-D450-44C9-A809-8F385304438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0D4B-EB91-4C43-8773-3A0B29F726A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354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355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358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359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360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361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362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AD5B-6CA1-4403-9B14-1B3FF9B396C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DD55-EF18-4875-AE3E-1C948ECEEBC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_&#1089;&#1077;&#1085;&#1090;&#1103;&#1073;&#1088;&#1103;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_&#1089;&#1077;&#1085;&#1090;&#1103;&#1073;&#1088;&#1103;" TargetMode="External"/><Relationship Id="rId2" Type="http://schemas.openxmlformats.org/officeDocument/2006/relationships/hyperlink" Target="http://ru.wikipedia.org/wiki/2004" TargetMode="External"/><Relationship Id="rId3" Type="http://schemas.openxmlformats.org/officeDocument/2006/relationships/hyperlink" Target="http://ru.wikipedia.org/wiki/&#1041;&#1077;&#1089;&#1083;&#1072;&#1085;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Picture 8" descr="Беслан14"/>
          <p:cNvPicPr/>
          <p:nvPr/>
        </p:nvPicPr>
        <p:blipFill>
          <a:blip r:embed="rId1"/>
          <a:stretch/>
        </p:blipFill>
        <p:spPr>
          <a:xfrm>
            <a:off x="7372440" y="0"/>
            <a:ext cx="1771560" cy="2232000"/>
          </a:xfrm>
          <a:prstGeom prst="rect">
            <a:avLst/>
          </a:prstGeom>
          <a:ln w="0">
            <a:noFill/>
          </a:ln>
        </p:spPr>
      </p:pic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571480" y="2349360"/>
            <a:ext cx="6143400" cy="38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"/>
              </a:rPr>
              <a:t>Классный час «</a:t>
            </a:r>
            <a:r>
              <a:rPr b="0" lang="en-US" sz="4800" spc="-1" strike="noStrike">
                <a:solidFill>
                  <a:srgbClr val="c00000"/>
                </a:solidFill>
                <a:latin typeface="Arial Black"/>
              </a:rPr>
              <a:t>ЭХО</a:t>
            </a:r>
            <a:br>
              <a:rPr sz="4800"/>
            </a:br>
            <a:r>
              <a:rPr b="0" lang="en-US" sz="4800" spc="-1" strike="noStrike">
                <a:solidFill>
                  <a:srgbClr val="c00000"/>
                </a:solidFill>
                <a:latin typeface="Arial Black"/>
              </a:rPr>
              <a:t>БЕСЛАНСКОЙ</a:t>
            </a:r>
            <a:br>
              <a:rPr sz="4800"/>
            </a:br>
            <a:r>
              <a:rPr b="0" lang="en-US" sz="4800" spc="-1" strike="noStrike">
                <a:solidFill>
                  <a:srgbClr val="c00000"/>
                </a:solidFill>
                <a:latin typeface="Arial Black"/>
              </a:rPr>
              <a:t>ПЕЧАЛИ</a:t>
            </a:r>
            <a:r>
              <a:rPr b="0" lang="en-US" sz="4800" spc="-1" strike="noStrike">
                <a:solidFill>
                  <a:srgbClr val="c00000"/>
                </a:solidFill>
                <a:latin typeface="Arial"/>
              </a:rPr>
              <a:t>»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1015" name="Picture 4" descr="Беслан9"/>
          <p:cNvPicPr/>
          <p:nvPr/>
        </p:nvPicPr>
        <p:blipFill>
          <a:blip r:embed="rId2"/>
          <a:stretch/>
        </p:blipFill>
        <p:spPr>
          <a:xfrm>
            <a:off x="0" y="0"/>
            <a:ext cx="2987640" cy="23893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5" descr="30230_20070901135018"/>
          <p:cNvPicPr/>
          <p:nvPr/>
        </p:nvPicPr>
        <p:blipFill>
          <a:blip r:embed="rId3"/>
          <a:stretch/>
        </p:blipFill>
        <p:spPr>
          <a:xfrm>
            <a:off x="0" y="3887640"/>
            <a:ext cx="2500200" cy="29703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4" descr="115_va090119"/>
          <p:cNvPicPr/>
          <p:nvPr/>
        </p:nvPicPr>
        <p:blipFill>
          <a:blip r:embed="rId4"/>
          <a:stretch/>
        </p:blipFill>
        <p:spPr>
          <a:xfrm>
            <a:off x="4357800" y="0"/>
            <a:ext cx="190800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 txBox="1"/>
          <p:nvPr/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en-US" sz="3200" spc="-1" strike="noStrike" u="sng">
                <a:solidFill>
                  <a:srgbClr val="eb8803"/>
                </a:solidFill>
                <a:uFillTx/>
                <a:latin typeface="Arial Narrow"/>
                <a:hlinkClick r:id="rId1"/>
              </a:rPr>
              <a:t>2 сентября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 захваченную школу посетил бывший президент Ингушетии Руслан Аушев. По его просьбе боевики освободили группу заложников из 26 человек (матери с детьми грудного возраста)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10000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35" descr=""/>
          <p:cNvPicPr/>
          <p:nvPr/>
        </p:nvPicPr>
        <p:blipFill>
          <a:blip r:embed="rId2"/>
          <a:stretch/>
        </p:blipFill>
        <p:spPr>
          <a:xfrm flipH="1">
            <a:off x="-360" y="0"/>
            <a:ext cx="1528920" cy="21351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5" descr=""/>
          <p:cNvPicPr/>
          <p:nvPr/>
        </p:nvPicPr>
        <p:blipFill>
          <a:blip r:embed="rId3"/>
          <a:stretch/>
        </p:blipFill>
        <p:spPr>
          <a:xfrm flipH="1">
            <a:off x="-360" y="4722840"/>
            <a:ext cx="1528920" cy="2135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0" y="2214720"/>
            <a:ext cx="1849320" cy="2436480"/>
          </a:xfrm>
          <a:prstGeom prst="rect">
            <a:avLst/>
          </a:prstGeom>
          <a:ln w="0">
            <a:noFill/>
          </a:ln>
        </p:spPr>
      </p:pic>
      <p:sp>
        <p:nvSpPr>
          <p:cNvPr id="1037" name="TextBox 6"/>
          <p:cNvSpPr/>
          <p:nvPr/>
        </p:nvSpPr>
        <p:spPr>
          <a:xfrm>
            <a:off x="1357200" y="50004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РАССКАЗ  ВЫЖИВШЕЙ  ДЕВОЧКИ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sp>
        <p:nvSpPr>
          <p:cNvPr id="1038" name="TextBox 7"/>
          <p:cNvSpPr/>
          <p:nvPr/>
        </p:nvSpPr>
        <p:spPr>
          <a:xfrm>
            <a:off x="1928880" y="1643040"/>
            <a:ext cx="6929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Вечером второго сентября я ненадолго заснула. А проснувшись, увидела вокруг себя незнакомых детей… Какой-то мальчик, сидевший рядом со мной, рассказывал историю. И все слушали его как заколдованные.</a:t>
            </a:r>
            <a:endParaRPr b="0" lang="en-US" sz="2400" spc="-1" strike="noStrike">
              <a:solidFill>
                <a:srgbClr val="ffffff"/>
              </a:solidFill>
              <a:latin typeface="Goudy Sto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oudy Sto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Он рассказал, что видел ангелов. Несколько дней назад вышел на балкон и увидел, как они медленно летят по сиреневому небу. Ангелы были в белых платьях, розовыми и золотистыми шлейфами, они смеялись и играли на дудочках.</a:t>
            </a:r>
            <a:endParaRPr b="0" lang="en-US" sz="2400" spc="-1" strike="noStrike">
              <a:solidFill>
                <a:srgbClr val="ffffff"/>
              </a:solidFill>
              <a:latin typeface="Goudy Stout"/>
            </a:endParaRPr>
          </a:p>
        </p:txBody>
      </p:sp>
    </p:spTree>
  </p:cSld>
  <p:transition>
    <p:strips dir="l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35" descr=""/>
          <p:cNvPicPr/>
          <p:nvPr/>
        </p:nvPicPr>
        <p:blipFill>
          <a:blip r:embed="rId2"/>
          <a:stretch/>
        </p:blipFill>
        <p:spPr>
          <a:xfrm flipH="1">
            <a:off x="-360" y="0"/>
            <a:ext cx="1528920" cy="21351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5" descr=""/>
          <p:cNvPicPr/>
          <p:nvPr/>
        </p:nvPicPr>
        <p:blipFill>
          <a:blip r:embed="rId3"/>
          <a:stretch/>
        </p:blipFill>
        <p:spPr>
          <a:xfrm flipH="1">
            <a:off x="7857720" y="4722840"/>
            <a:ext cx="1528920" cy="21351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5" descr=""/>
          <p:cNvPicPr/>
          <p:nvPr/>
        </p:nvPicPr>
        <p:blipFill>
          <a:blip r:embed="rId4"/>
          <a:stretch/>
        </p:blipFill>
        <p:spPr>
          <a:xfrm>
            <a:off x="-285840" y="4722840"/>
            <a:ext cx="1500120" cy="21351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5" descr=""/>
          <p:cNvPicPr/>
          <p:nvPr/>
        </p:nvPicPr>
        <p:blipFill>
          <a:blip r:embed="rId5"/>
          <a:stretch/>
        </p:blipFill>
        <p:spPr>
          <a:xfrm>
            <a:off x="7601040" y="0"/>
            <a:ext cx="1542960" cy="2135160"/>
          </a:xfrm>
          <a:prstGeom prst="rect">
            <a:avLst/>
          </a:prstGeom>
          <a:ln w="0">
            <a:noFill/>
          </a:ln>
        </p:spPr>
      </p:pic>
      <p:sp>
        <p:nvSpPr>
          <p:cNvPr id="1043" name="TextBox 7"/>
          <p:cNvSpPr/>
          <p:nvPr/>
        </p:nvSpPr>
        <p:spPr>
          <a:xfrm>
            <a:off x="1285920" y="428760"/>
            <a:ext cx="657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Когда на земле умирает ребенок, Бог забирает его к себе, дает ему крылья и превращает в ангела, - так сказал этот мальчик. Когда он говорил, стояла такая тишина, что я слышала стук своего сердца. Мне вдруг показалось, что умирать совсем не страшно…</a:t>
            </a:r>
            <a:endParaRPr b="0" lang="en-US" sz="2400" spc="-1" strike="noStrike">
              <a:solidFill>
                <a:srgbClr val="ffffff"/>
              </a:solidFill>
              <a:latin typeface="Goudy Sto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Narrow"/>
              </a:rPr>
              <a:t>И когда кто-то сказал, что ангелов не бывает, все на него зашикали. Мы, конечно, уже думали о смерти: заканчивался второй день, мы уже перестали есть и пить, и трудно было дышать… Да, мы думали о смерти… И мальчик тоже думал.</a:t>
            </a:r>
            <a:endParaRPr b="0" lang="en-US" sz="2400" spc="-1" strike="noStrike">
              <a:solidFill>
                <a:srgbClr val="ffffff"/>
              </a:solidFill>
              <a:latin typeface="Goudy Sto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Narrow"/>
              </a:rPr>
              <a:t>Поэтому он и стал рассказывать нам про ангелов. Мне показалось, что так он готовил нас к смерти, давал нам привыкнуть к этой мысли, успокаивал и не давал отчаяться… </a:t>
            </a:r>
            <a:endParaRPr b="0" lang="en-US" sz="2400" spc="-1" strike="noStrike">
              <a:solidFill>
                <a:srgbClr val="ffffff"/>
              </a:solidFill>
              <a:latin typeface="Goudy Stout"/>
            </a:endParaRPr>
          </a:p>
        </p:txBody>
      </p:sp>
    </p:spTree>
  </p:cSld>
  <p:transition>
    <p:strips dir="l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 txBox="1"/>
          <p:nvPr/>
        </p:nvSpPr>
        <p:spPr>
          <a:xfrm>
            <a:off x="571680" y="4284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1" lang="en-US" sz="2800" spc="-1" strike="noStrike" u="sng">
                <a:solidFill>
                  <a:srgbClr val="eb8803"/>
                </a:solidFill>
                <a:uFillTx/>
                <a:latin typeface="Arial Narrow"/>
              </a:rPr>
              <a:t>3 сентября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в 12:40 оперативному штабу удалось договориться с террористами об эвакуации из школы тел убитых заложников. В 12:55 к школе выдвигаются сотрудники МЧС, которые должны забрать тела убитых. В 13:03-13:05 в здании школы раздаются два взрыва, из школы стали выбегать заложники. После чего спецподразделения российской армии и ФСБ предприняли штурм. В результате штурма потери понесли как террористы, так и штурмующие (погибло 10 спецназовцев). Потери среди заложников: 331 погибший, около 500 раненых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27000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Прямоугольник 6"/>
          <p:cNvSpPr/>
          <p:nvPr/>
        </p:nvSpPr>
        <p:spPr>
          <a:xfrm>
            <a:off x="571680" y="2857680"/>
            <a:ext cx="82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Все произошло внезапно. Спасатели пошли в школу забирать тела убитых. В это время в спортзале что-то взорвалось. Когда дети убегали через дыру в стене от взрыва, террористы из школы стреляли им в спину. К уцелевшим, уже не обращая никакого внимания на пули, навстречу бежали родственники и военные. Заложников вели, подхватывали на руки…</a:t>
            </a:r>
            <a:endParaRPr b="0" lang="en-US" sz="2800" spc="-1" strike="noStrike">
              <a:solidFill>
                <a:srgbClr val="ffffff"/>
              </a:solidFill>
              <a:latin typeface="Goudy Stout"/>
            </a:endParaRPr>
          </a:p>
        </p:txBody>
      </p:sp>
      <p:pic>
        <p:nvPicPr>
          <p:cNvPr id="1046" name="Picture 5" descr="Беслан11"/>
          <p:cNvPicPr/>
          <p:nvPr/>
        </p:nvPicPr>
        <p:blipFill>
          <a:blip r:embed="rId1"/>
          <a:stretch/>
        </p:blipFill>
        <p:spPr>
          <a:xfrm>
            <a:off x="0" y="0"/>
            <a:ext cx="4260960" cy="2357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Беслан18"/>
          <p:cNvPicPr/>
          <p:nvPr/>
        </p:nvPicPr>
        <p:blipFill>
          <a:blip r:embed="rId2"/>
          <a:stretch/>
        </p:blipFill>
        <p:spPr>
          <a:xfrm>
            <a:off x="4714920" y="0"/>
            <a:ext cx="4429080" cy="22971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Прямоугольник 3"/>
          <p:cNvSpPr/>
          <p:nvPr/>
        </p:nvSpPr>
        <p:spPr>
          <a:xfrm>
            <a:off x="500040" y="21420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Почти все школьники были в майках и трусиках – в школе была страшная жара. Несмотря на шок, первое, что просили дети, - пить. </a:t>
            </a:r>
            <a:endParaRPr b="0" lang="en-US" sz="2800" spc="-1" strike="noStrike">
              <a:solidFill>
                <a:srgbClr val="ffffff"/>
              </a:solidFill>
              <a:latin typeface="Goudy Stout"/>
            </a:endParaRPr>
          </a:p>
        </p:txBody>
      </p:sp>
      <p:pic>
        <p:nvPicPr>
          <p:cNvPr id="1049" name="Picture 4" descr="юл"/>
          <p:cNvPicPr/>
          <p:nvPr/>
        </p:nvPicPr>
        <p:blipFill>
          <a:blip r:embed="rId1"/>
          <a:stretch/>
        </p:blipFill>
        <p:spPr>
          <a:xfrm rot="506400">
            <a:off x="5538600" y="259920"/>
            <a:ext cx="3412800" cy="2868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Беслан5"/>
          <p:cNvPicPr/>
          <p:nvPr/>
        </p:nvPicPr>
        <p:blipFill>
          <a:blip r:embed="rId2"/>
          <a:stretch/>
        </p:blipFill>
        <p:spPr>
          <a:xfrm rot="21068400">
            <a:off x="5478480" y="3608280"/>
            <a:ext cx="3471840" cy="2776680"/>
          </a:xfrm>
          <a:prstGeom prst="rect">
            <a:avLst/>
          </a:prstGeom>
          <a:ln w="0">
            <a:noFill/>
          </a:ln>
        </p:spPr>
      </p:pic>
      <p:sp>
        <p:nvSpPr>
          <p:cNvPr id="1051" name="TextBox 7"/>
          <p:cNvSpPr/>
          <p:nvPr/>
        </p:nvSpPr>
        <p:spPr>
          <a:xfrm>
            <a:off x="642960" y="3643200"/>
            <a:ext cx="45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С этого взрыва начался вынужденный штурм. Бойцы спецназа, которые после взрывов пошли в бой, закрывали собой заложников.</a:t>
            </a:r>
            <a:endParaRPr b="0" lang="en-US" sz="2800" spc="-1" strike="noStrike">
              <a:solidFill>
                <a:srgbClr val="ffffff"/>
              </a:solidFill>
              <a:latin typeface="Goudy Stout"/>
            </a:endParaRP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3429000" cy="32036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7" descr="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22092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28760" y="3142800"/>
            <a:ext cx="85104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c1eeff"/>
                </a:solidFill>
                <a:latin typeface="Arial Narrow"/>
              </a:rPr>
              <a:t>А в другой части города в это время стоял плач и причитания. Плакали женщины, когда узнавали своих родных среди убитых, плакал офицер, у которого на руках умерла девочка. На следующий день он сказал: «Все это можно было бы назвать победой, если не знать, какой ценой».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240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600" spc="-1" strike="noStrike">
                <a:solidFill>
                  <a:srgbClr val="f273af"/>
                </a:solidFill>
                <a:latin typeface="Arial"/>
                <a:ea typeface="Arial"/>
              </a:rPr>
              <a:t>Слезы, ненависть, горе. </a:t>
            </a:r>
            <a:br>
              <a:rPr sz="3600"/>
            </a:br>
            <a:r>
              <a:rPr b="1" lang="en-US" sz="3600" spc="-1" strike="noStrike">
                <a:solidFill>
                  <a:srgbClr val="f273af"/>
                </a:solidFill>
                <a:latin typeface="Arial"/>
                <a:ea typeface="Arial"/>
              </a:rPr>
              <a:t>Такой короткий промежуток </a:t>
            </a:r>
            <a:br>
              <a:rPr sz="3600"/>
            </a:br>
            <a:r>
              <a:rPr b="1" lang="en-US" sz="3600" spc="-1" strike="noStrike">
                <a:solidFill>
                  <a:srgbClr val="f273af"/>
                </a:solidFill>
                <a:latin typeface="Arial"/>
                <a:ea typeface="Arial"/>
              </a:rPr>
              <a:t>от счастья, праздника к своей гибели. По официальным данным в результате террористического акта </a:t>
            </a:r>
            <a:br>
              <a:rPr sz="3600"/>
            </a:br>
            <a:r>
              <a:rPr b="1" lang="en-US" sz="3600" spc="-1" strike="noStrike">
                <a:solidFill>
                  <a:srgbClr val="f273af"/>
                </a:solidFill>
                <a:latin typeface="Arial"/>
                <a:ea typeface="Arial"/>
              </a:rPr>
              <a:t>1-3 сентября 2004 года </a:t>
            </a:r>
            <a:br>
              <a:rPr sz="3600"/>
            </a:br>
            <a:r>
              <a:rPr b="1" lang="en-US" sz="3600" spc="-1" strike="noStrike">
                <a:solidFill>
                  <a:srgbClr val="f273af"/>
                </a:solidFill>
                <a:latin typeface="Arial"/>
                <a:ea typeface="Arial"/>
              </a:rPr>
              <a:t>в г. Беслан погибли </a:t>
            </a:r>
            <a:br>
              <a:rPr sz="3600"/>
            </a:br>
            <a:r>
              <a:rPr b="1" lang="en-US" sz="3600" spc="-1" strike="noStrike">
                <a:solidFill>
                  <a:srgbClr val="f273af"/>
                </a:solidFill>
                <a:latin typeface="Arial"/>
                <a:ea typeface="Arial"/>
              </a:rPr>
              <a:t>334 человека, из них 186 детей, </a:t>
            </a:r>
            <a:br>
              <a:rPr sz="3600"/>
            </a:br>
            <a:r>
              <a:rPr b="1" lang="en-US" sz="3600" spc="-1" strike="noStrike">
                <a:solidFill>
                  <a:srgbClr val="f273af"/>
                </a:solidFill>
                <a:latin typeface="Arial"/>
                <a:ea typeface="Arial"/>
              </a:rPr>
              <a:t>15 учителей, более 900 человек получили ранения…</a:t>
            </a:r>
            <a:br>
              <a:rPr sz="24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Box 3"/>
          <p:cNvSpPr/>
          <p:nvPr/>
        </p:nvSpPr>
        <p:spPr>
          <a:xfrm>
            <a:off x="1000080" y="4786200"/>
            <a:ext cx="7215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В память о жертвах Бесланской трагедии объявляется</a:t>
            </a:r>
            <a:endParaRPr b="0" lang="en-US" sz="3200" spc="-1" strike="noStrike">
              <a:solidFill>
                <a:srgbClr val="ffffff"/>
              </a:solidFill>
              <a:latin typeface="Goudy Stou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МИНУТА МОЛЧАНИЯ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  <p:pic>
        <p:nvPicPr>
          <p:cNvPr id="1057" name="r07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49447" fill="hold"/>
                                        <p:tgtEl>
                                          <p:spTgt spid="1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TextBox 3"/>
          <p:cNvSpPr/>
          <p:nvPr/>
        </p:nvSpPr>
        <p:spPr>
          <a:xfrm>
            <a:off x="785880" y="2286000"/>
            <a:ext cx="77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Мне не забыть тех страшных дней: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Потоком кровь с телеэкрана,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Меж пуль свистящих и огней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Мельканье лиц детей Беслана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642960" y="1213920"/>
            <a:ext cx="8158320" cy="49294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Маленьким жителям Беслана,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4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чьи имена навсегда останутся в памяти человечества, их  учителям, 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4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наставникам, до последней минуты сердцем прикрывавшим своих питомцев и  разделившим тяжесть выпавших на их долю испытаний, несгибаемым отцам и матерям Беслана – всем тем, кто погиб в темном пекле пылающего ада и кто выжил в эти страшные сентябрьские дни, посвятили мы наш классный час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TextBox 3"/>
          <p:cNvSpPr/>
          <p:nvPr/>
        </p:nvSpPr>
        <p:spPr>
          <a:xfrm>
            <a:off x="785880" y="2286000"/>
            <a:ext cx="77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Мне не забыть плач матерей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В объятьях траурного одеянья.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Их лица выглядят старей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С печатью горя и страданья.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TextBox 3"/>
          <p:cNvSpPr/>
          <p:nvPr/>
        </p:nvSpPr>
        <p:spPr>
          <a:xfrm>
            <a:off x="785880" y="2286000"/>
            <a:ext cx="77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oudy Stout"/>
              </a:rPr>
              <a:t>Мне не забыть тех нелюдей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oudy Stout"/>
              </a:rPr>
              <a:t>Под маской дьявольского ухмыленья.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oudy Stout"/>
              </a:rPr>
              <a:t>Прикрывшись мерзостью идей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oudy Stout"/>
              </a:rPr>
              <a:t>Свои творивших преступленья.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TextBox 3"/>
          <p:cNvSpPr/>
          <p:nvPr/>
        </p:nvSpPr>
        <p:spPr>
          <a:xfrm>
            <a:off x="785880" y="2286000"/>
            <a:ext cx="77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Без слов – одна лишь боль,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Убитых горем матерей рыданье.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О, Господи, скажи доколь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Назначил людям ты страданья!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Box 3"/>
          <p:cNvSpPr/>
          <p:nvPr/>
        </p:nvSpPr>
        <p:spPr>
          <a:xfrm>
            <a:off x="785880" y="2286000"/>
            <a:ext cx="77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От рук бездушных палачей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Детей загубленных, безгрешных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Теперь заменит свет свечей,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Но не излечит безутешных.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TextBox 3"/>
          <p:cNvSpPr/>
          <p:nvPr/>
        </p:nvSpPr>
        <p:spPr>
          <a:xfrm>
            <a:off x="785880" y="2286000"/>
            <a:ext cx="77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Не раздается детский смех,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Один лишь плач и боли стон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Останется нам, как на грех – 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oudy Stout"/>
              </a:rPr>
              <a:t>На память погребальный звон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TextBox 3"/>
          <p:cNvSpPr/>
          <p:nvPr/>
        </p:nvSpPr>
        <p:spPr>
          <a:xfrm>
            <a:off x="571680" y="428760"/>
            <a:ext cx="8001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Goudy Stout"/>
              </a:rPr>
              <a:t>В Беслане по-прежнему тихо. На улицах пусто, захлопнулись ворота в домах, где уже похоронили погибших заложников. Многолюдно лишь у развалин школы, но и там люди стараются разговаривать вполголоса. Только листва окрестных садов шумит, словно крылья ангелов, носящих над истерзанным зданием души убитых здесь детей…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TextBox 3"/>
          <p:cNvSpPr/>
          <p:nvPr/>
        </p:nvSpPr>
        <p:spPr>
          <a:xfrm>
            <a:off x="357120" y="5786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udy Stout"/>
              </a:rPr>
              <a:t>Памяти жертвам Беслана посвящается…</a:t>
            </a:r>
            <a:endParaRPr b="0" lang="en-US" sz="3600" spc="-1" strike="noStrike">
              <a:solidFill>
                <a:srgbClr val="ffffff"/>
              </a:solidFill>
              <a:latin typeface="Goudy Stout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Picture 4" descr="30230_20070901135018"/>
          <p:cNvPicPr/>
          <p:nvPr/>
        </p:nvPicPr>
        <p:blipFill>
          <a:blip r:embed="rId1"/>
          <a:srcRect l="9862" t="22677" r="18011" b="14835"/>
          <a:stretch/>
        </p:blipFill>
        <p:spPr>
          <a:xfrm>
            <a:off x="0" y="0"/>
            <a:ext cx="2786040" cy="2928960"/>
          </a:xfrm>
          <a:prstGeom prst="rect">
            <a:avLst/>
          </a:prstGeom>
          <a:ln w="0">
            <a:noFill/>
          </a:ln>
        </p:spPr>
      </p:pic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2857320" y="428400"/>
            <a:ext cx="6111720" cy="60721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 Black"/>
              </a:rPr>
              <a:t>Первое сентября в школе №1 в городке Беслан Республики Северная Осетия стало черным днем. В один момент праздник превратился в трагедию. Что произошло, как могло получиться, что цветы первоклашек, принесенные учителям, валяются в лужах </a:t>
            </a:r>
            <a:r>
              <a:rPr b="1" lang="en-US" sz="3700" spc="-1" strike="noStrike">
                <a:solidFill>
                  <a:srgbClr val="ffffff"/>
                </a:solidFill>
                <a:latin typeface="Arial Black"/>
              </a:rPr>
              <a:t>крови?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 txBox="1"/>
          <p:nvPr/>
        </p:nvSpPr>
        <p:spPr>
          <a:xfrm>
            <a:off x="357120" y="4284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Arial Narrow"/>
                <a:hlinkClick r:id="rId1"/>
              </a:rPr>
              <a:t>1 сентября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Narrow"/>
              </a:rPr>
              <a:t> </a:t>
            </a:r>
            <a:r>
              <a:rPr b="0" lang="en-US" sz="3000" spc="-1" strike="noStrike" u="sng">
                <a:solidFill>
                  <a:srgbClr val="eb8803"/>
                </a:solidFill>
                <a:uFillTx/>
                <a:latin typeface="Arial Narrow"/>
                <a:hlinkClick r:id="rId2"/>
              </a:rPr>
              <a:t>2004 года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Narrow"/>
              </a:rPr>
              <a:t> группа вооружённых людей в масках подъехала к зданию школы № 1 в </a:t>
            </a:r>
            <a:r>
              <a:rPr b="0" lang="en-US" sz="3000" spc="-1" strike="noStrike" u="sng">
                <a:solidFill>
                  <a:srgbClr val="eb8803"/>
                </a:solidFill>
                <a:uFillTx/>
                <a:latin typeface="Arial Narrow"/>
                <a:hlinkClick r:id="rId3"/>
              </a:rPr>
              <a:t>Беслане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Narrow"/>
              </a:rPr>
              <a:t> на нескольких автомобилях и прямо со школьной линейки захватила в качестве заложников 1128 человек — детей и их родителей, — загнав их в спортзал школы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Террористы потребовали от властей освобождения боевиков, ранее задержанных по подозрению в участии в нападении на Ингушетию 21—22 июня 2004 года, и вывода российских войск из Чечн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2500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TextBox 3"/>
          <p:cNvSpPr/>
          <p:nvPr/>
        </p:nvSpPr>
        <p:spPr>
          <a:xfrm>
            <a:off x="1071720" y="714240"/>
            <a:ext cx="7358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то-то подумал сначала, что на линейке стали пускать салют, кто-то ругался, приняв происходящее то ли за шутку, то ли за учения по гражданской обороне.</a:t>
            </a:r>
            <a:endParaRPr b="0" lang="en-US" sz="3200" spc="-1" strike="noStrike">
              <a:solidFill>
                <a:srgbClr val="ffffff"/>
              </a:solidFill>
              <a:latin typeface="Goudy Sto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73af"/>
                </a:solidFill>
                <a:latin typeface="Arial"/>
                <a:ea typeface="Arial"/>
              </a:rPr>
              <a:t>А те, кто был в масках, «поясах шахидов» и с оружием, уже били стекла первого этажа, чтобы упрятать в школе больше тысячи учеников, учителей и гостей праздника</a:t>
            </a:r>
            <a:endParaRPr b="0" lang="en-US" sz="3200" spc="-1" strike="noStrike">
              <a:solidFill>
                <a:srgbClr val="ffffff"/>
              </a:solidFill>
              <a:latin typeface="Goudy Stout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 txBox="1"/>
          <p:nvPr/>
        </p:nvSpPr>
        <p:spPr>
          <a:xfrm>
            <a:off x="357120" y="499680"/>
            <a:ext cx="84297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Одновременно террористы пригрозили взорвать здание школы в случае штурма и убивать по 50 заложников за каждого ликвидированного террориста, и по 20 - за раненого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В первый день террористы расстреляли 14 мужчин, оказавшихся в числе заложников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13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4" descr="115_va090111"/>
          <p:cNvPicPr/>
          <p:nvPr/>
        </p:nvPicPr>
        <p:blipFill>
          <a:blip r:embed="rId1"/>
          <a:stretch/>
        </p:blipFill>
        <p:spPr>
          <a:xfrm>
            <a:off x="0" y="0"/>
            <a:ext cx="2519280" cy="32148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7" descr="slide0005_image002"/>
          <p:cNvPicPr/>
          <p:nvPr/>
        </p:nvPicPr>
        <p:blipFill>
          <a:blip r:embed="rId2"/>
          <a:stretch/>
        </p:blipFill>
        <p:spPr>
          <a:xfrm>
            <a:off x="0" y="3110040"/>
            <a:ext cx="2500200" cy="3747960"/>
          </a:xfrm>
          <a:prstGeom prst="rect">
            <a:avLst/>
          </a:prstGeom>
          <a:ln w="0">
            <a:noFill/>
          </a:ln>
        </p:spPr>
      </p:pic>
      <p:sp>
        <p:nvSpPr>
          <p:cNvPr id="1026" name="TextBox 5"/>
          <p:cNvSpPr/>
          <p:nvPr/>
        </p:nvSpPr>
        <p:spPr>
          <a:xfrm>
            <a:off x="2786040" y="500040"/>
            <a:ext cx="59292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73af"/>
                </a:solidFill>
                <a:latin typeface="Arial Narrow"/>
              </a:rPr>
              <a:t>Еще никто не знал, а кто знал не говорил, что выстрелы в школе – это первые расстрелы. В кабинете русского языка и литературы боевики устроили расстрельную комнату. Террористы ставили к стенке тех, кто плохо себя вел – кричал или не слушал команд. Непослушных в первый же день оказалось сразу 20 человек. После того, как людей расстреливали, их выбрасывали в окно</a:t>
            </a:r>
            <a:endParaRPr b="0" lang="en-US" sz="3000" spc="-1" strike="noStrike">
              <a:solidFill>
                <a:srgbClr val="ffffff"/>
              </a:solidFill>
              <a:latin typeface="Goudy Stout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4" descr="Беслан13"/>
          <p:cNvPicPr/>
          <p:nvPr/>
        </p:nvPicPr>
        <p:blipFill>
          <a:blip r:embed="rId1"/>
          <a:stretch/>
        </p:blipFill>
        <p:spPr>
          <a:xfrm>
            <a:off x="0" y="571680"/>
            <a:ext cx="4772160" cy="2571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Беслан17"/>
          <p:cNvPicPr/>
          <p:nvPr/>
        </p:nvPicPr>
        <p:blipFill>
          <a:blip r:embed="rId2"/>
          <a:stretch/>
        </p:blipFill>
        <p:spPr>
          <a:xfrm>
            <a:off x="0" y="3571920"/>
            <a:ext cx="4818240" cy="2556000"/>
          </a:xfrm>
          <a:prstGeom prst="rect">
            <a:avLst/>
          </a:prstGeom>
          <a:ln w="0">
            <a:noFill/>
          </a:ln>
        </p:spPr>
      </p:pic>
      <p:sp>
        <p:nvSpPr>
          <p:cNvPr id="1029" name="TextBox 5"/>
          <p:cNvSpPr/>
          <p:nvPr/>
        </p:nvSpPr>
        <p:spPr>
          <a:xfrm>
            <a:off x="5000760" y="642960"/>
            <a:ext cx="3929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 Narrow"/>
              </a:rPr>
              <a:t>Детям велели залезть на подоконник и сказали: тех, кто будет шуметь, по 15 человек будем расстреливать. </a:t>
            </a:r>
            <a:endParaRPr b="0" lang="en-US" sz="3200" spc="-1" strike="noStrike">
              <a:solidFill>
                <a:srgbClr val="ffffff"/>
              </a:solidFill>
              <a:latin typeface="Goudy Sto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Они стояли на подоконниках как щит, а из-за их спин стреляли куда попало.</a:t>
            </a:r>
            <a:endParaRPr b="0" lang="en-US" sz="3200" spc="-1" strike="noStrike">
              <a:solidFill>
                <a:srgbClr val="ffffff"/>
              </a:solidFill>
              <a:latin typeface="Goudy Stout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428400" y="1428840"/>
            <a:ext cx="47862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Представители спецслужб передали террористам, что готовы предоставить им возможность безопасного выезда в Ингушетию и Чечню. Кроме того было предложено заменить заложников-детей на взрослых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Ответа на эти предложения не последовало, террористы также отказались принять воду, еду и медикаменты для захваченных в заложники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31" name="Picture 4" descr="bimg65501"/>
          <p:cNvPicPr/>
          <p:nvPr/>
        </p:nvPicPr>
        <p:blipFill>
          <a:blip r:embed="rId1"/>
          <a:stretch/>
        </p:blipFill>
        <p:spPr>
          <a:xfrm>
            <a:off x="5349960" y="2500200"/>
            <a:ext cx="3794040" cy="2846520"/>
          </a:xfrm>
          <a:prstGeom prst="rect">
            <a:avLst/>
          </a:prstGeom>
          <a:ln w="0">
            <a:noFill/>
          </a:ln>
        </p:spPr>
      </p:pic>
      <p:sp>
        <p:nvSpPr>
          <p:cNvPr id="1032" name="Прямоугольник 5"/>
          <p:cNvSpPr/>
          <p:nvPr/>
        </p:nvSpPr>
        <p:spPr>
          <a:xfrm>
            <a:off x="642960" y="35712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В ночь на 2 сентября состоялись переговоры террористов с доктором Рошалем. </a:t>
            </a:r>
            <a:endParaRPr b="0" lang="en-US" sz="2800" spc="-1" strike="noStrike">
              <a:solidFill>
                <a:srgbClr val="ffffff"/>
              </a:solidFill>
              <a:latin typeface="Goudy Stout"/>
            </a:endParaRPr>
          </a:p>
        </p:txBody>
      </p:sp>
    </p:spTree>
  </p:cSld>
  <p:transition advTm="21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6:16:47Z</dcterms:created>
  <dc:creator>Customer</dc:creator>
  <dc:description/>
  <dc:language>en-US</dc:language>
  <cp:lastModifiedBy>Viktor</cp:lastModifiedBy>
  <dcterms:modified xsi:type="dcterms:W3CDTF">2014-09-02T18:17:04Z</dcterms:modified>
  <cp:revision>23</cp:revision>
  <dc:subject/>
  <dc:title>Трагедия Беслана</dc:title>
</cp:coreProperties>
</file>