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A59-4FCC-4270-9BF6-F5220552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721-6098-4DA0-A97E-07C09498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DD6-2A21-46F6-A62F-9C2E98E9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C97-6C4D-4AA5-9CFE-CC6C7109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D2BC-1CAE-46CC-9B72-977CB2A7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5673-C957-4BE6-9791-46F50EA6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211A-0DA7-443C-8D3C-8CF82C51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AA27-C62E-4787-A009-930717EF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345C-DC10-455C-8C54-CF5A5F59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9E8B-5705-4EB4-915D-00EC09E3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7D02-5020-4EEE-A752-E5CDD5C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A6E-125D-40E7-A47C-44D9ABE3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2220-4F05-45F8-9E45-BF0C5E8A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F7CA-76AE-4146-BFAD-DA8BBCCF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13F1-F63C-49EF-B937-A935D992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BD80-1822-43E7-B5DF-2C057897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C896-841E-43F1-9EB5-904D2EFE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2B9-7B06-4A7F-92FA-45DC02BE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644-1E6C-451B-A344-898EC5D4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B1F-7C69-4336-BB39-78FC82C5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CA7-4FD7-4E80-A999-7E0B2AF9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038-6F12-4559-A8E5-EC439A5A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21F-8901-48A7-86CC-9D5DF010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E92-2FC2-436C-BED7-B711A0F5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C65C-D03A-40F6-81E8-9BB45D065D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4F79-1BD9-48EF-BFC7-F81F0A6D2A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зработиц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езонная безработи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никает регулярно в определенное время года и связана с сезонностью некоторых видов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00360" y="3573360"/>
            <a:ext cx="39020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крытая безработи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ществует в тех случаях, когда люди работают неполный рабочий день или неполную рабочую неделю. Официально как безработные они не регистриру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37080" y="4005360"/>
            <a:ext cx="295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следствия безрабо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циальные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еря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образовательн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т криминогенной об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Экономическ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еря потенциального ВВ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ставание ВВП = (Потенциальный ВВП – Фактический ВВ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икционная, структурная и сезонная безработицы составляют естественный уровень, или естественную норму безработицы (уровень безработицы при полной занятости), соответствующую потенциальному ВВ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ная занятость ресурсов предполагает поддержание доли незагруженных производственных мощностей на уровне 10-20% от  их общего объема и естественного уровня безработицы в размере 5,5-6,5% от общей численности рабочей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Уровень безработиц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транах с развитой рыночной экономикой в 200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ША                     4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пония                 5,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рмания             7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нция               8,6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ания               17,6 %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зработица – одна из главных социальных проблем не только России. Не менее остро эта проблема стоит и перед правительствами западных стран с развитой рыночной эконом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аправления,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которым государство решает проблему безработиц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ение структурной перестройки профессий на уровне квал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лата пособий по безработ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ановление уровня минимальной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Безработи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макроэкономическая проблема, оказывающая  наиболее прямое и сильное воздействие на человека. Потеря работы означает снижение жизненного уровня и наносит психологическую трав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Безработи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в стране людей, которые способны и желают трудиться по найму при сложившемся уровне оплаты труда, но не могут найти работу по специальности или трудоустроиться вооб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04000" y="4581360"/>
            <a:ext cx="1660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аселение стра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 граждане страны, независимо от их возраста и п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рудоспособ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трудоспособ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2952720" cy="3225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374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рудоспособн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абочая с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заня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безраб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обровольно незанят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люди в трудоспособном возрасте, но или учатся, или не работают, и не ищут работу по тем или иным причин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2592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Безработн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зработными признаются лица, относящиеся к трудоспособному населению, желающие трудиться, но по ряду причин не имеющи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4826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иды безрабо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ик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кл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зо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ы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27640" y="1989000"/>
            <a:ext cx="410508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рикционная безработи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язанная с поисками и ожиданиями работы. Вызвана тем, что какая-то часть людей всегда ищет работу, соответствующую их квалификации и целям. Этот вид безработицы считается нормальным и не вызывающим трев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32720" y="4437000"/>
            <a:ext cx="1793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труктурная безработи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никает в результате технического прогресса, сокращающего спрос на работников одной профессии и увеличивающего спрос на работников других профессий. Избежать ее невозможно. Это болезненно, но может не волновать страну, но лишь в том случае, когда число свободных мест не меньше числа людей, ищущих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иклическая безработи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никает в период общего экономического спада. В стране начинаются массовые повсеместные увольнения. Число рабочих мест оказывается меньше числа безраб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24360" y="4292640"/>
            <a:ext cx="4392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18:35:04Z</dcterms:created>
  <dc:creator>Теща</dc:creator>
  <dc:description/>
  <dc:language>en-US</dc:language>
  <cp:lastModifiedBy>Теща</cp:lastModifiedBy>
  <dcterms:modified xsi:type="dcterms:W3CDTF">2012-11-14T20:32:34Z</dcterms:modified>
  <cp:revision>3</cp:revision>
  <dc:subject/>
  <dc:title>Безработица</dc:title>
</cp:coreProperties>
</file>