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216-6C70-4D3A-A7E7-6DFAE8EF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8AC-1E8F-444B-B866-0A088A2E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0F2-79CB-482E-B4F4-01D865EB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3BC-F547-437B-83B2-577DA794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380-6D5D-4E1D-A4DD-47F7E189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AB4-16EF-4D19-94CA-4C60A958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457-1D94-428C-A865-46787D16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D29-2CB0-40ED-B969-388FA651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8CF-FB9F-4153-BF9C-5613E51D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891-8FCC-4A09-9092-5A53FA98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078-5788-43F8-A5D5-8EC08555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CDE-29EA-47EB-8FBB-7709F1A8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E034-AEE8-47F3-BCC7-D4DF571ED0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00000" y="1413000"/>
            <a:ext cx="7345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995640" y="4508640"/>
            <a:ext cx="51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920" y="3933720"/>
            <a:ext cx="86421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оваленко Елена Николаевна,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 О У школа  № 188 с углублённым изучением мировой художественной культуры  Красногвардейского района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орода Санкт- Петербурга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оябрь 2014 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9640" y="333360"/>
            <a:ext cx="806472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уши  моей  создания …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d3e8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403280" y="3933720"/>
            <a:ext cx="662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ишь напрасно прожитые годы ,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 подарят счастливую старость 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ссякают мгновения жизни… ,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"/>
          <p:cNvSpPr/>
          <p:nvPr/>
        </p:nvSpPr>
        <p:spPr>
          <a:xfrm>
            <a:off x="1476360" y="57340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 flipV="1">
            <a:off x="1403280" y="4078080"/>
            <a:ext cx="55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 flipV="1">
            <a:off x="1403280" y="4005000"/>
            <a:ext cx="56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80240" y="5576760"/>
            <a:ext cx="54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тебя , так тревожит усталость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0" descr="к7"/>
          <p:cNvPicPr/>
          <p:nvPr/>
        </p:nvPicPr>
        <p:blipFill>
          <a:blip r:embed="rId1"/>
          <a:stretch/>
        </p:blipFill>
        <p:spPr>
          <a:xfrm>
            <a:off x="826920" y="260280"/>
            <a:ext cx="7704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2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2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2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10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2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2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2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2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2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2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a9a9"/>
            </a:gs>
            <a:gs pos="100000">
              <a:srgbClr val="699b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276720" y="1700280"/>
            <a:ext cx="5472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**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абочки снежинок ,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рхая ,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несли мою память о лете 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рогнула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 отозвалась сладкой болью ,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труна моего сердца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0" descr="к3"/>
          <p:cNvPicPr/>
          <p:nvPr/>
        </p:nvPicPr>
        <p:blipFill>
          <a:blip r:embed="rId1"/>
          <a:stretch/>
        </p:blipFill>
        <p:spPr>
          <a:xfrm>
            <a:off x="179280" y="549360"/>
            <a:ext cx="295128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>
            <a:alpha val="5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7138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Arial"/>
              </a:rPr>
              <a:t>РЕСУРСЫ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7143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1889280"/>
            <a:ext cx="7877520" cy="17190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" descr=""/>
          <p:cNvPicPr/>
          <p:nvPr/>
        </p:nvPicPr>
        <p:blipFill>
          <a:blip r:embed="rId2"/>
          <a:stretch/>
        </p:blipFill>
        <p:spPr>
          <a:xfrm>
            <a:off x="1420920" y="3627360"/>
            <a:ext cx="686916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e00"/>
            </a:gs>
            <a:gs pos="50000">
              <a:srgbClr val="b2b2b2"/>
            </a:gs>
            <a:gs pos="100000">
              <a:srgbClr val="007e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2"/>
          <p:cNvPicPr/>
          <p:nvPr/>
        </p:nvPicPr>
        <p:blipFill>
          <a:blip r:embed="rId1"/>
          <a:stretch/>
        </p:blipFill>
        <p:spPr>
          <a:xfrm>
            <a:off x="250920" y="260280"/>
            <a:ext cx="8496360" cy="48974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826920" y="5373720"/>
            <a:ext cx="691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ша моя в неприкаянье слоняется по свету,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а я, как цветок маттиолы, оживаю лишь к ночи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моя  - это цветистые фразы,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я сложу к ногам своей неприкаянной души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01-AudioTrack 01.mp3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3429000"/>
            <a:ext cx="52671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тынет день, окутанный дожд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Это осень залетела в гор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ы идешь , разбрызгивая радос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 тебе все горя по коле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0" descr="к6"/>
          <p:cNvPicPr/>
          <p:nvPr/>
        </p:nvPicPr>
        <p:blipFill>
          <a:blip r:embed="rId1"/>
          <a:stretch/>
        </p:blipFill>
        <p:spPr>
          <a:xfrm>
            <a:off x="5292720" y="855720"/>
            <a:ext cx="33940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cf73"/>
            </a:gs>
            <a:gs pos="100000">
              <a:srgbClr val="a9d5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763640" y="765000"/>
            <a:ext cx="6696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**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же опять сентябрь кружит листья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том вальсе , что обещан был тобою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 мы тогда друг другу не приснились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 нет надежды , что приснимся вскоре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ист облетает , пожелтевший в вечер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ду дорогой , ветер носит брызги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Фонарь горит , в асфальте отражаясь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юблю тебя , а мир перевернулся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3852"/>
            </a:gs>
            <a:gs pos="100000">
              <a:srgbClr val="4978b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>
            <a:off x="3059280" y="2349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900000" y="692280"/>
            <a:ext cx="691380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***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прокляну Вас  -  и благословлю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ез Вас, и  с Вами песен не пою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ы мой пожар, и струи ледяные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ненавижу Вас!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о, Боже, как люблю!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1" descr="1"/>
          <p:cNvPicPr/>
          <p:nvPr/>
        </p:nvPicPr>
        <p:blipFill>
          <a:blip r:embed="rId1"/>
          <a:stretch/>
        </p:blipFill>
        <p:spPr>
          <a:xfrm>
            <a:off x="5003640" y="4035600"/>
            <a:ext cx="414036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d"/>
            </a:gs>
            <a:gs pos="100000">
              <a:srgbClr val="76763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907640" y="5229000"/>
            <a:ext cx="6264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от и осень прошла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Золотистым дождем листья брызнули 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 веток слет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7" descr="к5"/>
          <p:cNvPicPr/>
          <p:nvPr/>
        </p:nvPicPr>
        <p:blipFill>
          <a:blip r:embed="rId1"/>
          <a:stretch/>
        </p:blipFill>
        <p:spPr>
          <a:xfrm>
            <a:off x="971640" y="476280"/>
            <a:ext cx="712944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780000" y="1557360"/>
            <a:ext cx="536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***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Я вся – в пути,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 путь мой неизбежен 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огда б могли Вы это осознать ,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 стало бы печали расставаний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ишь радость встречного пути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0" descr="к4"/>
          <p:cNvPicPr/>
          <p:nvPr/>
        </p:nvPicPr>
        <p:blipFill>
          <a:blip r:embed="rId2"/>
          <a:stretch/>
        </p:blipFill>
        <p:spPr>
          <a:xfrm>
            <a:off x="0" y="765000"/>
            <a:ext cx="363852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050920" y="692280"/>
            <a:ext cx="5977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**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ы можешь часто сомневаться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и в чем не видя совершенства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о разве это исключает,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усть редко ,…чувствовать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лаженство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0" descr="к2"/>
          <p:cNvPicPr/>
          <p:nvPr/>
        </p:nvPicPr>
        <p:blipFill>
          <a:blip r:embed="rId1"/>
          <a:stretch/>
        </p:blipFill>
        <p:spPr>
          <a:xfrm>
            <a:off x="2195640" y="4221000"/>
            <a:ext cx="4790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cf73"/>
            </a:gs>
            <a:gs pos="100000">
              <a:srgbClr val="00b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 flipV="1" rot="10812000">
            <a:off x="218880" y="2203200"/>
            <a:ext cx="60512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**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пали сумерки на город осенний ,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олотом светятся фонари ,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здух напоен дымком сомнений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говорим о любви?..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0" descr="к1"/>
          <p:cNvPicPr/>
          <p:nvPr/>
        </p:nvPicPr>
        <p:blipFill>
          <a:blip r:embed="rId1"/>
          <a:stretch/>
        </p:blipFill>
        <p:spPr>
          <a:xfrm>
            <a:off x="5580000" y="804960"/>
            <a:ext cx="338472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0:43:36Z</dcterms:created>
  <dc:creator>Ученик</dc:creator>
  <dc:description/>
  <dc:language>en-US</dc:language>
  <cp:lastModifiedBy>ххх</cp:lastModifiedBy>
  <dcterms:modified xsi:type="dcterms:W3CDTF">2014-11-07T15:40:41Z</dcterms:modified>
  <cp:revision>49</cp:revision>
  <dc:subject/>
  <dc:title>Слайд 1</dc:title>
</cp:coreProperties>
</file>