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2AC-0466-4C65-A5F3-11BC984D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03C-7A09-431F-83E5-1E74FD37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785-CE37-43FF-B9FD-7B4C0C16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577-1EAE-43FE-9CF6-CBBB8531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1B48-9ED4-4701-9E1F-19D7D629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90B6-FFAC-421F-98BA-2568E4E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DD4F-40A6-4FCB-88A1-A4F13EF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5426-28CD-48B3-BA92-47071EB4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1FA8-1BA5-454A-8B73-097F964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3C6-AEBD-4442-846E-B68ACF6B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42D-DDCE-448D-9DAE-E8D9C77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F84-800A-4399-B2E3-AA7C9444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47E-7CA6-45DC-9351-D96F54E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C9E-99F1-4240-AC23-2EDBC865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5B16-6850-4CC9-88C8-1611A71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807E-E9E7-438F-939C-69090919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C72-8D8B-4A9B-AE95-29675B18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3C05-0D2A-487E-B63E-B52A1A94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8D00-F45C-41C1-A123-CACA71B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A410-F981-488D-B3DD-20912F0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936E-3005-461B-8AD9-993B9B5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7E51-5641-4CFF-A453-87B1D67B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190-BA23-4DB1-A09F-E26F090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0C5D-305D-49FD-9BD7-B7D7E2F1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D22B-FB14-460D-970E-CE982FA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0202-CC6E-4FB7-8D0A-3964106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68A9-6301-475C-96DB-2E6C803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C262-2031-4B04-89CE-7614EAEE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62E2-A366-47D0-8283-F8114E6D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044F-47EE-4B16-99AE-50920318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75B1-4C65-44A5-ACB5-7E6E3E5C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D049-A6F2-4AE4-AD11-5571565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FADF-D7E0-4852-BD5E-D9ACE853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78F-98CE-4E39-B8D1-A872DCC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5969-688F-4B98-897D-DC0EAE7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A4FC-5E0C-4B25-86C9-09B3DBC6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4112-92F4-4918-9BB4-E084B26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1A3F-BE46-4EC6-ADC3-9644104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1B0D-7B1F-4C91-AFB3-388ABC2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724C6-F6C9-462B-AE6B-77200F7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604F-C1E5-4980-BE05-3F2D3830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436A-EE3F-4882-B2F3-62DD3432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EF95-1C62-4EB9-B7FF-97A69B58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7BBD-1FDE-4462-A6AF-5C83F78C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ED6-7C05-4649-BC47-CA525780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E06BF-81E1-4237-A41C-E1A857C8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F3B6-B4AB-4447-AC07-9335186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FAD1-E049-4CEE-8789-16C91EDF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D0D0-1D29-441E-AC3A-D61342ED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6D8DC-1C2F-462D-BD85-2156599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7433A-FEB0-4169-B937-945EBE7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E93A-CF0C-46F7-B140-E30B5B2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F9A1-00F9-4C72-969C-F96172F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A443-B650-444C-8274-3A922BBA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A5EB-4F2B-48AC-9CEF-0F7DBD15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D48-60DD-4D0E-8CBC-5FAC4EA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4921-8D15-425E-B4A7-02379246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85-EB27-4C9E-A4EB-DE180BB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AA9-A181-46C1-AAE6-62C6C952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707-F89F-4D81-91EC-208B4B9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A0F-F52C-410F-B9A1-094E4842858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AAE-9CC6-425E-AC5C-BE6CB4BB2C4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BC7-AE33-4BC6-8C74-7A7ACDA2EA3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3E2-CE58-4C1C-9C93-C3CAA7FD07C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B79-7E0F-42F6-B032-ED77D39A807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6480" y="-347760"/>
            <a:ext cx="8425080" cy="2279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5" descr="180px-Casino_slots2"/>
          <p:cNvPicPr/>
          <p:nvPr/>
        </p:nvPicPr>
        <p:blipFill>
          <a:blip r:embed="rId2"/>
          <a:stretch/>
        </p:blipFill>
        <p:spPr>
          <a:xfrm>
            <a:off x="285840" y="4572000"/>
            <a:ext cx="3384360" cy="199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1"/>
          <p:cNvPicPr/>
          <p:nvPr/>
        </p:nvPicPr>
        <p:blipFill>
          <a:blip r:embed="rId3"/>
          <a:stretch/>
        </p:blipFill>
        <p:spPr>
          <a:xfrm>
            <a:off x="1428840" y="1857240"/>
            <a:ext cx="4716360" cy="256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gambling"/>
          <p:cNvPicPr/>
          <p:nvPr/>
        </p:nvPicPr>
        <p:blipFill>
          <a:blip r:embed="rId4"/>
          <a:stretch/>
        </p:blipFill>
        <p:spPr>
          <a:xfrm>
            <a:off x="6215040" y="3786120"/>
            <a:ext cx="27748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</a:rPr>
              <a:t>Мания азар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расть к азартной игре и легкой наживе присуща человечеству с древних времен. Богатый и бедный, одаренный и глупый, счастливый и несчастный – практически каждый человек может попасть в болезненную зависимость от азартных игр. Это состояние называется игромания (лудомания, патологический гемблинг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зартные игры появились еще на заре цивилизации. В древнем Вавилоне, и Египте находили игровые кости. На Востоке и Западе с удовольствием предавались азартным играм, и ничто - ни власть, ни церковь, и ни тем более никакие доводы рассудка не смогли остановить азартные игр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зарт не является патологи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зартные игры сами по себе в той или иной форме являются развлечением. Любой человек свободен, делать то, что хоче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 том числе это касается и развлечени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о иногда случается так, что у человека может возникнуть зависимость от азартных иг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акой игрок сам уже не владеет своей жизнь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ся его жизнь - это игр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является зависимость от игр, которую называют игромание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igrov_zavisimost"/>
          <p:cNvPicPr/>
          <p:nvPr/>
        </p:nvPicPr>
        <p:blipFill>
          <a:blip r:embed="rId1"/>
          <a:stretch/>
        </p:blipFill>
        <p:spPr>
          <a:xfrm>
            <a:off x="826920" y="995400"/>
            <a:ext cx="7274160" cy="4470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ffde66"/>
                </a:solidFill>
                <a:latin typeface="Trebuchet MS"/>
              </a:rPr>
              <a:t>Причины игровой зависимост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ддиктивное (зависимое) поведение, в т.ч. и гемблинг, в своей основе имеет стремление ухода от реальности. Это стремление становится доминирующим в сознании человека, его поведение подчинено поиску средств, позволяющих уйти от реально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 главным причинам всех зависимых состояний относятся страдания, давление социального окружения или поиск удовольствия и стремления к саморазруш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ловек не становится зависимым, если находится в согласии с самим собой, со своими чувствами и может адекватно выразить эти чувства, когда он поддерживает хорошие отношения с другими людьми и может позаботиться о себ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e66"/>
                </a:solidFill>
                <a:latin typeface="Trebuchet MS"/>
              </a:rPr>
              <a:t>Факторы, предрасполагающие к гэмблинг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еправильное воспитание в семь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частие в играх родителей, знакомы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ремление к игре с детства (домино, карты, монополия и т. д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ещиз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ереоценка значения материальных ценност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иксированное внимание на финансовых возможностя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висть к более богатым родственникам и знакомы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беждение в том, что все проблемы можно решить с помощью денег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мериканский исследователь А. Пастернак (Pasternak, 1997), в свою очередь, в качестве факторов риска выделяет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надлежность к национальному меньшинств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тсутствие семейного статус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пресси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 также различные варианты химической аддикции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e66"/>
                </a:solidFill>
                <a:latin typeface="Trebuchet MS"/>
              </a:rPr>
              <a:t>Советы и помощь тем, кто страдает пристрастием к азартным игра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rebuchet MS"/>
              </a:rPr>
              <a:t>Поддержка</a:t>
            </a:r>
            <a:r>
              <a:rPr b="0" lang="ru-RU" sz="18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Обратитесь за помощью к другу или мужу (жене). Поговорите о том, какая вам требуется поддержка, о том, как ее лучше организовать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rebuchet MS"/>
              </a:rPr>
              <a:t>Доступ к деньга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Уменьшите доступ к наличным деньгам. Без доступа к деньгам играть в азартные игры невозможно. Например, можно уменьшить лимит на сумму денег, которую можно снимать в банке в течение одного дня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rebuchet MS"/>
              </a:rPr>
              <a:t>Честн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Важно быть честным с самим собой, членами семьи и друзьями. Вы должны признать, что оказались в тяжелой ситуации, и рассказать кому-то об этом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rebuchet MS"/>
              </a:rPr>
              <a:t>Самоубеждени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Подумайте о некоторых своих представлениях и поставьте их под сомнение. Например, люди, страдающие пристрастием к азартным играм, считают, что можно предугадать, когда игральный автомат начнет давать выигрывать. Вы должны постоянно ставить под сомнение верность таких представлен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rebuchet MS"/>
              </a:rPr>
              <a:t>Альтернативы</a:t>
            </a:r>
            <a:r>
              <a:rPr b="0" lang="ru-RU" sz="18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Вы должны в качестве альтернативы найти себе занятие, которое вам нравится, и обращаться к нему тогда, когда вас тянет играть. Подумайте о том, чем вам нравится заниматьс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7:37:18Z</dcterms:created>
  <dc:creator>Admin</dc:creator>
  <dc:description/>
  <dc:language>en-US</dc:language>
  <cp:lastModifiedBy>BLACK</cp:lastModifiedBy>
  <dcterms:modified xsi:type="dcterms:W3CDTF">2004-10-07T20:14:33Z</dcterms:modified>
  <cp:revision>20</cp:revision>
  <dc:subject/>
  <dc:title>Игровая зависимость</dc:title>
</cp:coreProperties>
</file>