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B52-7BAC-4327-B4DA-78D78236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E62-776C-41FA-8EB2-3A9EFD9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D9D-BE5F-4CB9-ADD3-48BDE70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3E9-DF1C-4A09-AFD9-59E5F11B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C13-4EAA-4E8B-A1FF-7BCD8206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3C4-9EEF-4896-A3CC-3342890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15D-A068-423E-837E-79E63AB9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14E-5C93-4409-B119-E43C7B9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A74-4824-4ABC-BD65-2018F81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2B1-16D3-4B7A-835C-2A7BB0B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2D8-D252-4927-8E03-8407223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505-D2F0-4B06-B8E9-A58D45E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6DA-61D5-4E74-BEC3-DCE36E41C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7680" y="2858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8"/>
          <p:cNvSpPr/>
          <p:nvPr/>
        </p:nvSpPr>
        <p:spPr>
          <a:xfrm>
            <a:off x="3286080" y="1143000"/>
            <a:ext cx="2286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Тема-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1 существительн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9"/>
          <p:cNvSpPr/>
          <p:nvPr/>
        </p:nvSpPr>
        <p:spPr>
          <a:xfrm>
            <a:off x="2214720" y="2000160"/>
            <a:ext cx="2133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прилагательн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4357800" y="2000160"/>
            <a:ext cx="20001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прилагательн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11"/>
          <p:cNvSpPr/>
          <p:nvPr/>
        </p:nvSpPr>
        <p:spPr>
          <a:xfrm>
            <a:off x="1857240" y="2928960"/>
            <a:ext cx="1704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Глаг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14"/>
          <p:cNvSpPr/>
          <p:nvPr/>
        </p:nvSpPr>
        <p:spPr>
          <a:xfrm>
            <a:off x="1357200" y="3786120"/>
            <a:ext cx="14907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Фраза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18"/>
          <p:cNvSpPr/>
          <p:nvPr/>
        </p:nvSpPr>
        <p:spPr>
          <a:xfrm>
            <a:off x="2357280" y="5429160"/>
            <a:ext cx="400068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Вывод – суть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1 существительное – синоним первому существительном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21"/>
          <p:cNvSpPr/>
          <p:nvPr/>
        </p:nvSpPr>
        <p:spPr>
          <a:xfrm>
            <a:off x="3571920" y="2928960"/>
            <a:ext cx="1704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Глаг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22"/>
          <p:cNvSpPr/>
          <p:nvPr/>
        </p:nvSpPr>
        <p:spPr>
          <a:xfrm>
            <a:off x="5286240" y="2928960"/>
            <a:ext cx="1704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(Глаг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23"/>
          <p:cNvSpPr/>
          <p:nvPr/>
        </p:nvSpPr>
        <p:spPr>
          <a:xfrm>
            <a:off x="2857680" y="3786120"/>
            <a:ext cx="14904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24"/>
          <p:cNvSpPr/>
          <p:nvPr/>
        </p:nvSpPr>
        <p:spPr>
          <a:xfrm>
            <a:off x="4357800" y="3786120"/>
            <a:ext cx="14904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25"/>
          <p:cNvSpPr/>
          <p:nvPr/>
        </p:nvSpPr>
        <p:spPr>
          <a:xfrm>
            <a:off x="5857920" y="3786120"/>
            <a:ext cx="14907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те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авая фигурная скобка 26"/>
          <p:cNvSpPr/>
          <p:nvPr/>
        </p:nvSpPr>
        <p:spPr>
          <a:xfrm rot="5400000">
            <a:off x="3893400" y="1535400"/>
            <a:ext cx="928800" cy="6143760"/>
          </a:xfrm>
          <a:custGeom>
            <a:avLst/>
            <a:gdLst>
              <a:gd name="textAreaLeft" fmla="*/ 0 w 928800"/>
              <a:gd name="textAreaRight" fmla="*/ 335520 w 928800"/>
              <a:gd name="textAreaTop" fmla="*/ 24120 h 6143760"/>
              <a:gd name="textAreaBottom" fmla="*/ 6119640 h 614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2"/>
                </a:cubicBezTo>
                <a:lnTo>
                  <a:pt x="10800" y="10327"/>
                </a:lnTo>
                <a:cubicBezTo>
                  <a:pt x="10800" y="10463"/>
                  <a:pt x="16200" y="10599"/>
                  <a:pt x="21600" y="10599"/>
                </a:cubicBezTo>
                <a:cubicBezTo>
                  <a:pt x="16200" y="10599"/>
                  <a:pt x="10800" y="10735"/>
                  <a:pt x="10800" y="10871"/>
                </a:cubicBezTo>
                <a:lnTo>
                  <a:pt x="10800" y="21328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64a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27"/>
          <p:cNvSpPr/>
          <p:nvPr/>
        </p:nvSpPr>
        <p:spPr>
          <a:xfrm>
            <a:off x="1285920" y="5072040"/>
            <a:ext cx="60721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Предложение, состоящее из 4 с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1071720" y="1143000"/>
            <a:ext cx="6500520" cy="5214960"/>
          </a:xfrm>
          <a:prstGeom prst="roundRect">
            <a:avLst>
              <a:gd name="adj" fmla="val 15824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Это определение пришло к нам от французского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Это стихотворение, состоящее из пяти стр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1071720" y="1143000"/>
            <a:ext cx="6500520" cy="521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нечное, беззабот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дует, прыгает, уход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всегда помним дет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ЧАСТ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0-03-23T12:03:37Z</dcterms:modified>
  <cp:revision>4</cp:revision>
  <dc:subject/>
  <dc:title>Слайд 1</dc:title>
</cp:coreProperties>
</file>