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2.jpeg" ContentType="image/jpeg"/>
  <Override PartName="/ppt/media/image21.wmf" ContentType="image/x-wmf"/>
  <Override PartName="/ppt/media/image6.jpeg" ContentType="image/jpeg"/>
  <Override PartName="/ppt/media/image19.jpeg" ContentType="image/jpeg"/>
  <Override PartName="/ppt/media/image42.jpeg" ContentType="image/jpeg"/>
  <Override PartName="/ppt/media/image18.wmf" ContentType="image/x-wmf"/>
  <Override PartName="/ppt/media/image20.png" ContentType="image/png"/>
  <Override PartName="/ppt/media/image3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wmf" ContentType="image/x-wmf"/>
  <Override PartName="/ppt/media/image35.jpeg" ContentType="image/jpeg"/>
  <Override PartName="/ppt/media/image5.png" ContentType="image/png"/>
  <Override PartName="/ppt/media/image43.jpeg" ContentType="image/jpeg"/>
  <Override PartName="/ppt/media/image30.wmf" ContentType="image/x-wmf"/>
  <Override PartName="/ppt/media/image33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1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9BE-C1D1-440B-B58D-8B6271EA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C56-51B3-4773-AF03-DA98F4A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860-4D26-487A-8F21-D748B09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38E-103D-450A-8F1A-F53FAFCA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ED58-2D45-48E3-BB24-DBBA291E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7068-DE54-4166-B3F1-9619FF4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522-F82E-46B6-BE83-06607AF7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91E-2661-4E34-8FE9-57311B0F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E3B-AB67-4167-9D9C-4AE3C32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9E7-8D3E-4B8D-87D5-86E5E24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DA4A-C84B-49C5-9E00-019C89A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AF4-F455-48A4-8C0E-B69B698E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445-63DE-45E2-B666-3B78D91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0E2D-E259-4129-A307-B9A6FED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3EA-42BB-4A50-A242-911E3624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2AAA-9C2B-47BB-9440-358F2153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BA36-9330-44F8-AB42-50405AB5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A26-66A7-45E0-B38E-5FE92E52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416-2070-43AB-84A5-2CE01BA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C0D-A3BE-4BF3-9598-99749CDC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57F-0BCE-4479-B173-AAB14D9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C15-352F-4CA6-91FF-33751D9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D0F-7B5F-4255-83C7-E71C87C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FF8-59BE-486F-894C-0BF757D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6017-ADD7-493E-B2C4-75BD78DD8E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9EE-57C3-4354-966C-5B7E37F3B3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2230200" cy="3346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2089080" cy="3314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35640" y="2708280"/>
            <a:ext cx="2195640" cy="3241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25398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6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318780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2"/>
          <p:cNvGraphicFramePr/>
          <p:nvPr/>
        </p:nvGraphicFramePr>
        <p:xfrm>
          <a:off x="428760" y="333360"/>
          <a:ext cx="5429160" cy="36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333360"/>
                    <a:ext cx="54291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Прямоугольник 4"/>
          <p:cNvSpPr/>
          <p:nvPr/>
        </p:nvSpPr>
        <p:spPr>
          <a:xfrm>
            <a:off x="1476360" y="981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Зеленые ст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2987640" y="213372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Восстановленные 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D:\articles\01\1000178\PH02030.jpg"/>
          <p:cNvPicPr/>
          <p:nvPr/>
        </p:nvPicPr>
        <p:blipFill>
          <a:blip r:embed="rId4"/>
          <a:stretch/>
        </p:blipFill>
        <p:spPr>
          <a:xfrm>
            <a:off x="4356000" y="3500280"/>
            <a:ext cx="33480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bc40"/>
                </a:solidFill>
                <a:latin typeface="Arial"/>
              </a:rPr>
              <a:t>Национальный уровень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477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978 г. – вышла в свет Красная книга С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984 – 1985 гг. – издан 2 выпуск Красной книги СССР из 2 томов. В неё вошли насекомые, ракообразные, моллюски и дождевые чер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торой том посвящён растениям – мхам, водорослям, лишайникам, гриб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356000" y="4724280"/>
            <a:ext cx="1284480" cy="1859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1366560" cy="1873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13125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Региональный уровень</a:t>
            </a:r>
            <a:br>
              <a:rPr sz="3600"/>
            </a:b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Красная книга республики Коми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Красная книга Республики Ком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официальный справочник о состоянии редких и находящихся под угрозой исчезновения видов природной фауны и флоры Республики Ко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исок редких видов растений нашей республики, был утвержден еще в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983 год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ая книга Коми была учреждена в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998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вое издание были включены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11 видо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ений, животных и грибов, включая лишай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УТЕШЕСТВИЕ ПО СТРАНИЦАМ</a:t>
            </a:r>
            <a:r>
              <a:rPr b="0" lang="en-US" sz="3200" spc="-1" strike="noStrike">
                <a:solidFill>
                  <a:srgbClr val="f4bc4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РАСНОЙ КНИГИ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Республики Коми</a:t>
            </a:r>
            <a:endParaRPr b="0" lang="en-US" sz="32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60" name="Picture 4" descr="разное 078.jpg"/>
          <p:cNvPicPr/>
          <p:nvPr/>
        </p:nvPicPr>
        <p:blipFill>
          <a:blip r:embed="rId1"/>
          <a:stretch/>
        </p:blipFill>
        <p:spPr>
          <a:xfrm>
            <a:off x="826920" y="1989000"/>
            <a:ext cx="2387880" cy="3102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разное 091.jpg"/>
          <p:cNvPicPr/>
          <p:nvPr/>
        </p:nvPicPr>
        <p:blipFill>
          <a:blip r:embed="rId2"/>
          <a:stretch/>
        </p:blipFill>
        <p:spPr>
          <a:xfrm>
            <a:off x="5643720" y="19288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разное 081.jpg"/>
          <p:cNvPicPr/>
          <p:nvPr/>
        </p:nvPicPr>
        <p:blipFill>
          <a:blip r:embed="rId3"/>
          <a:stretch/>
        </p:blipFill>
        <p:spPr>
          <a:xfrm>
            <a:off x="3214800" y="3214800"/>
            <a:ext cx="2435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Европейская норка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1428840"/>
            <a:ext cx="4643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речается в основном на открытых водоёмах (озёра, реки, ручьи), редко на болотах. Малочисленна. Смертность определяется в основном низкой численностью объектов питания, ухудшением условий обитания (мелиорация, лесозаготовки), массовое браконьер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8401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471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Барсук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14880" y="1052640"/>
            <a:ext cx="374184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стречается в основном в смешанных, мелколиственных лесах, перемежающихся с полями, лугами, селениями, по берегам водоемов, имеющим хороший сток воды. Всеяден. Среди хищников наименее плотояден. Впадает в спячку в зимний период. Малочислен. Сокращение численности в результате эпизоотии, рекреации, браконьер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070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Серая утка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Республике Коми гнездилась в 30-40-х годах в Печоро-Илычском заповедн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59280" y="1428480"/>
            <a:ext cx="29527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а обитания и образ жизни в Республике Коми не изучены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исленность неизвест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еспублике Коми к необходимым мерам относятся изучение современного состояния и численности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357120" y="3214800"/>
            <a:ext cx="4778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4640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Выпь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28680" y="259920"/>
            <a:ext cx="424332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а обитания – обширные водные и заболоченные пространства. Предпочитает озёра с пологими заросшими растительностью берегами, а также побережья рек с развитой системой стар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ноядный вид, основа рациона – рыба. Перелетный вид. В республике Коми регулярно отмечается на озере Донты (ежегодно 1-2 пары), залеты птиц наблюдали в Печоро-Илычском заповед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гативным фактором, влияющим на численность вида, является мелиор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830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Белая сова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859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селяет равнинные и горные тунд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у питания составляют мышевидные грызуны, главным образом лемминги, от которых зависит как уровень численности, так и распределение по терр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нездится на земле. Оседло-кочующий в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, предлагаемый для ох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5776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Сибирский хариус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285920"/>
            <a:ext cx="69231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концентрировался на территории Республики Коми в верхнем течении горной реки Кожи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итает совместно с европейским хариусом. Совершает небольшие сезонные миграции. Рацион сибирского хариуса включает личинок, куколок и взрослых особей водных насекомых, водных клещей, наземны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секомых, рыб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рестится вес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Численность хариус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ньшилась в результат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раконьерского ло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4406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550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Из истории Красной книги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00" name="Рисунок 4" descr="33471.jpg"/>
          <p:cNvPicPr/>
          <p:nvPr/>
        </p:nvPicPr>
        <p:blipFill>
          <a:blip r:embed="rId1"/>
          <a:stretch/>
        </p:blipFill>
        <p:spPr>
          <a:xfrm>
            <a:off x="324000" y="3789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b295167.jpg"/>
          <p:cNvPicPr/>
          <p:nvPr/>
        </p:nvPicPr>
        <p:blipFill>
          <a:blip r:embed="rId2"/>
          <a:stretch/>
        </p:blipFill>
        <p:spPr>
          <a:xfrm>
            <a:off x="5508720" y="2924280"/>
            <a:ext cx="2232000" cy="3035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180000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03640" y="4149720"/>
            <a:ext cx="1873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Жук-носорог обыкновенный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64000" y="1142640"/>
            <a:ext cx="424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ляется одним из наиболее крупных представителей  отряда 25-40м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итают в кучах растительного перегноя, в компостных кучах и перепревшем навозе, в гнилой древесине, опил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зрослые жуки летают весной и в начале лета, в основном ночью. Не питаются, либо питаются жидкой пищей (сок деревье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митирующий фактор- уничтожение личинок при с/х рабо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ры охраны – запрет на сбор жуков коллекционе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3206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bc40"/>
                </a:solidFill>
                <a:latin typeface="Arial"/>
              </a:rPr>
              <a:t>Сосна сибирская (кедр)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21392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ерево высотой до 35м, вечнозеленое, укороченные побеги с 5-7 хвоинками на верхушке. Шишки с многочисленными съедобными орешк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словия произрастания – хвойные ле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Лимитирующие факторы – рубка ле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еры охраны: вид, охраняемый в Республике Ко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140360" y="2862360"/>
            <a:ext cx="36003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69231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гите эти земли, эти вод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же малую былиночку люб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гите всех зверей внутри природ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бивайте всех зверей внутри себ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. Евтуш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Что такое Красная Книга?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bc40"/>
                </a:solidFill>
                <a:latin typeface="Arial"/>
              </a:rPr>
              <a:t>Красная книг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книга, куда занесены растения и животные, нуждающиеся в ох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bc40"/>
                </a:solidFill>
                <a:latin typeface="Arial"/>
              </a:rPr>
              <a:t>Красная книг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аннотированный список редких и находящихся под угрозой исчезновения животных, растений и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772400" cy="193824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5"/>
          <p:cNvSpPr/>
          <p:nvPr/>
        </p:nvSpPr>
        <p:spPr>
          <a:xfrm>
            <a:off x="2268360" y="1628640"/>
            <a:ext cx="5112000" cy="1368720"/>
          </a:xfrm>
          <a:prstGeom prst="roundRect">
            <a:avLst>
              <a:gd name="adj" fmla="val 16667"/>
            </a:avLst>
          </a:prstGeom>
          <a:solidFill>
            <a:srgbClr val="9280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Международ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уровен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>
            <a:off x="3132000" y="342900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280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Национа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10"/>
          <p:cNvSpPr/>
          <p:nvPr/>
        </p:nvSpPr>
        <p:spPr>
          <a:xfrm>
            <a:off x="3132000" y="5072040"/>
            <a:ext cx="4392720" cy="1381320"/>
          </a:xfrm>
          <a:prstGeom prst="roundRect">
            <a:avLst>
              <a:gd name="adj" fmla="val 16667"/>
            </a:avLst>
          </a:prstGeom>
          <a:solidFill>
            <a:srgbClr val="9280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Региона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 rot="20712600">
            <a:off x="423360" y="1976400"/>
            <a:ext cx="1729080" cy="18622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18"/>
          <p:cNvSpPr/>
          <p:nvPr/>
        </p:nvSpPr>
        <p:spPr>
          <a:xfrm>
            <a:off x="1857240" y="260280"/>
            <a:ext cx="5786640" cy="1152720"/>
          </a:xfrm>
          <a:prstGeom prst="ellipse">
            <a:avLst/>
          </a:prstGeom>
          <a:solidFill>
            <a:srgbClr val="fffde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nstantia"/>
              </a:rPr>
              <a:t>Красная книг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20"/>
          <p:cNvSpPr/>
          <p:nvPr/>
        </p:nvSpPr>
        <p:spPr>
          <a:xfrm>
            <a:off x="7662960" y="836640"/>
            <a:ext cx="785880" cy="36360"/>
          </a:xfrm>
          <a:prstGeom prst="line">
            <a:avLst/>
          </a:prstGeom>
          <a:ln w="12600">
            <a:solidFill>
              <a:srgbClr val="928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23"/>
          <p:cNvSpPr/>
          <p:nvPr/>
        </p:nvSpPr>
        <p:spPr>
          <a:xfrm>
            <a:off x="8429760" y="1214280"/>
            <a:ext cx="71280" cy="4429440"/>
          </a:xfrm>
          <a:prstGeom prst="line">
            <a:avLst/>
          </a:prstGeom>
          <a:ln w="12600">
            <a:solidFill>
              <a:srgbClr val="928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Прямая со стрелкой 25"/>
          <p:cNvCxnSpPr>
            <a:endCxn id="209" idx="3"/>
          </p:cNvCxnSpPr>
          <p:nvPr/>
        </p:nvCxnSpPr>
        <p:spPr>
          <a:xfrm flipH="1" flipV="1">
            <a:off x="7543440" y="5761800"/>
            <a:ext cx="2572560" cy="43560"/>
          </a:xfrm>
          <a:prstGeom prst="straightConnector1">
            <a:avLst/>
          </a:prstGeom>
          <a:ln w="12600">
            <a:solidFill>
              <a:srgbClr val="9280cc"/>
            </a:solidFill>
            <a:miter/>
            <a:tailEnd len="med" type="arrow" w="med"/>
          </a:ln>
        </p:spPr>
      </p:cxnSp>
      <p:cxnSp>
        <p:nvCxnSpPr>
          <p:cNvPr id="215" name="Прямая со стрелкой 27"/>
          <p:cNvCxnSpPr>
            <a:endCxn id="208" idx="3"/>
          </p:cNvCxnSpPr>
          <p:nvPr/>
        </p:nvCxnSpPr>
        <p:spPr>
          <a:xfrm flipH="1" flipV="1">
            <a:off x="7543440" y="4041360"/>
            <a:ext cx="2215440" cy="7200"/>
          </a:xfrm>
          <a:prstGeom prst="straightConnector1">
            <a:avLst/>
          </a:prstGeom>
          <a:ln w="12600">
            <a:solidFill>
              <a:srgbClr val="9280cc"/>
            </a:solidFill>
            <a:miter/>
            <a:tailEnd len="med" type="arrow" w="med"/>
          </a:ln>
        </p:spPr>
      </p:cxnSp>
      <p:cxnSp>
        <p:nvCxnSpPr>
          <p:cNvPr id="216" name="Прямая со стрелкой 29"/>
          <p:cNvCxnSpPr>
            <a:endCxn id="207" idx="3"/>
          </p:cNvCxnSpPr>
          <p:nvPr/>
        </p:nvCxnSpPr>
        <p:spPr>
          <a:xfrm flipH="1" flipV="1">
            <a:off x="7399080" y="2312640"/>
            <a:ext cx="1715040" cy="8640"/>
          </a:xfrm>
          <a:prstGeom prst="straightConnector1">
            <a:avLst/>
          </a:prstGeom>
          <a:ln w="12600">
            <a:solidFill>
              <a:srgbClr val="9280cc"/>
            </a:solidFill>
            <a:miter/>
            <a:tailEnd len="med" type="arrow" w="med"/>
          </a:ln>
        </p:spPr>
      </p:cxnSp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 rot="1226400">
            <a:off x="1081080" y="4275000"/>
            <a:ext cx="1714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bc40"/>
                </a:solidFill>
                <a:latin typeface="Arial"/>
              </a:rPr>
              <a:t>Международный уровень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71280" y="1773000"/>
            <a:ext cx="487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63 г. Международным союзом охраны природы была собрана Красная книга мира. На её создание ушло 14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ый  выпуск состоял из 2 томов. В нем была собрана информация о 211 видах млекопитающих и 312 видах пти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66 г. – вышел 2 выпуск, он состоял из 3 томов. Кроме млекопитающих и птиц были включены пресмыкающиеся и земновод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  втором издании были введены цветные стран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52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6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04164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2"/>
          <p:cNvGraphicFramePr/>
          <p:nvPr/>
        </p:nvGraphicFramePr>
        <p:xfrm>
          <a:off x="0" y="0"/>
          <a:ext cx="55008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5008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Прямоугольник 4"/>
          <p:cNvSpPr/>
          <p:nvPr/>
        </p:nvSpPr>
        <p:spPr>
          <a:xfrm>
            <a:off x="900720" y="981000"/>
            <a:ext cx="1922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Кра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ст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2554560" y="2492280"/>
            <a:ext cx="239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Погиб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195271-1"/>
          <p:cNvPicPr/>
          <p:nvPr/>
        </p:nvPicPr>
        <p:blipFill>
          <a:blip r:embed="rId4"/>
          <a:stretch/>
        </p:blipFill>
        <p:spPr>
          <a:xfrm>
            <a:off x="3708360" y="4076640"/>
            <a:ext cx="39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6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282888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Object 2"/>
          <p:cNvGraphicFramePr/>
          <p:nvPr/>
        </p:nvGraphicFramePr>
        <p:xfrm>
          <a:off x="0" y="0"/>
          <a:ext cx="5572080" cy="38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5720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Прямоугольник 4"/>
          <p:cNvSpPr/>
          <p:nvPr/>
        </p:nvSpPr>
        <p:spPr>
          <a:xfrm>
            <a:off x="900720" y="549360"/>
            <a:ext cx="1922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2e"/>
                </a:solidFill>
                <a:latin typeface="Constantia"/>
              </a:rPr>
              <a:t>Желт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2e"/>
                </a:solidFill>
                <a:latin typeface="Constantia"/>
              </a:rPr>
              <a:t>ст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912400" y="1844640"/>
            <a:ext cx="204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2e"/>
                </a:solidFill>
                <a:latin typeface="Constantia"/>
              </a:rPr>
              <a:t>Ред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2e"/>
                </a:solidFill>
                <a:latin typeface="Constantia"/>
              </a:rPr>
              <a:t>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WEDMED"/>
          <p:cNvPicPr/>
          <p:nvPr/>
        </p:nvPicPr>
        <p:blipFill>
          <a:blip r:embed="rId4"/>
          <a:stretch/>
        </p:blipFill>
        <p:spPr>
          <a:xfrm>
            <a:off x="4211640" y="3716280"/>
            <a:ext cx="335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6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11472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2"/>
          <p:cNvGraphicFramePr/>
          <p:nvPr/>
        </p:nvGraphicFramePr>
        <p:xfrm>
          <a:off x="0" y="-243000"/>
          <a:ext cx="5429160" cy="45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43000"/>
                    <a:ext cx="542916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4"/>
          <p:cNvSpPr/>
          <p:nvPr/>
        </p:nvSpPr>
        <p:spPr>
          <a:xfrm>
            <a:off x="1187280" y="692280"/>
            <a:ext cx="135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2e"/>
                </a:solidFill>
                <a:latin typeface="Constantia"/>
              </a:rPr>
              <a:t>Бел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2e"/>
                </a:solidFill>
                <a:latin typeface="Constantia"/>
              </a:rPr>
              <a:t>стран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2700360" y="1916280"/>
            <a:ext cx="214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Быстроисчезающ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живо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D:\articles\02\1000248\PH07332.jpg"/>
          <p:cNvPicPr/>
          <p:nvPr/>
        </p:nvPicPr>
        <p:blipFill>
          <a:blip r:embed="rId4"/>
          <a:stretch/>
        </p:blipFill>
        <p:spPr>
          <a:xfrm>
            <a:off x="4140360" y="2857680"/>
            <a:ext cx="3431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2562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Object 3"/>
          <p:cNvGraphicFramePr/>
          <p:nvPr/>
        </p:nvGraphicFramePr>
        <p:xfrm>
          <a:off x="0" y="549360"/>
          <a:ext cx="5824440" cy="40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360"/>
                    <a:ext cx="582444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Прямоугольник 7"/>
          <p:cNvSpPr/>
          <p:nvPr/>
        </p:nvSpPr>
        <p:spPr>
          <a:xfrm>
            <a:off x="1116000" y="1341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Сер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стра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838600" y="2492280"/>
            <a:ext cx="219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Малоизв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орек"/>
          <p:cNvPicPr/>
          <p:nvPr/>
        </p:nvPicPr>
        <p:blipFill>
          <a:blip r:embed="rId4"/>
          <a:stretch/>
        </p:blipFill>
        <p:spPr>
          <a:xfrm>
            <a:off x="4427640" y="3860640"/>
            <a:ext cx="3301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9:23:55Z</dcterms:created>
  <dc:creator>WiZaRd</dc:creator>
  <dc:description/>
  <dc:language>en-US</dc:language>
  <cp:lastModifiedBy>WiZaRd</cp:lastModifiedBy>
  <dcterms:modified xsi:type="dcterms:W3CDTF">2014-02-07T16:19:45Z</dcterms:modified>
  <cp:revision>7</cp:revision>
  <dc:subject/>
  <dc:title>Из истории Красной книги</dc:title>
</cp:coreProperties>
</file>