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CB3-501E-4657-8BB5-BCA9FF39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26720" y="510120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4F0-A794-4763-AFC0-8E4A5297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14000" y="22352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26720" y="510120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4000" y="510120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C52-BD76-4ABE-839B-386312CD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97720" y="2235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68360" y="2235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26720" y="510120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97720" y="510120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968360" y="510120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9EB-4962-4654-A26E-3ECA6D12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E04D-0762-4DD4-B50A-E54D4FBA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26720" y="2235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7460-75A5-4F5A-BD42-55952904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874F-0D37-4A6B-B496-2B75D65C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4000" y="223524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F88B-3A19-455D-A9CB-0F3ABA66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426A-BCE9-4128-B127-04580392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26720" y="330120"/>
            <a:ext cx="582948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015E-2516-4EF1-A8A5-BC1DD174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4000" y="223524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26720" y="510120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1C00-ED8A-4E4C-90BB-FD07911C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26720" y="2235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409-19DA-4320-A3E8-CD06BE0C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4000" y="22352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014000" y="510120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93AD-1EE9-4A09-A10C-720D36EF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14000" y="22352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26720" y="510120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33FB-8B0B-41AA-BEF9-995118D9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26720" y="510120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BA3A-7B1E-47BA-B4FA-3697B330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14000" y="22352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26720" y="510120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014000" y="510120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F358-AC0B-4D3F-B55E-A7AACBF0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97720" y="2235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68360" y="2235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026720" y="510120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97720" y="510120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4968360" y="510120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EBB2-A866-4597-AD06-16E83F27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15BE-C643-4A77-B922-9A3226A5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14000" y="223524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14D-51BC-439B-AF96-2DF311C1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0FC-250B-436F-AF38-DB9B9B79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26720" y="330120"/>
            <a:ext cx="582948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207-C5D9-44AA-92D8-4483BECE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14000" y="223524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26720" y="510120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626-BC3A-42A5-863F-92FECEE0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14000" y="22352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14000" y="510120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1E2-7487-4188-BC40-3B73D306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14000" y="22352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6720" y="510120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348-7E0B-4149-BEEE-FDECB1A7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240" y="0"/>
            <a:ext cx="1296720" cy="9154440"/>
            <a:chOff x="3240" y="0"/>
            <a:chExt cx="1296720" cy="9154440"/>
          </a:xfrm>
        </p:grpSpPr>
        <p:sp>
          <p:nvSpPr>
            <p:cNvPr id="1" name="Arc 3"/>
            <p:cNvSpPr/>
            <p:nvPr/>
          </p:nvSpPr>
          <p:spPr>
            <a:xfrm>
              <a:off x="3240" y="619920"/>
              <a:ext cx="299880" cy="853452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000080" y="619920"/>
              <a:ext cx="299880" cy="853452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42640" y="0"/>
              <a:ext cx="800280" cy="914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202680" y="954000"/>
              <a:ext cx="965160" cy="4287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26720" y="2235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43080" y="85341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20004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427360" y="85327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13EC-82B9-4458-864E-05C9C64B43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3240" y="0"/>
            <a:ext cx="1296720" cy="9154440"/>
            <a:chOff x="3240" y="0"/>
            <a:chExt cx="1296720" cy="9154440"/>
          </a:xfrm>
        </p:grpSpPr>
        <p:sp>
          <p:nvSpPr>
            <p:cNvPr id="47" name="Arc 3"/>
            <p:cNvSpPr/>
            <p:nvPr/>
          </p:nvSpPr>
          <p:spPr>
            <a:xfrm>
              <a:off x="3240" y="619920"/>
              <a:ext cx="299880" cy="853452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000080" y="619920"/>
              <a:ext cx="299880" cy="853452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242640" y="0"/>
              <a:ext cx="800280" cy="914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202680" y="3646440"/>
              <a:ext cx="965160" cy="4287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026720" y="2235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43080" y="85341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400480" y="85327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5427360" y="85327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9364-932F-45F4-B68D-A1737B89EF12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yandex.ru/" TargetMode="External"/><Relationship Id="rId2" Type="http://schemas.openxmlformats.org/officeDocument/2006/relationships/hyperlink" Target="http://www.rambler.ru/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86000" y="3034800"/>
            <a:ext cx="27716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WordArt 12"/>
          <p:cNvSpPr txBox="1"/>
          <p:nvPr/>
        </p:nvSpPr>
        <p:spPr>
          <a:xfrm>
            <a:off x="1484280" y="324000"/>
            <a:ext cx="51116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9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afb5d2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зучение численности гнезд</a:t>
            </a:r>
            <a:endParaRPr b="0" lang="en-US" sz="3200" spc="1" strike="noStrike">
              <a:ln w="9360">
                <a:solidFill>
                  <a:srgbClr val="afb5d2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afb5d2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ороки в условиях г.Рузаевка</a:t>
            </a:r>
            <a:endParaRPr b="0" lang="en-US" sz="3200" spc="1" strike="noStrike">
              <a:ln w="9360">
                <a:solidFill>
                  <a:srgbClr val="afb5d2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26720" y="2235240"/>
            <a:ext cx="2838600" cy="54864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26720" y="197640"/>
            <a:ext cx="58294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4640" y="684000"/>
            <a:ext cx="5657760" cy="761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рока - птица лесов и перелесков.  Гнездо ее - солидное шаровидное сооружение с крышей, сплетенное из прочных сучьев, изнутри выстланное мягкими стеблями, вымазанное глиной, утепленное шерстью и перьями. Иногда сорочья пара строит два гнезда. Одно - для птенцов, другое - для себя, для отдыха. Крыша гнезда не сплошная, свободно пропускает дождь, но зато делает кладку и птенцов недоступными для хищников.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ак важно защитить их от жадных лап, сороки знают по себе. Ведь они сами не прочь полакомиться чужими яйцами и птенчиками. В нормальных условиях такое удается им редко, и они питаются, в основном, жуками, гусеницами, кузнечиками, реже - мышевидными и ящерицами.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там, где человек и скот очень часто беспокоят насиживающих и кормящих птиц, заставляя их надолго покидать гнезда, сороки пользуются ситуацией. Чаще страдают мелкие птички. Так что сам человек, как и в случае с воронами, в значительной мере повинен в их вредоносной деятельности.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рока очень осторожна. Лучшего охранника лесу не найти. На первый взгляд, стрекочет она одинаково, но внимательный слух уловит не менее двадцати оттенков ее крика. По-разному кричит она над коровой и лисицей, по ее голосу можно понять, идет ли по лесу охотник (берегись! особо опасен!), просто мужчина (осторожно!), или женщина (ничего страшного, занимайтесь своими делами).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рока откладывает 5-7 пятнистых голубоватых или голубовато-зеленоватых яиц, насиживание длится 17-19 дней. Сколько горя и отчаяния слышно в крике сороки, когда кто-то пытается подобраться к ее деткам! Но самой ей недоступно сострадание к тем птицам, гнезда которых она столь хладнокровно разоряет.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6720" y="53640"/>
            <a:ext cx="58294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57080" y="1763280"/>
            <a:ext cx="5081400" cy="634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спределение сороки  почти полностью отражает картину размещения поселений человека. Очень редко приходится видеть сороку далее 1—2 км от населенного пункта.  Вряд  ли найдется деревня или поселок, возле которых не держались и не гнездились бы сороки. К человеческому жилью сороку влечет возможность отыскания корма, особенно в зимний период. 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 отличие от большинства певчих птиц  у сорок даже молодые птицы-первогодки при благоприятных условиях остаются вблизи мест рождения, возможно, на всю жизнь. Это не означает, однако, что сорока не способна осваивать новые, благоприятные для ее жизни места. 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собым типом гнездования сороки следует признать поселение птиц вблизи крупных транспортных магистралей — автомобильных и железных дорог. Этому способствует, во-первых, постоянное наличие в таких местах пищи в виде сбитых транспортом животных, просыпанного зерна и пр. и, во-вторых, присутствие снегозащитных насаждений, удобных для устройства гнезда. В таких местах сороки могут загнездиться даже в нескольких километрах от ближайшего населенного пункта. 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хотнее всего  поселяются в дачных поселках, пригородных лесах и парках. Придорожные лесополосы охотнее всего заселяют в безлесной местности . В городских парках и скверах гнездятся пока редко . </a:t>
            </a:r>
            <a:endParaRPr b="1" lang="en-US" sz="15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26720" y="269640"/>
            <a:ext cx="58294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57080" y="1403280"/>
            <a:ext cx="5081400" cy="670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ь март можно наблюдать, как на рассвете, прежде чем улететь на кормежку, особенно в ясные безветренные дни, сороки, рассевшись парами на вершинах деревьев или в кустах, «встречают» восход солнца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середины марта помимо обычного стрекотания на гнездовых участках можно услышать и «пение» самцов, которые поют обычно в присутствии самки. По существу, это подпесня, которая выполняет ухаживательную функцию. Слышна она с небольшого расстояния и не является демонстративной: птица в это время обычно сидит внутри куста или кроны дерева. Весеннее пение сорок очень кратковременно и нерегулярно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инает гнездиться в марте, во второй половине апреля появляются кладки, а в конце апреля - начале мая самка приступает к насиживанию, которое длится 17-18 суток. Птенцы появляются в середине мая, вылетают из гнезд в середине июн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6280" y="2916360"/>
            <a:ext cx="3510000" cy="39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незда обычно располагаются в густых кустарниках, в зарослях молодых лиственных деревьев на высоте 2-15 (чаще 2-4) метров от земли. Очень хорошо скрыто от посторонних глаз. Гнездо состоит из двух частей - основного корпуса гнезда и крыши. Наружная часть гнезда сооружена из крупных ветвей, переплетенных травянистыми растениями и скрепленных глиной, внутренняя часть - из тонких прутиков. Лоток изнутри обмазан глиной и прикрыт сбоку и сверху высокой крышей из сучьев. Крыша защищает птицу и птенцов  от хищников. </a:t>
            </a:r>
            <a:endParaRPr b="1" lang="en-US" sz="1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1125360" y="826920"/>
            <a:ext cx="539928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>
                    <a:alpha val="99000"/>
                  </a:srgbClr>
                </a:solidFill>
                <a:latin typeface="Arial"/>
              </a:rPr>
              <a:t>ГНЕЗ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>
                  <a:alpha val="99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122" name="Picture 8" descr="Pica-pica-01"/>
          <p:cNvPicPr/>
          <p:nvPr/>
        </p:nvPicPr>
        <p:blipFill>
          <a:blip r:embed="rId1"/>
          <a:stretch/>
        </p:blipFill>
        <p:spPr>
          <a:xfrm>
            <a:off x="4086360" y="4067280"/>
            <a:ext cx="2771640" cy="2736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6720" y="330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6720" y="2700360"/>
            <a:ext cx="2854440" cy="502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земно-гнездящиеся  птицы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тицы, гнездящиеся на ветвях деревьев и кустарников или среди травянистых растений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тицы, гнездящиеся в дуплах, норах и нишах скал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Picture 4" descr="immalII125"/>
          <p:cNvPicPr/>
          <p:nvPr/>
        </p:nvPicPr>
        <p:blipFill>
          <a:blip r:embed="rId1"/>
          <a:stretch/>
        </p:blipFill>
        <p:spPr>
          <a:xfrm>
            <a:off x="4002120" y="3492360"/>
            <a:ext cx="2855880" cy="33228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6"/>
          <p:cNvSpPr txBox="1"/>
          <p:nvPr/>
        </p:nvSpPr>
        <p:spPr>
          <a:xfrm>
            <a:off x="1052640" y="826920"/>
            <a:ext cx="5076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ИДЫ ГНЕЗД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 advTm="5000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99800" y="1214280"/>
            <a:ext cx="4714920" cy="2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 u="sng">
                <a:solidFill>
                  <a:srgbClr val="0066ff"/>
                </a:solidFill>
                <a:uFillTx/>
                <a:latin typeface="Times New Roman"/>
              </a:rPr>
              <a:t>Исследование:</a:t>
            </a:r>
            <a:endParaRPr b="0" lang="en-US" sz="5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Исследование проводилось на территории города Рузаевка. При этом устанавливался маршрутный учет наблюдения и количественный учет гнездовий. В полевой дневник записывалось: вид дерева и его примерная высота, на котором было обнаружено гнездо, расстояние до ближних зданий, также записывался адрес. Исследование проводилось в апреле-октябре 2006 года.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28280" y="1055520"/>
            <a:ext cx="5086440" cy="8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Бульвар Горшкова 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0" name="Picture 7" descr="File1645"/>
          <p:cNvPicPr/>
          <p:nvPr/>
        </p:nvPicPr>
        <p:blipFill>
          <a:blip r:embed="rId1"/>
          <a:stretch/>
        </p:blipFill>
        <p:spPr>
          <a:xfrm>
            <a:off x="1571760" y="1643040"/>
            <a:ext cx="3714480" cy="36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1785960" y="5643720"/>
          <a:ext cx="3168720" cy="2751120"/>
        </p:xfrm>
        <a:graphic>
          <a:graphicData uri="http://schemas.openxmlformats.org/drawingml/2006/table">
            <a:tbl>
              <a:tblPr/>
              <a:tblGrid>
                <a:gridCol w="1657440"/>
                <a:gridCol w="1511280"/>
              </a:tblGrid>
              <a:tr h="17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ли-чество гнезд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ерево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ереза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ысота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7-8м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 txBox="1"/>
          <p:nvPr/>
        </p:nvSpPr>
        <p:spPr>
          <a:xfrm>
            <a:off x="1026720" y="5054760"/>
            <a:ext cx="2838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6720" y="366840"/>
            <a:ext cx="5829480" cy="14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Улица  Байкузова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4" name="Picture 8" descr="File1646"/>
          <p:cNvPicPr/>
          <p:nvPr/>
        </p:nvPicPr>
        <p:blipFill>
          <a:blip r:embed="rId1"/>
          <a:stretch/>
        </p:blipFill>
        <p:spPr>
          <a:xfrm>
            <a:off x="1125360" y="2268360"/>
            <a:ext cx="2448000" cy="200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File1648"/>
          <p:cNvPicPr/>
          <p:nvPr/>
        </p:nvPicPr>
        <p:blipFill>
          <a:blip r:embed="rId2"/>
          <a:stretch/>
        </p:blipFill>
        <p:spPr>
          <a:xfrm>
            <a:off x="1197000" y="4859280"/>
            <a:ext cx="2303280" cy="199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3645000" y="2627280"/>
          <a:ext cx="3024000" cy="2952720"/>
        </p:xfrm>
        <a:graphic>
          <a:graphicData uri="http://schemas.openxmlformats.org/drawingml/2006/table">
            <a:tbl>
              <a:tblPr/>
              <a:tblGrid>
                <a:gridCol w="1671480"/>
                <a:gridCol w="1352520"/>
              </a:tblGrid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личе-ство гнезд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ерево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ереза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ысота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7-8м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57000" y="982800"/>
            <a:ext cx="515772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Улица Советская</a:t>
            </a:r>
            <a:br>
              <a:rPr sz="4400"/>
            </a:b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8" name="Picture 10" descr="File1650"/>
          <p:cNvPicPr/>
          <p:nvPr/>
        </p:nvPicPr>
        <p:blipFill>
          <a:blip r:embed="rId1"/>
          <a:stretch/>
        </p:blipFill>
        <p:spPr>
          <a:xfrm>
            <a:off x="1052640" y="2268360"/>
            <a:ext cx="2498760" cy="2073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File1651"/>
          <p:cNvPicPr/>
          <p:nvPr/>
        </p:nvPicPr>
        <p:blipFill>
          <a:blip r:embed="rId2"/>
          <a:stretch/>
        </p:blipFill>
        <p:spPr>
          <a:xfrm>
            <a:off x="1052640" y="4716360"/>
            <a:ext cx="2487600" cy="19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3573360" y="2771640"/>
          <a:ext cx="3095640" cy="2735280"/>
        </p:xfrm>
        <a:graphic>
          <a:graphicData uri="http://schemas.openxmlformats.org/drawingml/2006/table">
            <a:tbl>
              <a:tblPr/>
              <a:tblGrid>
                <a:gridCol w="1627200"/>
                <a:gridCol w="1468440"/>
              </a:tblGrid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личе-ство гнезд</a:t>
                      </a:r>
                      <a:endParaRPr b="0" lang="en-US" sz="26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9</a:t>
                      </a:r>
                      <a:endParaRPr b="0" lang="en-US" sz="26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ерево </a:t>
                      </a:r>
                      <a:endParaRPr b="0" lang="en-US" sz="26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тополя</a:t>
                      </a:r>
                      <a:endParaRPr b="0" lang="en-US" sz="26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ысота </a:t>
                      </a:r>
                      <a:endParaRPr b="0" lang="en-US" sz="26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5м</a:t>
                      </a:r>
                      <a:endParaRPr b="0" lang="en-US" sz="26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26720" y="471240"/>
            <a:ext cx="5829480" cy="13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Улица Садовая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2" name="Picture 11" descr="File1649"/>
          <p:cNvPicPr/>
          <p:nvPr/>
        </p:nvPicPr>
        <p:blipFill>
          <a:blip r:embed="rId1"/>
          <a:stretch/>
        </p:blipFill>
        <p:spPr>
          <a:xfrm>
            <a:off x="782640" y="5429160"/>
            <a:ext cx="4146480" cy="364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573360" y="2484360"/>
          <a:ext cx="2951280" cy="3024360"/>
        </p:xfrm>
        <a:graphic>
          <a:graphicData uri="http://schemas.openxmlformats.org/drawingml/2006/table">
            <a:tbl>
              <a:tblPr/>
              <a:tblGrid>
                <a:gridCol w="1687680"/>
                <a:gridCol w="1263600"/>
              </a:tblGrid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личество гнезд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ерево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убы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ысота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0м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 txBox="1"/>
          <p:nvPr/>
        </p:nvSpPr>
        <p:spPr>
          <a:xfrm>
            <a:off x="1026720" y="5054760"/>
            <a:ext cx="2838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410840"/>
            <a:ext cx="5829480" cy="2551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заевский лицей №4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ЭКОЛОГИЧЕСКОЕ  ИССЛЕДОВАНИЕ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НА ТЕМУ:</a:t>
            </a:r>
            <a:br>
              <a:rPr sz="22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Исследование численности гнезд сороки в условиях г.Рузаевка»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440" y="4368960"/>
            <a:ext cx="5985000" cy="3852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(направление исследования-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экология животных)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Автор проек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Храмова Дарья</a:t>
            </a:r>
            <a:endParaRPr b="1" lang="en-US" sz="17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еница 7 «Б» класса </a:t>
            </a:r>
            <a:endParaRPr b="1" lang="en-US" sz="17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лицея №4</a:t>
            </a:r>
            <a:endParaRPr b="1" lang="en-US" sz="17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Хрулина Г.К.</a:t>
            </a:r>
            <a:endParaRPr b="1" lang="en-US" sz="17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итель биологии лицея №4</a:t>
            </a:r>
            <a:endParaRPr b="1" lang="en-US" sz="17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007г.</a:t>
            </a:r>
            <a:endParaRPr b="1" lang="en-US" sz="17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99800" y="1154160"/>
            <a:ext cx="4714920" cy="77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Улица Ленина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6" name="Picture 9" descr="File1666"/>
          <p:cNvPicPr/>
          <p:nvPr/>
        </p:nvPicPr>
        <p:blipFill>
          <a:blip r:embed="rId1"/>
          <a:stretch/>
        </p:blipFill>
        <p:spPr>
          <a:xfrm>
            <a:off x="836640" y="2459160"/>
            <a:ext cx="2592360" cy="2041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File1668"/>
          <p:cNvPicPr/>
          <p:nvPr/>
        </p:nvPicPr>
        <p:blipFill>
          <a:blip r:embed="rId2"/>
          <a:stretch/>
        </p:blipFill>
        <p:spPr>
          <a:xfrm>
            <a:off x="836640" y="5003640"/>
            <a:ext cx="2663640" cy="194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3573360" y="2771640"/>
          <a:ext cx="3095640" cy="3481560"/>
        </p:xfrm>
        <a:graphic>
          <a:graphicData uri="http://schemas.openxmlformats.org/drawingml/2006/table">
            <a:tbl>
              <a:tblPr/>
              <a:tblGrid>
                <a:gridCol w="1440000"/>
                <a:gridCol w="1655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ли-чество гнезд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ерево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ереза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лен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Тополь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ысота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7-8м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0м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26720" y="471240"/>
            <a:ext cx="5829480" cy="13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Улица Эстакад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0" name="Picture 11" descr="File1667"/>
          <p:cNvPicPr/>
          <p:nvPr/>
        </p:nvPicPr>
        <p:blipFill>
          <a:blip r:embed="rId1"/>
          <a:stretch/>
        </p:blipFill>
        <p:spPr>
          <a:xfrm>
            <a:off x="500040" y="5716440"/>
            <a:ext cx="3429000" cy="271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3789360" y="2556000"/>
          <a:ext cx="2855880" cy="2862000"/>
        </p:xfrm>
        <a:graphic>
          <a:graphicData uri="http://schemas.openxmlformats.org/drawingml/2006/table">
            <a:tbl>
              <a:tblPr/>
              <a:tblGrid>
                <a:gridCol w="1577880"/>
                <a:gridCol w="1278000"/>
              </a:tblGrid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ли-чество гнезд</a:t>
                      </a:r>
                      <a:endParaRPr b="0" lang="en-US" sz="26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0</a:t>
                      </a:r>
                      <a:endParaRPr b="0" lang="en-US" sz="26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ерево </a:t>
                      </a:r>
                      <a:endParaRPr b="0" lang="en-US" sz="26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липа</a:t>
                      </a:r>
                      <a:endParaRPr b="0" lang="en-US" sz="26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ысота </a:t>
                      </a:r>
                      <a:endParaRPr b="0" lang="en-US" sz="26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6-7м</a:t>
                      </a:r>
                      <a:endParaRPr b="0" lang="en-US" sz="26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 txBox="1"/>
          <p:nvPr/>
        </p:nvSpPr>
        <p:spPr>
          <a:xfrm>
            <a:off x="1026720" y="5054760"/>
            <a:ext cx="2838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26720" y="544680"/>
            <a:ext cx="582948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66ff"/>
                </a:solidFill>
                <a:uFillTx/>
                <a:latin typeface="Times New Roman"/>
              </a:rPr>
              <a:t>ВЫВОДЫ:</a:t>
            </a:r>
            <a:endParaRPr b="0" lang="en-US" sz="3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го на территории г.Рузаевка было зарегистрировано 78 гнезд сороки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о выяснено, что в основном птицы располагают свои гнезда в нижней части города, на таких улицах, как Советская, Ленина, Садовая, Эстакад. Меньшее количество гнезд было обнаружено  в верхней части города, на таких улицах, как Бульвар Горшкова, Байкузова, Полежаева, Петрова и др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незда, также были замечены на автодорогах  Рузаевка- Саранск и Рузаевка-Зубова Поляна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мечено, что птицы, в основном устраивают свои гнезда на таких деревьях, как тополь,  береза и липа, примерно высотой от 5 до 10 метров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 advTm="5000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13000" y="664920"/>
            <a:ext cx="5302080" cy="88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Times New Roman"/>
              </a:rPr>
              <a:t>РЕКОМЕНДАЦИИ: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 основе исследований и литературных данных можно сооружать гнезда для птиц и вывешивать их на различные кустарники и деревья. Гнезда можно делать из веток, сухой травы, лубяных волокон и др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обходимо подкармливать птиц, делая для них кормушки. Кормом может служить различная еда, в частности хлебные крошки, семечки, крупа, не соленое сало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зультаты проведенного исследования можно предоставить на кафедру зоологии МГПИ им. М.Е. Евсевьева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 advTm="5000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99800" y="1349280"/>
            <a:ext cx="471492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держание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1" lang="en-US" sz="33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Актуальность проекта</a:t>
            </a:r>
            <a:endParaRPr b="1" lang="en-US" sz="33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endParaRPr b="1" lang="en-US" sz="33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Задачи </a:t>
            </a:r>
            <a:endParaRPr b="1" lang="en-US" sz="33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писание </a:t>
            </a:r>
            <a:endParaRPr b="1" lang="en-US" sz="33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Гнезда</a:t>
            </a:r>
            <a:endParaRPr b="1" lang="en-US" sz="33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Виды гнездований</a:t>
            </a:r>
            <a:endParaRPr b="1" lang="en-US" sz="33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сследование </a:t>
            </a:r>
            <a:endParaRPr b="1" lang="en-US" sz="33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Выводы </a:t>
            </a:r>
            <a:endParaRPr b="1" lang="en-US" sz="33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Рекомендации</a:t>
            </a:r>
            <a:endParaRPr b="1" lang="en-US" sz="33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88680" y="-44280"/>
            <a:ext cx="5149800" cy="25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66ff"/>
                </a:solidFill>
                <a:latin typeface="Times New Roman"/>
              </a:rPr>
              <a:t>Список литературы:</a:t>
            </a:r>
            <a:br>
              <a:rPr sz="4800"/>
            </a:b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В.Михеев. Биология птиц. Полевой определитель птичьих гнезд. Москва.Цитадель.1996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Е.Райков. М.Н. Римский-Корсаков. Зоологические экскурсии. Москва.Топикал.1994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А.Мосалов. Лесные и околоводные птицы. Москва 1997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Д.Ильичев. А.В.Михеева. Жизнь животных. Москва. Просвещение 1986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ы в Интернете:  </a:t>
            </a:r>
            <a:r>
              <a:rPr b="0" lang="ru-RU" sz="24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http://www.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ff99ff"/>
                </a:solidFill>
                <a:uFillTx/>
                <a:latin typeface="Arial"/>
                <a:hlinkClick r:id="rId2"/>
              </a:rPr>
              <a:t>http://www.rambler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7"/>
          <p:cNvSpPr txBox="1"/>
          <p:nvPr/>
        </p:nvSpPr>
        <p:spPr>
          <a:xfrm>
            <a:off x="1428840" y="3000240"/>
            <a:ext cx="5149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336699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26720" y="2235240"/>
            <a:ext cx="582948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88680" y="-1241640"/>
            <a:ext cx="514980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800" spc="-1" strike="noStrike">
                <a:solidFill>
                  <a:srgbClr val="0066ff"/>
                </a:solidFill>
                <a:latin typeface="Times New Roman"/>
              </a:rPr>
              <a:t>Непоседа пестрая, птица длиннохвостая,</a:t>
            </a:r>
            <a:br>
              <a:rPr sz="3800"/>
            </a:br>
            <a:r>
              <a:rPr b="1" i="1" lang="ru-RU" sz="3800" spc="-1" strike="noStrike">
                <a:solidFill>
                  <a:srgbClr val="0066ff"/>
                </a:solidFill>
                <a:latin typeface="Times New Roman"/>
              </a:rPr>
              <a:t>Птица говорливая, самая болтливая.</a:t>
            </a:r>
            <a:endParaRPr b="0" lang="en-US" sz="38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9" name="Picture 3" descr="foto248"/>
          <p:cNvPicPr/>
          <p:nvPr/>
        </p:nvPicPr>
        <p:blipFill>
          <a:blip r:embed="rId1"/>
          <a:stretch/>
        </p:blipFill>
        <p:spPr>
          <a:xfrm>
            <a:off x="2133720" y="3564000"/>
            <a:ext cx="4032000" cy="4176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99800" y="1250640"/>
            <a:ext cx="471492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66ff"/>
                </a:solidFill>
                <a:uFillTx/>
                <a:latin typeface="Arial Narrow"/>
              </a:rPr>
              <a:t>ПРОБЛЕМА</a:t>
            </a:r>
            <a:r>
              <a:rPr b="1" i="1" lang="en-US" sz="5400" spc="-1" strike="noStrike" u="sng">
                <a:solidFill>
                  <a:srgbClr val="0066ff"/>
                </a:solidFill>
                <a:uFillTx/>
                <a:latin typeface="Arial Narrow"/>
              </a:rPr>
              <a:t>: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условиях городов биоценозы и другие экологические объекты оказываются под воздействием человека, в следствии  чего, происходят их значительные изменения из-за антропогенных воздействий. Но так как птицы являются одним из компонентов биоценоза, они выполняют трофическую функцию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 advTm="5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88680" y="983880"/>
            <a:ext cx="5149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Актуальность проекта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достаточное изучение птиц, проживающих на территории г.Рузаевк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основании проблемы мы выдвинули следующую гипотезу: если выясним численность гнезд сороки в условиях городского ландшафта, то получим научную основу регулирования особей различных видов птиц в городе Рузаевк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99800" y="1349280"/>
            <a:ext cx="471492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66ff"/>
                </a:solidFill>
                <a:uFillTx/>
                <a:latin typeface="Arial Narrow"/>
              </a:rPr>
              <a:t>ЦЕЛЬ РАБОТЫ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2854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Выяснить основное количество гнезд сороки в условиях городского ландшафта на примере г.Рузаевка</a:t>
            </a:r>
            <a:endParaRPr b="1" lang="en-US" sz="29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3722760" y="2719440"/>
            <a:ext cx="2851200" cy="2732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83920" y="684360"/>
            <a:ext cx="504036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66ff"/>
                </a:solidFill>
                <a:uFillTx/>
                <a:latin typeface="Times New Roman"/>
              </a:rPr>
              <a:t>ЗАДАЧИ: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-5727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ить литературу, отражающую гнездование в г. Рузаевк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72760" indent="-5727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обрать   методы и методики изучения гнездования птиц в условиях городского ландшафт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72760" indent="-5727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особенности пространственного распределения гнезд сороки на территории г.Рузаевк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72760" indent="-5727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сти анализ о гнездовании сороки на территории нашего город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72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 advTm="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83920" y="971280"/>
            <a:ext cx="5149800" cy="187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i="1" lang="ru-RU" sz="4900" spc="-1" strike="noStrike" u="sng">
                <a:solidFill>
                  <a:srgbClr val="0066ff"/>
                </a:solidFill>
                <a:uFillTx/>
                <a:latin typeface="Times New Roman"/>
              </a:rPr>
              <a:t>Описание:</a:t>
            </a:r>
            <a:br>
              <a:rPr sz="4900"/>
            </a:br>
            <a:br>
              <a:rPr sz="4000"/>
            </a:br>
            <a:endParaRPr b="0" lang="en-US" sz="49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26720" y="2235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ока, птица семейства вороновых (PICA PICA) . Хорошо известная птица, имеющая яркую черно-белую раскраску и длинный ступенчатый хвост, во время полета принимающий веерообразный вид. Голова, шея, верхняя часть груди, спина, надхвостье, хвост и крылья черные с синевато-зеленоватым отливом, с металлическим блеском. Грудь, брюшко, широкие полосы на плечах и крыльях белые. Хвост длинный, ступенчатый.  Размером она примерно с галку, весит 160-260 г. Издает громкие, пронзительные, частые и резкие зву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 advTm="5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26720" y="2235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6699"/>
                </a:solidFill>
                <a:latin typeface="Arial"/>
              </a:rPr>
              <a:t>Сороками называют:</a:t>
            </a:r>
            <a:endParaRPr b="1" lang="en-US" sz="3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Pica pica - обыкновенная сорока </a:t>
            </a:r>
            <a:br>
              <a:rPr sz="2400"/>
            </a:b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Pica nutalli - калифорнийская сорока </a:t>
            </a:r>
            <a:br>
              <a:rPr sz="2400"/>
            </a:b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Cyanopica cyana - голубая сорока </a:t>
            </a:r>
            <a:br>
              <a:rPr sz="2400"/>
            </a:b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Urocissa erythrorhyncha - Красноклювая сорока </a:t>
            </a:r>
            <a:br>
              <a:rPr sz="2400"/>
            </a:b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Urocissa sinensis - китайская лазоревая сорока </a:t>
            </a:r>
            <a:br>
              <a:rPr sz="2400"/>
            </a:b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Cissa chinensis - зеленая сорока </a:t>
            </a:r>
            <a:br>
              <a:rPr sz="2400"/>
            </a:b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403360" y="857160"/>
            <a:ext cx="2178000" cy="1795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0:28:09Z</dcterms:created>
  <dc:creator>Admin</dc:creator>
  <dc:description/>
  <dc:language>en-US</dc:language>
  <cp:lastModifiedBy>Teacher</cp:lastModifiedBy>
  <dcterms:modified xsi:type="dcterms:W3CDTF">2014-11-07T08:58:14Z</dcterms:modified>
  <cp:revision>34</cp:revision>
  <dc:subject/>
  <dc:title>Изучение  численности сороки в условиях г.Рузаевка</dc:title>
</cp:coreProperties>
</file>