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588-478A-4155-AB42-9D1766CC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A63-382D-421A-9233-9039FC05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5A9-0AA9-4E4C-BEA1-EFE0965E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16F-142E-4670-B615-2385E7FD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A538-1CBB-49E0-A6F5-1D68DE56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8D98-F39B-4DD6-ABAB-5A1EC4E3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CE6A-48BB-47B4-AB14-D4C830EC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2974-54A2-48F4-A928-2C8817BF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5F65-C144-439B-8ED1-4592BC4A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1FFE-7517-48B5-90EC-B7E64FB4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55D-B793-46D0-90D1-63EACE28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806-18B5-4066-B6C7-2BA9B7CE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F4F6-C31E-4B7A-89DB-6737A49F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EE7C-EADF-434A-BE53-BB550E2B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8382-38FC-4FA7-A18C-B16858C5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3214-ADE6-4F62-B87D-038370BA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6672-9097-4210-B626-66BA36F4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A3F-0273-448B-B6CF-2752DB86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CC5-E678-4E73-915E-9E1EDC33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0DF-EC61-41F5-88BA-E5D304DE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7D4-C4CA-4844-B393-503FE5E8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73D-DCEF-4EC4-8DF6-10536CB6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720-2472-47B1-81B0-9A54C736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4D8-33CA-401F-82EB-D6F7AEC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1812-414D-40BC-8665-BB6235FBC3F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97A0-6271-4210-905E-1AF52F9E52A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Коллективизация сельского хозяйств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гозина Лидия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вы были итоги коллективиза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раграф 17, выучить определение, даты, ответить на вопрос 2.(стр.17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оллективизац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итика преобразования сельского хозяйства в конце 20-х – 30-е гг. на основе раскулачивания и насаждения коллективных форм хозяйства (колхозов) с обобществлением значительной части крестьянской собствен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чины коллективиза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коренная индустриализация требовала гигантских ресур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ревня рассматривалась не только как источник продовольствия, но и как важнейший источник средств для финансирования индустриал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ораздо легче забрать эти средства у нескольких сотен крупных хозяйств, чем у миллиона  мелких собственн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урс на коллективизаци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началом индустриализации был взят курс на проведение коллективизации сельского хозяйства, задачей которой официально провозглашалось «осуществление социалистических преобразований в деревн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03236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«Год великого перелом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7 ноября 1929 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в «Правде» появилась статья Сталина «Год великого перелома», где говорилось «о коренном переломе в развитии нашего земледелия от мелкого и отсталого индивидуального хозяйства к крупному и передовому коллективному земледелию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816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«Ликвидация кулачества как класса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конце декабр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192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г. Сталин объявил о конце нэпа и переходе к политике «ликвидации кулачества как класс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3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становление ЦК ВКП(б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января 1930 г. вышло постановление ЦК ВКП(б) «О темпе коллективизации и мерах помощи государства колхозному строительству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03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роки коллективиза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ень 1930 г. – для Северного Кавказа, Нижней и Средней Волг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ень 1931 г. – весна 1932 г. – для остальных зерновых район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пределах 5-ти лет – все остальные районы стран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аскулачив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деревне происходили два взаимосвязанных насильственных процесса: создание колхозов и раскулачив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 конца 1929 г. до середины 1930 г. было раскулачено свыше 350 тыс. крестьянских хозяйств, а их имущество передали колхоз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9:13:59Z</dcterms:created>
  <dc:creator>Теща</dc:creator>
  <dc:description/>
  <dc:language>en-US</dc:language>
  <cp:lastModifiedBy>Теща</cp:lastModifiedBy>
  <dcterms:modified xsi:type="dcterms:W3CDTF">2014-11-05T17:36:43Z</dcterms:modified>
  <cp:revision>4</cp:revision>
  <dc:subject/>
  <dc:title>Коллективизация сельского хозяйства</dc:title>
</cp:coreProperties>
</file>