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BD1-C592-47DA-BD75-60AAACF5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69A-8E52-4258-ABA3-C9ACD9DD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D2E-E2B9-4E91-82BB-49EFE51C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600-CF61-4DD2-84A2-DFA83F48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EC6C-E366-46A2-8D16-D8046160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BE8B-83CA-4BF4-8280-F6C7F528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FD75-060A-4183-926F-802746D3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0B0D-8206-44E5-9C8F-8B78C2E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D3E6-FA35-4946-AB4F-F4BD632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5D18-6E95-4618-BAB3-833A53AB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AF1-6F5E-4522-B699-6248EA0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507-A51B-4753-BA4F-A8DBAA22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47C2-CD81-47E2-8CF3-9E1BE99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AAF0-6CCA-45A8-A6C2-49CCC17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3D57-0C01-441C-8516-185A605E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1A72-8E80-4289-B042-36558392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D363-7DA4-4854-BACC-56FDC114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7750-48F5-4300-943D-36421EEF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E47D-DF1A-45BC-A9DF-E3D25EA0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0DD1-295B-4007-9C96-EC4F34B5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0BFD-5CEE-47EC-A6CB-9BA53D54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F410-40E7-4D77-B0F3-3916E8A1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C72-7603-4AC4-94F3-83C0CFC5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423E-4709-418A-84BA-280B52BD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C3A0-34F9-4A9B-8A4F-96BF151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81A3-B8C5-48C2-B3AA-F24A9BE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EB98-AD32-4C93-BF9A-B0ADC23D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FDD4-1712-44D5-829B-E70FC784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E204-4177-4A30-A205-E3A73A84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931F-E1BC-4696-8A39-CC351F82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FCD7-1A35-40EA-B8B4-9BD396C4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2F2C-D439-463F-9158-E59ED40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5FE0-6469-4E24-8A64-C3C4BFCA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ED3-BD70-4B4A-8509-7D41A50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3357-7A0D-409C-8425-3EB18D06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722B-E1C1-4208-B30E-F3D868B4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B42A-8C01-4F99-9810-440B7D4B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E59C-A3DE-4D17-88AD-A2BECBBF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85D0-8E44-42E5-B1E6-450D428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0C13-716E-4F89-A608-240838B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9D5F-E4BC-4B71-AD2E-59ED6941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4C2A-6148-4388-87EB-FDFA9F53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B505-3593-4A70-ACDB-50FA1FC2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761A3-9FFF-4646-B836-F12D4F9A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F14-3B87-49F2-B352-82141C2D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C80F-15C9-4128-87B7-2CFF7A07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6901-DABE-455E-A38E-4B2B1C2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6B4E5-3F71-4741-A99B-FF73EC46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68F7-4CEF-4CE6-A1BE-2BB477E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E8BDE-9B7B-4D17-97AF-8B0DB02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2900-709D-4CFC-8EB7-B5FB5BE3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ECD5-8D69-43CD-B02F-4E86C4A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F551-112E-4A92-B6F0-0FA0ED0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5D43-1F0A-473E-81B7-8433F95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170B-4BDE-44FC-B9D5-970F0D3C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41D-B506-4023-BAFD-72A9F9A5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7C7DF-E47E-48DB-9073-752821DC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4964-94BE-4184-B794-04222E3D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17D76-8A6D-4E8F-9EEA-57191C2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DF4A-3D5D-4D02-AC55-DF04740C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61F9-4187-43E5-B5D3-652A623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B9D49-BD35-4313-9CBC-075F928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3B30-0445-40CA-8A76-AB56E5E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AB29C-AF8E-4A25-B0A1-3E34F68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6E91-E57A-4BC6-927B-92F54A0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7E3A-B3D0-452C-A712-051519E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BBF-2828-4981-A55C-BED121D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4985D-5377-4C39-8220-023D757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19D3E-1163-47C7-99B5-BEE2EC19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FB36-DC52-4BF5-840C-1F5EC419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2EE-D524-4FFD-9B37-5E78B12E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6E1-13D0-4DC0-8592-0BFF181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8117-78CC-4472-AE2A-6F0E7AB4E1C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03D4-D0D4-481E-AC79-38737BAD869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A85-1D47-4B24-9CB8-D7424E6A374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7745-4362-4D15-86FB-D772A8D299C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8962-B32C-4B69-9BC0-34A489F514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52DC-0107-44AF-9F7E-5EB53D563D2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-541800" y="54936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олумб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ристофор Колумб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11640" y="162864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страны происходит от имени известного путешественника-мореплавателя, Христофора Колумба, который открыл Амер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nnm.uz/uploads/posts/2013-07/1374692360_2363421_11097de0.jpg"/>
          <p:cNvPicPr/>
          <p:nvPr/>
        </p:nvPicPr>
        <p:blipFill>
          <a:blip r:embed="rId1"/>
          <a:stretch/>
        </p:blipFill>
        <p:spPr>
          <a:xfrm>
            <a:off x="468360" y="1628640"/>
            <a:ext cx="3809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олумб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268280"/>
            <a:ext cx="874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9520" indent="-355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умб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фициальное названи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спублика Колумб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— Столица — Богота. Граничит с Бразилией и Венесуэлой на востоке, на юге — с Эквадором и Перу, на западе — с Панамой. Омывается Карибским морем на севере и Тихим океаном на западе. Численность населения 46 772 778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Герб Kолумбии"/>
          <p:cNvPicPr/>
          <p:nvPr/>
        </p:nvPicPr>
        <p:blipFill>
          <a:blip r:embed="rId1"/>
          <a:stretch/>
        </p:blipFill>
        <p:spPr>
          <a:xfrm>
            <a:off x="5435640" y="400536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im3-tub-ru.yandex.net/i?id=550929980-47-72&amp;n=21"/>
          <p:cNvPicPr/>
          <p:nvPr/>
        </p:nvPicPr>
        <p:blipFill>
          <a:blip r:embed="rId2"/>
          <a:stretch/>
        </p:blipFill>
        <p:spPr>
          <a:xfrm>
            <a:off x="68436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Температу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16000" y="1052280"/>
            <a:ext cx="44276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емесячная температура воздуха в низменных районах и на побережьях океанов составляет около +29 С практически круглый год, в горных районах, на высотах 2000 - 3000 метр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2" descr="С воздуха"/>
          <p:cNvPicPr/>
          <p:nvPr/>
        </p:nvPicPr>
        <p:blipFill>
          <a:blip r:embed="rId1"/>
          <a:stretch/>
        </p:blipFill>
        <p:spPr>
          <a:xfrm>
            <a:off x="179280" y="1052640"/>
            <a:ext cx="45370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Фау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560" y="12682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уна Колумбии очень разнообразна. На равнинах и в низкогорном поясе страны обитают обезьяны, пумы, ягуары, пекари, тапиры, броненосцы, дикобразы, ленивцы, опоссумы, многие виды змей и ящер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http://im7-tub-ru.yandex.net/i?id=14114212-29-72&amp;n=21"/>
          <p:cNvPicPr/>
          <p:nvPr/>
        </p:nvPicPr>
        <p:blipFill>
          <a:blip r:embed="rId1"/>
          <a:stretch/>
        </p:blipFill>
        <p:spPr>
          <a:xfrm>
            <a:off x="755640" y="4005360"/>
            <a:ext cx="3816360" cy="2519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Isla-de-los-Micos"/>
          <p:cNvPicPr/>
          <p:nvPr/>
        </p:nvPicPr>
        <p:blipFill>
          <a:blip r:embed="rId2"/>
          <a:stretch/>
        </p:blipFill>
        <p:spPr>
          <a:xfrm>
            <a:off x="4859280" y="4005360"/>
            <a:ext cx="352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Фло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50560" y="1484280"/>
            <a:ext cx="74674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Колумбии растут кокосовые пальмы, красное дерево, дуб, орех, сосна, кедр. В долинах страны распространены ванильное дерево и каучуконос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2" descr="http://im6-tub-ru.yandex.net/i?id=659206227-56-72&amp;n=21"/>
          <p:cNvPicPr/>
          <p:nvPr/>
        </p:nvPicPr>
        <p:blipFill>
          <a:blip r:embed="rId1"/>
          <a:stretch/>
        </p:blipFill>
        <p:spPr>
          <a:xfrm>
            <a:off x="755640" y="3860640"/>
            <a:ext cx="3600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53:19Z</dcterms:created>
  <dc:creator>Пользователь</dc:creator>
  <dc:description/>
  <dc:language>en-US</dc:language>
  <cp:lastModifiedBy>Пользователь</cp:lastModifiedBy>
  <dcterms:modified xsi:type="dcterms:W3CDTF">2014-11-07T15:54:13Z</dcterms:modified>
  <cp:revision>4</cp:revision>
  <dc:subject/>
  <dc:title>Слайд 1</dc:title>
</cp:coreProperties>
</file>