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F50-5126-4462-9E73-60161DE6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F8D-859D-471F-9E3B-1893220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924-54DF-40CC-A52E-32453B7E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A04-82BA-4493-821B-AFB08C51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DDA-4EAB-4B89-9D16-ACC823A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AF7-7878-41AE-8142-61BA359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953-A95E-48A4-82B3-4B84FFA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2B7-DE98-4FF4-BC2F-920305C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E2E-8C85-4EA7-8EB3-906EB53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AFF-39E9-46ED-86C4-04BD151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4F4-5860-460B-9F57-A3CBEA3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D05-5F90-4BBA-92E6-F98670A3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Click to edit the title text format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Click to edit the outline text format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1d1d57"/>
              </a:buClr>
              <a:buFont typeface="MS Reference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Second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Third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1d1d57"/>
              </a:buClr>
              <a:buFont typeface="MS Reference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Fourth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1d1d57"/>
              </a:buClr>
              <a:buFont typeface="MS Reference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Fifth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S Reference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Sixth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S Reference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Seventh Outline Level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25272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7e7ed4"/>
                </a:solidFill>
                <a:latin typeface="MS Reference Sans Serif"/>
                <a:ea typeface="Aharon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e7ed4"/>
                </a:solidFill>
                <a:latin typeface="MS Reference Sans Serif"/>
                <a:ea typeface="Aharoni"/>
              </a:rPr>
              <a:t>Корина Илона Викторов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768-60D4-46DA-BEFA-0EAD53F9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img_url=www.megapsy.com%2FPeinture_moderne%2Fimages%2F124Picasso.jpg&amp;iorient=&amp;icolor=&amp;site=&amp;text=&#1082;&#1091;&#1073;&#1080;&#1079;&#1084;&amp;wp=&amp;pos=0&amp;isize=&amp;type=&amp;recent=&amp;rpt=simage&amp;itype=&amp;nojs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yandex.ru/yandsearch?img_url=www.krugosvet.ru%2Fimages%2F1005827_PH04596.jpg&amp;iorient=&amp;icolor=&amp;site=&amp;text=&#1082;&#1091;&#1073;&#1080;&#1079;&#1084;&amp;wp=&amp;pos=5&amp;isize=&amp;type=&amp;recent=&amp;rpt=simage&amp;itype=&amp;noj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yandex.ru/yandsearch?img_url=img90.imageshack.us%2Fimg90%2F8937%2F4dpict555.jpg&amp;iorient=&amp;icolor=&amp;site=&amp;text=&#1082;&#1091;&#1073;&#1080;&#1079;&#1084;&amp;wp=&amp;pos=4&amp;isize=&amp;type=&amp;recent=&amp;rpt=simage&amp;itype=&amp;nojs=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yandex.ru/yandsearch?img_url=img-fotki.yandex.ru%2Fget%2F5008%2Ft-ferrara.8c%2F0_5d771_e827ed0f_XL&amp;iorient=&amp;icolor=&amp;site=&amp;text=&#1082;&#1091;&#1073;&#1080;&#1079;&#1084;&amp;wp=&amp;pos=11&amp;isize=&amp;type=&amp;recent=&amp;rpt=simage&amp;itype=&amp;nojs=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ages.yandex.ru/yandsearch?img_url=img1.liveinternet.ru%2Fimages%2Fattach%2Fb%2F3%2F22%2F558%2F22558435_Pikasso_Arlekin_s_gitaroy_1918_g_szh.JPG&amp;iorient=&amp;icolor=&amp;site=&amp;text=&#1082;&#1091;&#1073;&#1080;&#1079;&#1084;&amp;wp=&amp;pos=15&amp;isize=&amp;type=&amp;recent=&amp;rpt=simage&amp;itype=&amp;nojs=1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1d57"/>
                </a:solidFill>
                <a:latin typeface="MS Reference Sans Serif"/>
              </a:rPr>
              <a:t>Кубизм</a:t>
            </a: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 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1989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4508640"/>
            <a:ext cx="104760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35280" y="54936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42920" y="321300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88000" y="333360"/>
            <a:ext cx="11142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3564000" y="494172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Основатели метода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Пабло Пикассо и Жорж Брак создали в 1905г. новый метод, получивший название кубизм. Они отказались от живописи, имитирующей реальность – как не способной отразить проблемы эпохи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Главные черты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Геометризация формы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Создание объема не светотенью, а цветом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Цвет и сюжет второстепенны, главное – рисунок, статичная конструкция и композиция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5880" y="1628640"/>
            <a:ext cx="26020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01800" y="63086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Столик - Жорж Б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I. </a:t>
            </a:r>
            <a:r>
              <a:rPr b="1" lang="ru-RU" sz="4400" spc="-1" strike="noStrike">
                <a:solidFill>
                  <a:srgbClr val="1d1d57"/>
                </a:solidFill>
                <a:latin typeface="MS Reference Sans Serif"/>
              </a:rPr>
              <a:t>Ранний кубизм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82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Сезанновский или «негритянский» (1907-1909 гг)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Характерно: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Обращение к примитивному искусству и африканской скульптуре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Отказ от перспективы, объема, светотени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614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Ранний кубизм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Темы: деревья, посуда, строения, музыкальные инструменты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Нарочитая геометризация предметов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Устойчивость 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00" y="1873080"/>
            <a:ext cx="38880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II. </a:t>
            </a:r>
            <a:r>
              <a:rPr b="1" lang="ru-RU" sz="4400" spc="-1" strike="noStrike">
                <a:solidFill>
                  <a:srgbClr val="1d1d57"/>
                </a:solidFill>
                <a:latin typeface="MS Reference Sans Serif"/>
              </a:rPr>
              <a:t>Аналитический период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44720"/>
            <a:ext cx="4906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1910-1912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Дробление и расслаивание предметов на отдельные грани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Сложный изысканный, утонченный ритм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35520" y="1628640"/>
            <a:ext cx="296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Аналитический период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95880" y="162864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Строгий, почти аскетический колорит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Крупные объекты в центре, мелкие «подтягиваются»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Сквозь один предмет часто виден другой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1880" y="1684440"/>
            <a:ext cx="3024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III.</a:t>
            </a:r>
            <a:r>
              <a:rPr b="1" lang="ru-RU" sz="4400" spc="-1" strike="noStrike">
                <a:solidFill>
                  <a:srgbClr val="1d1d57"/>
                </a:solidFill>
                <a:latin typeface="MS Reference Sans Serif"/>
              </a:rPr>
              <a:t> Синтетический кубизм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1912-1914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Декоративность, впечатление ярких плоскостных панно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99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d57"/>
                </a:solidFill>
                <a:latin typeface="MS Reference Sans Serif"/>
              </a:rPr>
              <a:t>Богатство красок</a:t>
            </a:r>
            <a:endParaRPr b="1" lang="en-US" sz="32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594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95600" y="63086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Бутылка рома - Жорж Б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d57"/>
                </a:solidFill>
                <a:latin typeface="MS Reference Sans Serif"/>
              </a:rPr>
              <a:t>Синтетический кубизм</a:t>
            </a:r>
            <a:endParaRPr b="1" lang="en-US" sz="4400" spc="-1" strike="noStrike">
              <a:solidFill>
                <a:srgbClr val="1d1d57"/>
              </a:solidFill>
              <a:latin typeface="MS Reference Sans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5388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50920" y="159984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Применение разнообразных добавок (газеты, песок, опилки, кожа и т.д.), техника коллажа =</a:t>
            </a:r>
            <a:r>
              <a:rPr b="1" lang="en-US" sz="2800" spc="-1" strike="noStrike">
                <a:solidFill>
                  <a:srgbClr val="1d1d57"/>
                </a:solidFill>
                <a:latin typeface="MS Reference Sans Serif"/>
              </a:rPr>
              <a:t>&gt;</a:t>
            </a: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 объем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  <a:p>
            <a:pPr marL="343080" indent="-343080">
              <a:spcBef>
                <a:spcPts val="700"/>
              </a:spcBef>
              <a:buClr>
                <a:srgbClr val="1d1d57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1d57"/>
                </a:solidFill>
                <a:latin typeface="MS Reference Sans Serif"/>
              </a:rPr>
              <a:t>Одна деталь – ключ к расшифровке (гриф гитары, игральная карта, буквы или цифры и т.п.)</a:t>
            </a:r>
            <a:endParaRPr b="1" lang="en-US" sz="2800" spc="-1" strike="noStrike">
              <a:solidFill>
                <a:srgbClr val="1d1d57"/>
              </a:solidFill>
              <a:latin typeface="MS Reference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44Z</dcterms:created>
  <dc:creator>iLONA</dc:creator>
  <dc:description/>
  <dc:language>en-US</dc:language>
  <cp:lastModifiedBy>Илона</cp:lastModifiedBy>
  <dcterms:modified xsi:type="dcterms:W3CDTF">2014-11-04T19:41:52Z</dcterms:modified>
  <cp:revision>15</cp:revision>
  <dc:subject/>
  <dc:title>Кубизм </dc:title>
</cp:coreProperties>
</file>