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F059-6B3E-41FA-AAFE-AD74DE2F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60D9-BC2B-4952-AFB1-6BED87BD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234B-75B2-445D-A5F4-C7A91977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C0B2-32F3-4CEE-9D68-96879560C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3543-F6F4-48B2-A4D0-9F38BAAF7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0E46-ACC5-4BD8-8B4E-68FE1768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5DB0-882C-43BB-BE71-5170FE7D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31B1-9155-4812-B37B-16A36C06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7E7B-2AA7-452F-903C-80A5B68A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72F8-4188-43BD-9138-A3EF96A5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5A9F-CA20-470A-A8AF-9A26ADDF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B280-DA5B-4619-BE1A-734C8113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3801-6E4C-42BF-B65A-42BACC4E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413B-D4D1-417D-96D6-4D63E837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0EB6-F49E-4337-973B-7548B480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0EF5-8353-444C-84B1-A0577F99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3F14-5759-40B3-B6C0-AD3FEDCA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9DBD6-B11E-4E92-AD0F-1F609C8B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1546E-9852-4FAE-8121-03581C6D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06C0F-9098-4FF7-BCBA-9822994C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D8430-4213-46C0-AE07-C761D09A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3FA78-3915-49A1-BCCB-499CF08D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1AC9-5801-46FD-A6B8-E216CEDA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862E7-FF1D-4B3D-B4E2-505C9EB1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397D8-887B-4D79-9AE9-7806FE24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E4DF1-F928-4DFE-BF87-FE7F7063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8C603-251C-4E9D-87E8-72BF3460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6089E-6A93-401F-B19A-65607730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82776-CE37-4DFF-BC3A-E50000B0B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C4102-D6C4-41B5-AF46-BE715559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89C99-F9F8-4E2A-BE31-380358EC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A93D4-8F70-42F9-ABF3-E831FA53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18AFA-9468-4C71-A0AC-A1CBC32B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E686-787C-458F-8C9A-6FFDE59E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4256A-8A9A-4EA4-9AFC-A63E648F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045D1-C294-402D-B4D8-3673D649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1D129-9647-4FB3-95C0-B3C0C6B4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2EACC-787F-4775-9FE5-626CE5ED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244B6-EDCA-466C-8358-F4E8A378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C1D00-BE34-4411-96BD-C72845CF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03127-C266-4955-A0EA-886F8E8A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F113C-6447-4B3E-900C-7DAC34866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FCE3E-8452-4CF0-8BA8-48456425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48473-DB7B-4572-A4A4-D41C0D651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253C-34CA-4915-86A0-9C0F3A36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65098-89F1-4925-95FB-0A048B40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FAFB6-6556-4F02-8901-5228A6CE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17371-8382-4A6D-8425-0CDA41E3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EACBE-9760-4B3C-9F08-A5E8CD43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040AF-72C7-416C-9C37-426B9BB8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6F2D1-58A2-4AC9-93FE-46674EF4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3EBCC-622D-4C98-B925-542D449C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1A2DC-B9FA-46E5-B210-5C46F538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5727F-05AC-4750-B520-1FADFA91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90691-6B54-4127-A516-E13D5F98D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6448-0CB2-429C-862C-82A79EF9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813FE-7D83-445E-B0CD-D55EF36F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81A3-755B-4C73-A990-6ACBC152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441B-04BE-4506-839A-44EEC380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CF22-E91F-443D-A3E1-5E84625C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95EB-0B4A-4B57-B9F5-CD6EE2B23D86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AA00-1BA5-45F4-9272-DEC826031C74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606F-A7FB-4C78-AA49-0D9E7210A4B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02A1-7EBA-47F2-A8B0-0FBE1F6AE132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2F0C-2053-4FC3-B9CA-6235E26F548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6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11956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1643040" y="1428840"/>
          <a:ext cx="5500800" cy="3220920"/>
        </p:xfrm>
        <a:graphic>
          <a:graphicData uri="http://schemas.openxmlformats.org/drawingml/2006/table">
            <a:tbl>
              <a:tblPr/>
              <a:tblGrid>
                <a:gridCol w="1566720"/>
                <a:gridCol w="825840"/>
                <a:gridCol w="436320"/>
                <a:gridCol w="1797120"/>
                <a:gridCol w="874800"/>
              </a:tblGrid>
              <a:tr h="46044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 +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 –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ec"/>
                    </a:solidFill>
                  </a:tcPr>
                </a:tc>
              </a:tr>
              <a:tr h="45972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ec"/>
                    </a:solidFill>
                  </a:tcPr>
                </a:tc>
              </a:tr>
              <a:tr h="46044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 –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 –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ec"/>
                    </a:solidFill>
                  </a:tcPr>
                </a:tc>
              </a:tr>
              <a:tr h="46008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ec"/>
                    </a:solidFill>
                  </a:tcPr>
                </a:tc>
              </a:tr>
              <a:tr h="46044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 –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 –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ec"/>
                    </a:solidFill>
                  </a:tcPr>
                </a:tc>
              </a:tr>
              <a:tr h="46008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ec"/>
                    </a:solidFill>
                  </a:tcPr>
                </a:tc>
              </a:tr>
              <a:tr h="46044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 +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 +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e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1428840" y="4857840"/>
          <a:ext cx="6000840" cy="1400040"/>
        </p:xfrm>
        <a:graphic>
          <a:graphicData uri="http://schemas.openxmlformats.org/drawingml/2006/table">
            <a:tbl>
              <a:tblPr/>
              <a:tblGrid>
                <a:gridCol w="855720"/>
                <a:gridCol w="861840"/>
                <a:gridCol w="865080"/>
                <a:gridCol w="863640"/>
                <a:gridCol w="844560"/>
                <a:gridCol w="865440"/>
                <a:gridCol w="844560"/>
              </a:tblGrid>
              <a:tr h="699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Rectangle 1"/>
          <p:cNvSpPr/>
          <p:nvPr/>
        </p:nvSpPr>
        <p:spPr>
          <a:xfrm>
            <a:off x="214200" y="22068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23b7e"/>
                </a:solidFill>
                <a:latin typeface="Arial"/>
                <a:ea typeface="Calibri"/>
              </a:rPr>
              <a:t>Устный счет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1. Отгадайте, имя какого сказочного героя здесь зашифровано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TextBox 7"/>
          <p:cNvSpPr/>
          <p:nvPr/>
        </p:nvSpPr>
        <p:spPr>
          <a:xfrm>
            <a:off x="2485080" y="5715000"/>
            <a:ext cx="4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23b7e"/>
                </a:solidFill>
                <a:latin typeface="Trebuchet MS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5072040" y="564372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23b7e"/>
                </a:solidFill>
                <a:latin typeface="Trebuchet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TextBox 9"/>
          <p:cNvSpPr/>
          <p:nvPr/>
        </p:nvSpPr>
        <p:spPr>
          <a:xfrm>
            <a:off x="4202640" y="5643720"/>
            <a:ext cx="46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23b7e"/>
                </a:solidFill>
                <a:latin typeface="Trebuchet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TextBox 10"/>
          <p:cNvSpPr/>
          <p:nvPr/>
        </p:nvSpPr>
        <p:spPr>
          <a:xfrm>
            <a:off x="3353760" y="571500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23b7e"/>
                </a:solidFill>
                <a:latin typeface="Trebuchet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TextBox 11"/>
          <p:cNvSpPr/>
          <p:nvPr/>
        </p:nvSpPr>
        <p:spPr>
          <a:xfrm>
            <a:off x="1708560" y="564372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23b7e"/>
                </a:solidFill>
                <a:latin typeface="Trebuchet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TextBox 12"/>
          <p:cNvSpPr/>
          <p:nvPr/>
        </p:nvSpPr>
        <p:spPr>
          <a:xfrm>
            <a:off x="5982480" y="5643720"/>
            <a:ext cx="4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23b7e"/>
                </a:solidFill>
                <a:latin typeface="Trebuchet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TextBox 13"/>
          <p:cNvSpPr/>
          <p:nvPr/>
        </p:nvSpPr>
        <p:spPr>
          <a:xfrm>
            <a:off x="6802920" y="5643720"/>
            <a:ext cx="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23b7e"/>
                </a:solidFill>
                <a:latin typeface="Trebuchet MS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31" name="Группа 18"/>
          <p:cNvGrpSpPr/>
          <p:nvPr/>
        </p:nvGrpSpPr>
        <p:grpSpPr>
          <a:xfrm>
            <a:off x="4429080" y="2143080"/>
            <a:ext cx="2857680" cy="928800"/>
            <a:chOff x="4429080" y="2143080"/>
            <a:chExt cx="2857680" cy="928800"/>
          </a:xfrm>
        </p:grpSpPr>
        <p:sp>
          <p:nvSpPr>
            <p:cNvPr id="232" name="Прямая соединительная линия 15"/>
            <p:cNvSpPr/>
            <p:nvPr/>
          </p:nvSpPr>
          <p:spPr>
            <a:xfrm>
              <a:off x="4429080" y="2143080"/>
              <a:ext cx="2857680" cy="785880"/>
            </a:xfrm>
            <a:prstGeom prst="line">
              <a:avLst/>
            </a:prstGeom>
            <a:ln w="1152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33" name="Прямая соединительная линия 17"/>
            <p:cNvSpPr/>
            <p:nvPr/>
          </p:nvSpPr>
          <p:spPr>
            <a:xfrm flipV="1">
              <a:off x="4500360" y="2143080"/>
              <a:ext cx="2715120" cy="928800"/>
            </a:xfrm>
            <a:prstGeom prst="line">
              <a:avLst/>
            </a:prstGeom>
            <a:ln w="1152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214200" y="306000"/>
            <a:ext cx="77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3b7e"/>
                </a:solidFill>
                <a:latin typeface="Arial"/>
                <a:ea typeface="Calibri"/>
              </a:rPr>
              <a:t>Анализ задач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Какую из этих задач вы можете решить, а какую – нет? Почему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а) Таня полила шесть грядок огурцов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Сколько грядок ей осталось полить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б) На шахматной доске 20 фигур. Из них 13 черных, остальные – белые. Сколько белых фигур на шахматной доске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214200" y="226440"/>
            <a:ext cx="7715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3b7e"/>
                </a:solidFill>
                <a:latin typeface="Arial"/>
                <a:ea typeface="Calibri"/>
              </a:rPr>
              <a:t>Решите задачу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Оля, Катя и Оксана пошли в кино в платьях разного цвета: </a:t>
            </a:r>
            <a:r>
              <a:rPr b="0" i="1" lang="ru-RU" sz="2800" spc="-1" strike="noStrike">
                <a:solidFill>
                  <a:srgbClr val="ffff00"/>
                </a:solidFill>
                <a:latin typeface="Arial"/>
                <a:ea typeface="Calibri"/>
              </a:rPr>
              <a:t>жел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  <a:ea typeface="Calibri"/>
              </a:rPr>
              <a:t>син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и </a:t>
            </a:r>
            <a:r>
              <a:rPr b="0" i="1" lang="ru-RU" sz="2800" spc="-1" strike="noStrike">
                <a:solidFill>
                  <a:srgbClr val="b23b7e"/>
                </a:solidFill>
                <a:latin typeface="Arial"/>
                <a:ea typeface="Calibri"/>
              </a:rPr>
              <a:t>розовом</a:t>
            </a:r>
            <a:r>
              <a:rPr b="0" lang="ru-RU" sz="2800" spc="-1" strike="noStrike">
                <a:solidFill>
                  <a:srgbClr val="b23b7e"/>
                </a:solidFill>
                <a:latin typeface="Arial"/>
                <a:ea typeface="Calibri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Оля была не в желтом, Катя – не в желтом и не в розовом. В платье какого цвета была каждая из девочек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4" descr="http://im2-tub-ru.yandex.net/i?id=251344657-00-72"/>
          <p:cNvPicPr/>
          <p:nvPr/>
        </p:nvPicPr>
        <p:blipFill>
          <a:blip r:embed="rId1"/>
          <a:stretch/>
        </p:blipFill>
        <p:spPr>
          <a:xfrm>
            <a:off x="928800" y="3429000"/>
            <a:ext cx="1643040" cy="208908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6"/>
          <p:cNvSpPr/>
          <p:nvPr/>
        </p:nvSpPr>
        <p:spPr>
          <a:xfrm>
            <a:off x="1359720" y="5715000"/>
            <a:ext cx="7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Ол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Прямоугольник 7"/>
          <p:cNvSpPr/>
          <p:nvPr/>
        </p:nvSpPr>
        <p:spPr>
          <a:xfrm>
            <a:off x="3430800" y="571500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Кат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Прямоугольник 8"/>
          <p:cNvSpPr/>
          <p:nvPr/>
        </p:nvSpPr>
        <p:spPr>
          <a:xfrm>
            <a:off x="5652360" y="571500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Окса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Picture 4" descr="http://im2-tub-ru.yandex.net/i?id=251344657-00-72"/>
          <p:cNvPicPr/>
          <p:nvPr/>
        </p:nvPicPr>
        <p:blipFill>
          <a:blip r:embed="rId2"/>
          <a:stretch/>
        </p:blipFill>
        <p:spPr>
          <a:xfrm>
            <a:off x="3071880" y="3429000"/>
            <a:ext cx="1643040" cy="2089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http://im2-tub-ru.yandex.net/i?id=251344657-00-72"/>
          <p:cNvPicPr/>
          <p:nvPr/>
        </p:nvPicPr>
        <p:blipFill>
          <a:blip r:embed="rId3"/>
          <a:stretch/>
        </p:blipFill>
        <p:spPr>
          <a:xfrm>
            <a:off x="920880" y="3425760"/>
            <a:ext cx="1657080" cy="2097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http://im2-tub-ru.yandex.net/i?id=251344657-00-72"/>
          <p:cNvPicPr/>
          <p:nvPr/>
        </p:nvPicPr>
        <p:blipFill>
          <a:blip r:embed="rId4"/>
          <a:stretch/>
        </p:blipFill>
        <p:spPr>
          <a:xfrm>
            <a:off x="5500800" y="3429000"/>
            <a:ext cx="1643040" cy="2089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http://im2-tub-ru.yandex.net/i?id=251344657-00-72"/>
          <p:cNvPicPr/>
          <p:nvPr/>
        </p:nvPicPr>
        <p:blipFill>
          <a:blip r:embed="rId5"/>
          <a:stretch/>
        </p:blipFill>
        <p:spPr>
          <a:xfrm>
            <a:off x="3067200" y="3425760"/>
            <a:ext cx="1650960" cy="2097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http://im2-tub-ru.yandex.net/i?id=251344657-00-72"/>
          <p:cNvPicPr/>
          <p:nvPr/>
        </p:nvPicPr>
        <p:blipFill>
          <a:blip r:embed="rId6"/>
          <a:stretch/>
        </p:blipFill>
        <p:spPr>
          <a:xfrm>
            <a:off x="5492880" y="3425760"/>
            <a:ext cx="165708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"/>
          <p:cNvSpPr/>
          <p:nvPr/>
        </p:nvSpPr>
        <p:spPr>
          <a:xfrm>
            <a:off x="214200" y="161280"/>
            <a:ext cx="7715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23b7e"/>
                </a:solidFill>
                <a:latin typeface="Arial"/>
                <a:ea typeface="Calibri"/>
              </a:rPr>
              <a:t>Сообщение темы урок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Мы с вами умеем измерять длины небольших предметов с помощью обычной линейки, получая результаты в сантиметрах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  <a:ea typeface="Calibri"/>
              </a:rPr>
              <a:t>А как быть, если нам надо пойти в магазин и купить отрез ткани на пальто?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еужели продавец будет отмерять ткань такой линеечкой?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Продавцы всегда используют деревянную линейку, которая называется 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  <a:ea typeface="Calibri"/>
              </a:rPr>
              <a:t>портновским метр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Прямоугольник 2"/>
          <p:cNvSpPr/>
          <p:nvPr/>
        </p:nvSpPr>
        <p:spPr>
          <a:xfrm>
            <a:off x="214200" y="571500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Сегодня на уроке мы познакомимся с крупной единицей измерения – 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  <a:ea typeface="Calibri"/>
              </a:rPr>
              <a:t>метр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Picture 2" descr="http://www.24aul.ru/photo/141/709024_220x165.jpg"/>
          <p:cNvPicPr/>
          <p:nvPr/>
        </p:nvPicPr>
        <p:blipFill>
          <a:blip r:embed="rId1"/>
          <a:srcRect l="0" t="40907" r="1134" b="45465"/>
          <a:stretch/>
        </p:blipFill>
        <p:spPr>
          <a:xfrm>
            <a:off x="142920" y="4567320"/>
            <a:ext cx="764388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"/>
          <p:cNvSpPr/>
          <p:nvPr/>
        </p:nvSpPr>
        <p:spPr>
          <a:xfrm>
            <a:off x="214200" y="232920"/>
            <a:ext cx="7858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23b7e"/>
                </a:solidFill>
                <a:latin typeface="Arial"/>
                <a:ea typeface="Calibri"/>
              </a:rPr>
              <a:t>Изучение нового материал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  <a:ea typeface="Calibri"/>
              </a:rPr>
              <a:t>Мет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– это более крупная  единица длины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азовите известные вам единицы измерения длины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Как обозначаются сантиметр и дециметр?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Метр обозначается буквой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(без точки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Прочитайте записи на доске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4 м, 45 м, 4 м 8 дм, 42 м 8 дм 9 с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Прочитайте вслух текст на с. 30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"/>
          <p:cNvSpPr/>
          <p:nvPr/>
        </p:nvSpPr>
        <p:spPr>
          <a:xfrm>
            <a:off x="285840" y="28728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23b7e"/>
                </a:solidFill>
                <a:latin typeface="Arial"/>
                <a:ea typeface="Calibri"/>
              </a:rPr>
              <a:t>Задание № 1- № 6 </a:t>
            </a:r>
            <a:r>
              <a:rPr b="0" lang="ru-RU" sz="2800" spc="-1" strike="noStrike">
                <a:solidFill>
                  <a:srgbClr val="b23b7e"/>
                </a:solidFill>
                <a:latin typeface="Arial"/>
                <a:ea typeface="Calibri"/>
              </a:rPr>
              <a:t>(с. 31)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Прямоугольник 2"/>
          <p:cNvSpPr/>
          <p:nvPr/>
        </p:nvSpPr>
        <p:spPr>
          <a:xfrm>
            <a:off x="371160" y="2000160"/>
            <a:ext cx="578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Работа в печатной тетради № 1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тр. 14 ( №1-№4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285840" y="293400"/>
            <a:ext cx="7715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23b7e"/>
                </a:solidFill>
                <a:latin typeface="Arial"/>
                <a:ea typeface="Calibri"/>
              </a:rPr>
              <a:t>Итог урок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Назовите крупную единицу длины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Какие инструменты используют для измерения длины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30T08:51:11Z</dcterms:created>
  <dc:creator>Ира</dc:creator>
  <dc:description/>
  <dc:language>en-US</dc:language>
  <cp:lastModifiedBy>Ира</cp:lastModifiedBy>
  <dcterms:modified xsi:type="dcterms:W3CDTF">2012-06-30T10:32:42Z</dcterms:modified>
  <cp:revision>10</cp:revision>
  <dc:subject/>
  <dc:title>Метр</dc:title>
</cp:coreProperties>
</file>