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6F48-A7F2-4C62-81AF-393DDD171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B0A2-5DBA-4163-A42E-C6F02ADA0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EF1D-36A0-417E-BFBD-6EBF0B754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72E3-DFA9-4A97-8EBC-781E7B190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043D2-5340-4AC5-9885-D7395E105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909BB-C9CD-4F78-9376-42D67ED6C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1EC54-8EC0-4994-8E80-E244848EA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F4537-A938-4F53-B559-323457D8B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C8582-E3EF-40C1-8AD9-ED4DC7C62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1CB1B-586A-4E18-8F92-FC5B054C1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DD9AB-677A-4FE0-AE0D-15C3CC88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5E48-6243-444D-903C-456822A9F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85B5C-DE11-464A-8EE7-152A5F4F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5D4C2-403F-4C3C-95E3-F8270648C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AE4C8-B825-43F7-A422-7890DEE56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A042B-9A3D-4BE2-8D3E-595A77D49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A45E9-FEAF-42E7-916A-89EDDC66D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07B4-3AFE-4BF6-AAD6-49E06392A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F615-395B-4DBB-99A7-E985F7526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0762-C663-4A3C-BE70-FDD1CCA23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B7B5-912C-41B0-87E2-404BEA66E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E4BE-2F6B-45B1-9B26-0B51A211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97AD-AF61-4409-B2A6-B4E59C90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B425-F3D0-4150-9F6E-A520E762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AD27B-13AC-4BF4-9C46-D55FE4942B3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5734A-CC7C-453D-8C8E-00994D0FDD2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«Творчество учителя и ученика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дготовила Феоктистова Марина Валерьевн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mic Sans MS"/>
              </a:rPr>
              <a:t>ПОБЕДИТЕЛИ ОКРУЖНОЙ ОЛИМПИАДЫ</a:t>
            </a: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Comic Sans MS"/>
              </a:rPr>
              <a:t> ПО МАТЕМАТИК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55640" y="2637000"/>
            <a:ext cx="769608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Comic Sans MS"/>
              </a:rPr>
              <a:t>Черных Екатерина 5А к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</a:t>
            </a:r>
            <a:r>
              <a:rPr b="1" i="1" lang="ru-RU" sz="3200" spc="-1" strike="noStrike">
                <a:solidFill>
                  <a:srgbClr val="00b200"/>
                </a:solidFill>
                <a:latin typeface="Comic Sans MS"/>
              </a:rPr>
              <a:t>2 МЕСТ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Comic Sans MS"/>
              </a:rPr>
              <a:t>Чекманова Анастасия 5А к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</a:t>
            </a:r>
            <a:r>
              <a:rPr b="1" i="1" lang="ru-RU" sz="3200" spc="-1" strike="noStrike">
                <a:solidFill>
                  <a:srgbClr val="00b200"/>
                </a:solidFill>
                <a:latin typeface="Comic Sans MS"/>
              </a:rPr>
              <a:t>2 МЕСТ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Comic Sans MS"/>
              </a:rPr>
              <a:t>Седов Никита 6А к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</a:t>
            </a:r>
            <a:r>
              <a:rPr b="1" i="1" lang="ru-RU" sz="3200" spc="-1" strike="noStrike">
                <a:solidFill>
                  <a:srgbClr val="00b200"/>
                </a:solidFill>
                <a:latin typeface="Comic Sans MS"/>
              </a:rPr>
              <a:t>3 МЕСТ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КОНКУРС </a:t>
            </a:r>
            <a:br>
              <a:rPr sz="4000"/>
            </a:b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«ЕСЛИ БЫ Я БЫЛ ГЛАВОЙ УПРАВЫ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685800" y="2205000"/>
          <a:ext cx="7696080" cy="2766960"/>
        </p:xfrm>
        <a:graphic>
          <a:graphicData uri="http://schemas.openxmlformats.org/drawingml/2006/table">
            <a:tbl>
              <a:tblPr/>
              <a:tblGrid>
                <a:gridCol w="3848040"/>
                <a:gridCol w="3848040"/>
              </a:tblGrid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ЛАС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ОЛИЧЕСТВО УЧАСТНИКО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b800"/>
                          </a:solidFill>
                          <a:latin typeface="Comic Sans MS"/>
                        </a:rPr>
                        <a:t>10 КЛАС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b800"/>
                          </a:solidFill>
                          <a:latin typeface="Comic Sans MS"/>
                        </a:rPr>
                        <a:t>11 КЛАС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219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ПОБЕДИТЕЛИ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КОНКУРСА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«ЕСЛИ БЫ Я БЫЛ ГЛАВОЙ УПРАВЫ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4360" y="2492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Comic Sans MS"/>
              </a:rPr>
              <a:t>Маравина Екатерина 10к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   </a:t>
            </a:r>
            <a:r>
              <a:rPr b="1" i="1" lang="ru-RU" sz="3200" spc="-1" strike="noStrike">
                <a:solidFill>
                  <a:srgbClr val="00b200"/>
                </a:solidFill>
                <a:latin typeface="Comic Sans MS"/>
              </a:rPr>
              <a:t>1 МЕСТО и подарок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cc0099"/>
                </a:solidFill>
                <a:latin typeface="Comic Sans MS"/>
              </a:rPr>
              <a:t>Решетилова Мария 10к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Comic Sans MS"/>
              </a:rPr>
              <a:t>Грюнвальд Максим 11к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cc0099"/>
                </a:solidFill>
                <a:latin typeface="Comic Sans MS"/>
              </a:rPr>
              <a:t>Моисеев Николай 11кл</a:t>
            </a:r>
            <a:r>
              <a:rPr b="0" lang="ru-RU" sz="3200" spc="-1" strike="noStrike">
                <a:solidFill>
                  <a:srgbClr val="cc0099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200"/>
                </a:solidFill>
                <a:latin typeface="Comic Sans MS"/>
              </a:rPr>
              <a:t>                  </a:t>
            </a:r>
            <a:r>
              <a:rPr b="1" i="1" lang="ru-RU" sz="3200" spc="-1" strike="noStrike">
                <a:solidFill>
                  <a:srgbClr val="00b200"/>
                </a:solidFill>
                <a:latin typeface="Comic Sans MS"/>
              </a:rPr>
              <a:t>Дипломы и подарк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b800"/>
                </a:solidFill>
                <a:latin typeface="Comic Sans MS"/>
              </a:rPr>
              <a:t>ВНЕКЛАССНЫЕ МЕРОПРИЯТ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200"/>
                </a:solidFill>
                <a:latin typeface="Comic Sans MS"/>
              </a:rPr>
              <a:t>«Географическая эстафета» между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200"/>
                </a:solidFill>
                <a:latin typeface="Comic Sans MS"/>
              </a:rPr>
              <a:t>6А и 6Б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200"/>
                </a:solidFill>
                <a:latin typeface="Comic Sans MS"/>
              </a:rPr>
              <a:t>Со счетом 47 – 45 победу одержала команда 6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b800"/>
                </a:solidFill>
                <a:latin typeface="Comic Sans MS"/>
              </a:rPr>
              <a:t>ВНЕКЛАССНЫЕ МЕРОПРИЯТ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349360"/>
            <a:ext cx="7696080" cy="31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200"/>
                </a:solidFill>
                <a:latin typeface="Comic Sans MS"/>
              </a:rPr>
              <a:t>«Математический брейн - ринг»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200"/>
                </a:solidFill>
                <a:latin typeface="Comic Sans MS"/>
              </a:rPr>
              <a:t>  </a:t>
            </a:r>
            <a:r>
              <a:rPr b="1" lang="ru-RU" sz="3600" spc="-1" strike="noStrike">
                <a:solidFill>
                  <a:srgbClr val="00b200"/>
                </a:solidFill>
                <a:latin typeface="Comic Sans MS"/>
              </a:rPr>
              <a:t>между 6А и 6Б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200"/>
                </a:solidFill>
                <a:latin typeface="Comic Sans MS"/>
              </a:rPr>
              <a:t>Победу одержала команда 6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b800"/>
                </a:solidFill>
                <a:latin typeface="Comic Sans MS"/>
              </a:rPr>
              <a:t>ВНЕКЛАССНЫЕ МЕРОПРИЯТ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55640" y="2349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200"/>
                </a:solidFill>
                <a:latin typeface="Comic Sans MS"/>
              </a:rPr>
              <a:t>       </a:t>
            </a:r>
            <a:r>
              <a:rPr b="1" lang="ru-RU" sz="3600" spc="-1" strike="noStrike">
                <a:solidFill>
                  <a:srgbClr val="00b200"/>
                </a:solidFill>
                <a:latin typeface="Comic Sans MS"/>
              </a:rPr>
              <a:t>«Поезд здоровья» -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200"/>
                </a:solidFill>
                <a:latin typeface="Comic Sans MS"/>
              </a:rPr>
              <a:t>        </a:t>
            </a:r>
            <a:r>
              <a:rPr b="1" lang="ru-RU" sz="3600" spc="-1" strike="noStrike">
                <a:solidFill>
                  <a:srgbClr val="00b200"/>
                </a:solidFill>
                <a:latin typeface="Comic Sans MS"/>
              </a:rPr>
              <a:t>игра по биологии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200"/>
                </a:solidFill>
                <a:latin typeface="Comic Sans MS"/>
              </a:rPr>
              <a:t>          </a:t>
            </a:r>
            <a:r>
              <a:rPr b="1" lang="ru-RU" sz="3600" spc="-1" strike="noStrike">
                <a:solidFill>
                  <a:srgbClr val="00b200"/>
                </a:solidFill>
                <a:latin typeface="Comic Sans MS"/>
              </a:rPr>
              <a:t>между 7А и 7Б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200"/>
                </a:solidFill>
                <a:latin typeface="Comic Sans MS"/>
              </a:rPr>
              <a:t>    </a:t>
            </a:r>
            <a:r>
              <a:rPr b="1" lang="ru-RU" sz="3600" spc="-1" strike="noStrike">
                <a:solidFill>
                  <a:srgbClr val="00b200"/>
                </a:solidFill>
                <a:latin typeface="Comic Sans MS"/>
              </a:rPr>
              <a:t>Победу одержала команд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200"/>
                </a:solidFill>
                <a:latin typeface="Comic Sans MS"/>
              </a:rPr>
              <a:t>                </a:t>
            </a:r>
            <a:r>
              <a:rPr b="1" lang="ru-RU" sz="3600" spc="-1" strike="noStrike">
                <a:solidFill>
                  <a:srgbClr val="00b200"/>
                </a:solidFill>
                <a:latin typeface="Comic Sans MS"/>
              </a:rPr>
              <a:t>7Б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42560" y="69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200"/>
                </a:solidFill>
                <a:latin typeface="Comic Sans MS"/>
              </a:rPr>
              <a:t>ЗАПЛАНИРОВАННЫЕ МЕРОПРИЯТИЯ НА 4 ЧЕТВЕРТЬ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6560" y="249228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Comic Sans MS"/>
              </a:rPr>
              <a:t>«Клуб веселых математиков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реди 7к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Comic Sans MS"/>
              </a:rPr>
              <a:t>Финал «Брейн-ринга» по физике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реди 7к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ритча Плутарха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рое рабочих везут тачки с камнями, к ним подходит человек и каждому задаёт один и тот же вопрос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Чем ты занимаешься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ервый 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езу эту проклятую тачк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торой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арабатываю себе на хлеб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ретий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  Строю прекрасный храм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дость созидания, особенно радость творческого труда, служит источником вдохновения в нелегком педагогическом дел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7" name="Picture 6" descr="DSC00389"/>
          <p:cNvPicPr/>
          <p:nvPr/>
        </p:nvPicPr>
        <p:blipFill>
          <a:blip r:embed="rId1"/>
          <a:stretch/>
        </p:blipFill>
        <p:spPr>
          <a:xfrm>
            <a:off x="4114800" y="2590920"/>
            <a:ext cx="4876920" cy="363852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pull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1 сентябр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Picture 4" descr="IMG_0292"/>
          <p:cNvPicPr/>
          <p:nvPr/>
        </p:nvPicPr>
        <p:blipFill>
          <a:blip r:embed="rId1"/>
          <a:stretch/>
        </p:blipFill>
        <p:spPr>
          <a:xfrm>
            <a:off x="38160" y="1143000"/>
            <a:ext cx="9029520" cy="5295960"/>
          </a:xfrm>
          <a:prstGeom prst="rect">
            <a:avLst/>
          </a:prstGeom>
          <a:ln w="0">
            <a:noFill/>
          </a:ln>
        </p:spPr>
      </p:pic>
      <p:pic>
        <p:nvPicPr>
          <p:cNvPr id="191" name="Beethoven's Symphony No. 9 (Scherzo).wma" descr=""/>
          <p:cNvPicPr/>
          <p:nvPr/>
        </p:nvPicPr>
        <p:blipFill>
          <a:blip r:embed="rId2"/>
          <a:stretch/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6" dur="1" fill="hold"/>
                                        <p:tgtEl>
                                          <p:spTgt spid="1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«Учитель должен быть свободным творцом, а не рабом чужой указки. Воспитание является искусством, а не ремеслом – в этом корень учительского дела»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Л.Н.Толстой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Конкурс рисунка на асфальте сентябрь 07г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6960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Picture 4" descr="DSC00385"/>
          <p:cNvPicPr/>
          <p:nvPr/>
        </p:nvPicPr>
        <p:blipFill>
          <a:blip r:embed="rId1"/>
          <a:stretch/>
        </p:blipFill>
        <p:spPr>
          <a:xfrm>
            <a:off x="507960" y="1447920"/>
            <a:ext cx="8128080" cy="4927320"/>
          </a:xfrm>
          <a:prstGeom prst="rect">
            <a:avLst/>
          </a:prstGeom>
          <a:ln w="0">
            <a:noFill/>
          </a:ln>
        </p:spPr>
      </p:pic>
    </p:spTree>
  </p:cSld>
  <p:transition advTm="17000">
    <p:pull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Конкурс букето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6" name="Picture 4" descr="DSC00374"/>
          <p:cNvPicPr/>
          <p:nvPr/>
        </p:nvPicPr>
        <p:blipFill>
          <a:blip r:embed="rId1"/>
          <a:stretch/>
        </p:blipFill>
        <p:spPr>
          <a:xfrm>
            <a:off x="1143000" y="1828800"/>
            <a:ext cx="7162920" cy="5029200"/>
          </a:xfrm>
          <a:prstGeom prst="rect">
            <a:avLst/>
          </a:prstGeom>
          <a:ln w="0">
            <a:noFill/>
          </a:ln>
        </p:spPr>
      </p:pic>
    </p:spTree>
  </p:cSld>
  <p:transition advTm="15000">
    <p:pull dir="r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Семейно-спортивный праздник, посвященный Дню матер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8" name="Picture 3" descr="DSCN3220-02"/>
          <p:cNvPicPr/>
          <p:nvPr/>
        </p:nvPicPr>
        <p:blipFill>
          <a:blip r:embed="rId1"/>
          <a:stretch/>
        </p:blipFill>
        <p:spPr>
          <a:xfrm>
            <a:off x="1450800" y="1087560"/>
            <a:ext cx="6242400" cy="4681440"/>
          </a:xfrm>
          <a:prstGeom prst="rect">
            <a:avLst/>
          </a:prstGeom>
          <a:ln w="0">
            <a:noFill/>
          </a:ln>
        </p:spPr>
      </p:pic>
    </p:spTree>
  </p:cSld>
  <p:transition advTm="20000">
    <p:pull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Работа по группам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ворчество и мастерство учителя - одно и тоже или нет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чем разница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1000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Работа по группам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. Условия для творчества учителя могут быть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Работа по группам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3.Творческий учитель – творческий ученик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акие качества творческого учителя позволяют выявить и развить творческий потенциал ученика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6781680" cy="419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Отчет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о итогам третьей четверти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Галаур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Ольги Дмитриевн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mb dir="horz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8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Решение педсовета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оздание в школе условий для творческой деятельности как учителя, так и учащегос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азвитие наставничества, обмен опытом (взаимопосещение уроков и внеклассных мероприятий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Ежедневная работа над собой, с целью стать мастером и творческим педагого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Творчество - эт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228600"/>
            <a:ext cx="83818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WordArt 4"/>
          <p:cNvSpPr txBox="1"/>
          <p:nvPr/>
        </p:nvSpPr>
        <p:spPr>
          <a:xfrm>
            <a:off x="609480" y="1371600"/>
            <a:ext cx="784872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еятельность,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езультатом которой является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оздание новых материальных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ли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уховных ценностей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Главный признак педагогического творчества-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едвидеть потребности быстро развивающегося и изменяющегося обществ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едвосхищать требования, которые в будущем будут предъявлены к человеку, сегодня сидящему за парто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Творчество-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еобходимое условие становления самого педагог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Его самопознан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азвития и раскрытия личност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Мотивы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ворческой деятельности педагога чрезвычайно многообразны.  Они основываются на сознании педагогом своих обязанностей и задач, которые ставит перед ним современная школ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510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Отчеты председателей м/о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- Плотникова Г.Е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- Тержова Е.Н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- Наймушина О.Н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- Кирпичева О.В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6872040" cy="241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200"/>
                </a:solidFill>
                <a:latin typeface="Comic Sans MS"/>
              </a:rPr>
              <a:t>ОКРУЖНЫЕ ОЛИМПИАДЫ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ЭКОНОМИК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685800" y="3141720"/>
          <a:ext cx="7696080" cy="2225520"/>
        </p:xfrm>
        <a:graphic>
          <a:graphicData uri="http://schemas.openxmlformats.org/drawingml/2006/table">
            <a:tbl>
              <a:tblPr/>
              <a:tblGrid>
                <a:gridCol w="3848040"/>
                <a:gridCol w="3848040"/>
              </a:tblGrid>
              <a:tr h="1066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ЛАС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ОЛИЧЕСТВО УЧАСТНИКО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b800"/>
                          </a:solidFill>
                          <a:latin typeface="Comic Sans MS"/>
                        </a:rPr>
                        <a:t>10 КЛАС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b800"/>
                          </a:solidFill>
                          <a:latin typeface="Comic Sans MS"/>
                        </a:rPr>
                        <a:t>11 КЛАС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200"/>
                </a:solidFill>
                <a:latin typeface="Comic Sans MS"/>
              </a:rPr>
              <a:t>ОКРУЖНЫЕ ОЛИМПИАДЫ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МАТЕМАТИК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685800" y="1828800"/>
          <a:ext cx="7696080" cy="4606920"/>
        </p:xfrm>
        <a:graphic>
          <a:graphicData uri="http://schemas.openxmlformats.org/drawingml/2006/table">
            <a:tbl>
              <a:tblPr/>
              <a:tblGrid>
                <a:gridCol w="3848040"/>
                <a:gridCol w="384804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ЛАС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ОЛИЧЕСТВО УЧАСТНИКО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b800"/>
                          </a:solidFill>
                          <a:latin typeface="Comic Sans MS"/>
                        </a:rPr>
                        <a:t>5 КЛАС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b800"/>
                          </a:solidFill>
                          <a:latin typeface="Comic Sans MS"/>
                        </a:rPr>
                        <a:t>6 КЛАС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b800"/>
                          </a:solidFill>
                          <a:latin typeface="Comic Sans MS"/>
                        </a:rPr>
                        <a:t>7 КЛАС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b800"/>
                          </a:solidFill>
                          <a:latin typeface="Comic Sans MS"/>
                        </a:rPr>
                        <a:t>8 КЛАС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b800"/>
                          </a:solidFill>
                          <a:latin typeface="Comic Sans MS"/>
                        </a:rPr>
                        <a:t>10 КЛАС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ндрей</cp:lastModifiedBy>
  <dcterms:modified xsi:type="dcterms:W3CDTF">2014-11-07T07:28:54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