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5AA-B835-4686-B5AB-707C27E8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F75-60A6-4E8E-B0EA-A8F4E7E4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F68-B450-4935-AF63-94445413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FB6-76AE-4FD9-A6F3-51780902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6B4B-D806-495A-B9BA-52C9AE93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3821-A6AD-41C4-9FAA-72EA02A5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42F6-4CF8-4389-B564-655E86C3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EC44-236C-4142-A802-5CF5FE71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0E7C-920F-4D74-9333-93E2769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0704-7D2B-4101-89E0-D9A1B35B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9709-B963-460A-B316-52DC09DB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ABB-D47C-4419-BF04-87446E1F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1002-839C-4723-AAD1-D729116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D0F5-B367-4757-8364-0EF9A3ED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1EF7-3AA1-42C8-B137-6F7649E6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02E4-EDC0-4537-905C-3AD97D77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28E5-C92D-481C-B30C-4AC866DF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BAB4E-0173-4EFD-BD37-4E44CE45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0BCB2-A6C5-4E26-8E9B-E9EBF0C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98D63-570E-4DA7-8815-1C33FDA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5BEFB-676B-4481-A717-DDBE8FE9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64558-7216-4E67-894C-1E8B9A07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059-4A73-40E9-A058-9012E190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CF6D9-4C98-444F-95BB-D926B1AB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16CBC-E0C2-4B53-8988-DF92BEC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DCF17-2BCE-4FBE-BE5C-45355080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00F3E-B334-466B-A9D5-93E34397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92BFB-BC26-4CCB-8C31-82215224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74718-08B4-44B0-A16D-0977B1EF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6BAC7-82FC-4765-B6F0-EC9F4DBE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5E02-B278-4D14-A69A-71F3EDAA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C64B-A62F-4B8F-AB98-06AEA7D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E951-5829-4068-8C93-63485242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78E-4450-45FE-A20E-17791472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5C59-6AE0-4DE5-8A99-D235E9E8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361C-7C1F-409D-815C-E51C3220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27DB5-1F67-478C-9042-8FB32A99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1975-3C9A-487E-A966-1BA94FE8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2F2E-4240-4844-A40F-30494D6A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FC387-550C-495C-B030-25D07AE6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9C0A-114C-4B5E-829D-7E36AD80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04B0-BCDD-49C1-9447-68CD93AD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07303-888F-4A81-92F0-C82BF4D7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E462B-D7ED-4AC4-A880-E3892B97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5F6-563E-4151-A248-A7D73D43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ED47E-727D-4339-A828-8E6C417F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45163-3A81-4FE3-ACC3-52DB1BE9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15680-7D5A-4ABC-92FF-9BD65308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256F1-4915-4F40-A9DA-BCA2A3F7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A403DF-577E-48A8-8433-68BC9AB5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B9475-4C8A-4817-9CB7-6A385F94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455BC-85CD-42BC-8BC0-E13F377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FA070-E60E-4B90-BE48-2B35F1E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8E1F7-0542-40B3-BC7F-2064467B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13654-8A00-4F00-A997-9952A63C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4BC-1E3A-484F-9105-5AB85D46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CFA8D-D83B-47D9-B61B-74054E2B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F4260-DDD2-4CCA-904F-0BE01BB3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2CD9B-222F-4B4E-99D1-82C41BD2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729E0-413F-4A33-B751-50E2A388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2F3A2-329D-4A64-A290-0173A0D8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0A676-DE79-44BD-BB33-0B321280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4BAA8-4386-44FA-9E4E-11795772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F92B7-F71C-40E2-BC8A-C9A8696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C33CB-0D0A-4C73-B266-07F68A3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FCC36-38AF-4700-8B8E-F8C48F8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C1B-429C-4488-A36B-62415FB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C5F13-B347-4B11-B62F-A55191F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AA47B-0408-41AF-BE40-34D5B9F7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FDF63-7469-4CC6-ABFF-D39E47CB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40DD9-14B8-4C09-9AED-D565440F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347C2-B332-4FBB-B5DE-44AEA5A8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A58E8-F6CE-4847-8E90-674563A6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61AE1-3AA5-4828-9759-13ADC122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48DE6-9005-4729-A675-487A52AE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DEE86-B24E-4AE7-BB2E-22D9260C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7A05B-7D4E-4C2A-929F-F94C6067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633-899B-4B3F-BADD-9005DB1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98B0E-3EBE-4E5F-A13B-1F69A03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BBB88-C337-4D74-ADC8-5E8F4102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AB35D-A2C7-41E4-8F01-18497403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2C6AF-B004-419D-9F9F-7BAB746A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67358-5E0F-4752-926D-70973DBD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849-A746-443A-A753-6AEEE4EF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5386-1749-45EE-B75A-132D1C1C84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EAD9-57D7-40C9-B5E8-3777016BCB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C579-2C0F-47CE-87ED-693DD561D3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21B-6ACC-4A5D-A22D-5825BE146B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BAD-DF43-4B5D-9226-14B9C597FF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76C6-3C04-4C92-B5B6-31652D4F07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94CB-694E-4286-8E9A-DA5A4A87E87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56920" y="1142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ПЕРИМЕТР МНОГОУГОЛЬНИКА.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285840" y="234360"/>
            <a:ext cx="82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Calibri"/>
              </a:rPr>
              <a:t>Устный сче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Решите пример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50 + 20 – 30 + 10 – 20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90 – 20 – 20 + 3 – 4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60 – 30 + 50 – 70 + 20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20 + 70 – 10 – 50 + 0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2"/>
          <p:cNvSpPr/>
          <p:nvPr/>
        </p:nvSpPr>
        <p:spPr>
          <a:xfrm>
            <a:off x="4711320" y="1428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4354200" y="2357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4711320" y="31431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4497120" y="4071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85840" y="15516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ама купила 5 кг огурцов, 2 кг свёклы и помидоры. Сколько килограммов помидоров купила мама, если масса всех овощей 12 кг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думайте: какая схема соответствует задач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Рисунок 323" descr=""/>
          <p:cNvPicPr/>
          <p:nvPr/>
        </p:nvPicPr>
        <p:blipFill>
          <a:blip r:embed="rId1"/>
          <a:stretch/>
        </p:blipFill>
        <p:spPr>
          <a:xfrm>
            <a:off x="1143000" y="2643120"/>
            <a:ext cx="6357960" cy="21668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357120" y="478872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то обозначают выражения, записанные по условию 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Рисунок 322" descr=""/>
          <p:cNvPicPr/>
          <p:nvPr/>
        </p:nvPicPr>
        <p:blipFill>
          <a:blip r:embed="rId2"/>
          <a:stretch/>
        </p:blipFill>
        <p:spPr>
          <a:xfrm>
            <a:off x="357120" y="5857920"/>
            <a:ext cx="7286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285840" y="2167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Сообщение темы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ассмотрите данные фигур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Рисунок 321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5929200" cy="25876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214200" y="3727440"/>
            <a:ext cx="7929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Что объединяет эти фигуры?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Как они называются?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Выполните задания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найдите </a:t>
            </a:r>
            <a:r>
              <a:rPr b="0" lang="ru-RU" sz="2200" spc="-1" strike="noStrike">
                <a:solidFill>
                  <a:srgbClr val="00b050"/>
                </a:solidFill>
                <a:latin typeface="Arial"/>
                <a:ea typeface="Calibri"/>
              </a:rPr>
              <a:t>перимет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прямоугольни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Какие трудности у вас возникли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Сегодня на уроке мы узнаем, что называют периметром и как найти периметр многоугольник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"/>
          <p:cNvSpPr/>
          <p:nvPr/>
        </p:nvSpPr>
        <p:spPr>
          <a:xfrm>
            <a:off x="214200" y="2206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Задание № 1 </a:t>
            </a:r>
            <a:r>
              <a:rPr b="0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(с. 67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 плане изображен дачный участок, размеры которого указаны. Этот участок надо огородить забором. Какой длины должен быть забор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45600" y="200124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2 + 15 + 20 + 12 = 59 (м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428760" y="28576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умму длин всех сторон многоугольника называют </a:t>
            </a:r>
            <a:r>
              <a:rPr b="1" i="1" lang="ru-RU" sz="2400" spc="-1" strike="noStrike">
                <a:solidFill>
                  <a:srgbClr val="00b050"/>
                </a:solidFill>
                <a:latin typeface="Century Schoolbook"/>
              </a:rPr>
              <a:t>периметром.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бозначается буквой </a:t>
            </a:r>
            <a:r>
              <a:rPr b="0" i="1" lang="ru-RU" sz="2400" spc="-1" strike="noStrike">
                <a:solidFill>
                  <a:srgbClr val="00b050"/>
                </a:solidFill>
                <a:latin typeface="Century Schoolbook"/>
              </a:rPr>
              <a:t>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74640" y="407196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Р  = а + в + с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Равнобедренный треугольник 5"/>
          <p:cNvSpPr/>
          <p:nvPr/>
        </p:nvSpPr>
        <p:spPr>
          <a:xfrm>
            <a:off x="928800" y="4357800"/>
            <a:ext cx="214200" cy="2142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775440" y="492912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Р  = а + в + с + 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Прямоугольник 7"/>
          <p:cNvSpPr/>
          <p:nvPr/>
        </p:nvSpPr>
        <p:spPr>
          <a:xfrm>
            <a:off x="1000080" y="5286240"/>
            <a:ext cx="214200" cy="1429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214200" y="2167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Задание № 3 </a:t>
            </a:r>
            <a:r>
              <a:rPr b="0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(с. 68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полните  вычис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3" name="Группа 11"/>
          <p:cNvGrpSpPr/>
          <p:nvPr/>
        </p:nvGrpSpPr>
        <p:grpSpPr>
          <a:xfrm>
            <a:off x="524160" y="1285920"/>
            <a:ext cx="1564560" cy="947160"/>
            <a:chOff x="524160" y="1285920"/>
            <a:chExt cx="1564560" cy="947160"/>
          </a:xfrm>
        </p:grpSpPr>
        <p:sp>
          <p:nvSpPr>
            <p:cNvPr id="374" name="TextBox 2"/>
            <p:cNvSpPr/>
            <p:nvPr/>
          </p:nvSpPr>
          <p:spPr>
            <a:xfrm>
              <a:off x="524160" y="1285920"/>
              <a:ext cx="1564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а = 5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Р   - ?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5" name="Прямоугольник 3"/>
            <p:cNvSpPr/>
            <p:nvPr/>
          </p:nvSpPr>
          <p:spPr>
            <a:xfrm>
              <a:off x="785520" y="2071800"/>
              <a:ext cx="142560" cy="14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76" name="Группа 10"/>
          <p:cNvGrpSpPr/>
          <p:nvPr/>
        </p:nvGrpSpPr>
        <p:grpSpPr>
          <a:xfrm>
            <a:off x="474480" y="2357280"/>
            <a:ext cx="1838880" cy="520560"/>
            <a:chOff x="474480" y="2357280"/>
            <a:chExt cx="1838880" cy="520560"/>
          </a:xfrm>
        </p:grpSpPr>
        <p:sp>
          <p:nvSpPr>
            <p:cNvPr id="377" name="TextBox 4"/>
            <p:cNvSpPr/>
            <p:nvPr/>
          </p:nvSpPr>
          <p:spPr>
            <a:xfrm>
              <a:off x="474480" y="2357280"/>
              <a:ext cx="18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b050"/>
                  </a:solidFill>
                  <a:latin typeface="Century Schoolbook"/>
                </a:rPr>
                <a:t>Р   =  а х 4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8" name="Прямоугольник 5"/>
            <p:cNvSpPr/>
            <p:nvPr/>
          </p:nvSpPr>
          <p:spPr>
            <a:xfrm>
              <a:off x="785880" y="2643480"/>
              <a:ext cx="142560" cy="14292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79" name="Группа 12"/>
          <p:cNvGrpSpPr/>
          <p:nvPr/>
        </p:nvGrpSpPr>
        <p:grpSpPr>
          <a:xfrm>
            <a:off x="456120" y="3214800"/>
            <a:ext cx="1997280" cy="947160"/>
            <a:chOff x="456120" y="3214800"/>
            <a:chExt cx="1997280" cy="947160"/>
          </a:xfrm>
        </p:grpSpPr>
        <p:sp>
          <p:nvSpPr>
            <p:cNvPr id="380" name="Прямоугольник 7"/>
            <p:cNvSpPr/>
            <p:nvPr/>
          </p:nvSpPr>
          <p:spPr>
            <a:xfrm>
              <a:off x="714240" y="3571920"/>
              <a:ext cx="142560" cy="14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grpSp>
          <p:nvGrpSpPr>
            <p:cNvPr id="381" name="Группа 9"/>
            <p:cNvGrpSpPr/>
            <p:nvPr/>
          </p:nvGrpSpPr>
          <p:grpSpPr>
            <a:xfrm>
              <a:off x="456120" y="3214800"/>
              <a:ext cx="1997280" cy="947160"/>
              <a:chOff x="456120" y="3214800"/>
              <a:chExt cx="1997280" cy="947160"/>
            </a:xfrm>
          </p:grpSpPr>
          <p:sp>
            <p:nvSpPr>
              <p:cNvPr id="382" name="TextBox 6"/>
              <p:cNvSpPr/>
              <p:nvPr/>
            </p:nvSpPr>
            <p:spPr>
              <a:xfrm>
                <a:off x="456120" y="3214800"/>
                <a:ext cx="1997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</a:rPr>
                  <a:t>Р    = 4х4</a:t>
                </a:r>
                <a:endParaRPr b="0" lang="en-US" sz="2800" spc="-1" strike="noStrike">
                  <a:solidFill>
                    <a:srgbClr val="000000"/>
                  </a:solidFill>
                  <a:latin typeface="Century Schoolboo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</a:rPr>
                  <a:t>Р    = 16 см</a:t>
                </a:r>
                <a:endParaRPr b="0" lang="en-US" sz="2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83" name="Прямоугольник 8"/>
              <p:cNvSpPr/>
              <p:nvPr/>
            </p:nvSpPr>
            <p:spPr>
              <a:xfrm>
                <a:off x="785880" y="3929040"/>
                <a:ext cx="142560" cy="142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384" name="Прямоугольник 13"/>
          <p:cNvSpPr/>
          <p:nvPr/>
        </p:nvSpPr>
        <p:spPr>
          <a:xfrm>
            <a:off x="5143680" y="1071720"/>
            <a:ext cx="2857320" cy="264312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Прямоугольник 14"/>
          <p:cNvSpPr/>
          <p:nvPr/>
        </p:nvSpPr>
        <p:spPr>
          <a:xfrm>
            <a:off x="4645800" y="21430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Прямоугольник 15"/>
          <p:cNvSpPr/>
          <p:nvPr/>
        </p:nvSpPr>
        <p:spPr>
          <a:xfrm>
            <a:off x="6289200" y="4287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214200" y="2167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Задание № 6 </a:t>
            </a:r>
            <a:r>
              <a:rPr b="0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(с. 68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полните  вычис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8" name="Группа 6"/>
          <p:cNvGrpSpPr/>
          <p:nvPr/>
        </p:nvGrpSpPr>
        <p:grpSpPr>
          <a:xfrm>
            <a:off x="524160" y="1285920"/>
            <a:ext cx="1564560" cy="1800360"/>
            <a:chOff x="524160" y="1285920"/>
            <a:chExt cx="1564560" cy="1800360"/>
          </a:xfrm>
        </p:grpSpPr>
        <p:sp>
          <p:nvSpPr>
            <p:cNvPr id="389" name="TextBox 3"/>
            <p:cNvSpPr/>
            <p:nvPr/>
          </p:nvSpPr>
          <p:spPr>
            <a:xfrm>
              <a:off x="524160" y="1285920"/>
              <a:ext cx="15645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а = 4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в = 5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с = 3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Р   - ?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0" name="Равнобедренный треугольник 5"/>
            <p:cNvSpPr/>
            <p:nvPr/>
          </p:nvSpPr>
          <p:spPr>
            <a:xfrm>
              <a:off x="785520" y="2715120"/>
              <a:ext cx="285480" cy="285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91" name="Группа 11"/>
          <p:cNvGrpSpPr/>
          <p:nvPr/>
        </p:nvGrpSpPr>
        <p:grpSpPr>
          <a:xfrm>
            <a:off x="626040" y="3429000"/>
            <a:ext cx="2414880" cy="520560"/>
            <a:chOff x="626040" y="3429000"/>
            <a:chExt cx="2414880" cy="520560"/>
          </a:xfrm>
        </p:grpSpPr>
        <p:sp>
          <p:nvSpPr>
            <p:cNvPr id="392" name="TextBox 8"/>
            <p:cNvSpPr/>
            <p:nvPr/>
          </p:nvSpPr>
          <p:spPr>
            <a:xfrm>
              <a:off x="626040" y="3429000"/>
              <a:ext cx="241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b050"/>
                  </a:solidFill>
                  <a:latin typeface="Century Schoolbook"/>
                </a:rPr>
                <a:t>Р   =  а + в + с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3" name="Равнобедренный треугольник 10"/>
            <p:cNvSpPr/>
            <p:nvPr/>
          </p:nvSpPr>
          <p:spPr>
            <a:xfrm>
              <a:off x="928800" y="3643560"/>
              <a:ext cx="214200" cy="2145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94" name="Группа 19"/>
          <p:cNvGrpSpPr/>
          <p:nvPr/>
        </p:nvGrpSpPr>
        <p:grpSpPr>
          <a:xfrm>
            <a:off x="691920" y="4143240"/>
            <a:ext cx="2076480" cy="947160"/>
            <a:chOff x="691920" y="4143240"/>
            <a:chExt cx="2076480" cy="947160"/>
          </a:xfrm>
        </p:grpSpPr>
        <p:sp>
          <p:nvSpPr>
            <p:cNvPr id="395" name="TextBox 15"/>
            <p:cNvSpPr/>
            <p:nvPr/>
          </p:nvSpPr>
          <p:spPr>
            <a:xfrm>
              <a:off x="691920" y="4143240"/>
              <a:ext cx="207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Р    = 4+5+3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Р    = 12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6" name="Равнобедренный треугольник 17"/>
            <p:cNvSpPr/>
            <p:nvPr/>
          </p:nvSpPr>
          <p:spPr>
            <a:xfrm>
              <a:off x="999720" y="4357440"/>
              <a:ext cx="214200" cy="2142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7" name="Равнобедренный треугольник 18"/>
            <p:cNvSpPr/>
            <p:nvPr/>
          </p:nvSpPr>
          <p:spPr>
            <a:xfrm>
              <a:off x="999720" y="4786560"/>
              <a:ext cx="214200" cy="2142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98" name="Прямоугольный треугольник 20"/>
          <p:cNvSpPr/>
          <p:nvPr/>
        </p:nvSpPr>
        <p:spPr>
          <a:xfrm rot="5400000">
            <a:off x="5357160" y="785520"/>
            <a:ext cx="1928880" cy="3071880"/>
          </a:xfrm>
          <a:prstGeom prst="rtTriangl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Прямоугольник 21"/>
          <p:cNvSpPr/>
          <p:nvPr/>
        </p:nvSpPr>
        <p:spPr>
          <a:xfrm>
            <a:off x="5781960" y="857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Прямоугольник 22"/>
          <p:cNvSpPr/>
          <p:nvPr/>
        </p:nvSpPr>
        <p:spPr>
          <a:xfrm rot="19807800">
            <a:off x="6139080" y="2571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Прямоугольник 23"/>
          <p:cNvSpPr/>
          <p:nvPr/>
        </p:nvSpPr>
        <p:spPr>
          <a:xfrm>
            <a:off x="4067640" y="2143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214200" y="2167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Задание № 6 </a:t>
            </a:r>
            <a:r>
              <a:rPr b="0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(с. 68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полните  вычис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Шестиугольник 16"/>
          <p:cNvSpPr/>
          <p:nvPr/>
        </p:nvSpPr>
        <p:spPr>
          <a:xfrm>
            <a:off x="5214960" y="1357200"/>
            <a:ext cx="2571840" cy="2428920"/>
          </a:xfrm>
          <a:prstGeom prst="hexagon">
            <a:avLst>
              <a:gd name="adj" fmla="val 25000"/>
              <a:gd name="vf" fmla="val 115470"/>
            </a:avLst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04" name="Группа 28"/>
          <p:cNvGrpSpPr/>
          <p:nvPr/>
        </p:nvGrpSpPr>
        <p:grpSpPr>
          <a:xfrm>
            <a:off x="4710600" y="857160"/>
            <a:ext cx="3651840" cy="3440880"/>
            <a:chOff x="4710600" y="857160"/>
            <a:chExt cx="3651840" cy="3440880"/>
          </a:xfrm>
        </p:grpSpPr>
        <p:sp>
          <p:nvSpPr>
            <p:cNvPr id="405" name="Прямоугольник 21"/>
            <p:cNvSpPr/>
            <p:nvPr/>
          </p:nvSpPr>
          <p:spPr>
            <a:xfrm>
              <a:off x="6139080" y="8571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2 см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6" name="Прямоугольник 19"/>
            <p:cNvSpPr/>
            <p:nvPr/>
          </p:nvSpPr>
          <p:spPr>
            <a:xfrm>
              <a:off x="6139080" y="392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2 см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7" name="Прямоугольник 24"/>
            <p:cNvSpPr/>
            <p:nvPr/>
          </p:nvSpPr>
          <p:spPr>
            <a:xfrm>
              <a:off x="4710600" y="1643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2 см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8" name="Прямоугольник 25"/>
            <p:cNvSpPr/>
            <p:nvPr/>
          </p:nvSpPr>
          <p:spPr>
            <a:xfrm>
              <a:off x="7567920" y="1500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2 см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9" name="Прямоугольник 26"/>
            <p:cNvSpPr/>
            <p:nvPr/>
          </p:nvSpPr>
          <p:spPr>
            <a:xfrm>
              <a:off x="7710840" y="30722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2 см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0" name="Прямоугольник 27"/>
            <p:cNvSpPr/>
            <p:nvPr/>
          </p:nvSpPr>
          <p:spPr>
            <a:xfrm>
              <a:off x="4710600" y="30722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2 см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11" name="Группа 30"/>
          <p:cNvGrpSpPr/>
          <p:nvPr/>
        </p:nvGrpSpPr>
        <p:grpSpPr>
          <a:xfrm>
            <a:off x="524160" y="1285920"/>
            <a:ext cx="1564560" cy="947160"/>
            <a:chOff x="524160" y="1285920"/>
            <a:chExt cx="1564560" cy="947160"/>
          </a:xfrm>
        </p:grpSpPr>
        <p:sp>
          <p:nvSpPr>
            <p:cNvPr id="412" name="TextBox 3"/>
            <p:cNvSpPr/>
            <p:nvPr/>
          </p:nvSpPr>
          <p:spPr>
            <a:xfrm>
              <a:off x="524160" y="1285920"/>
              <a:ext cx="1564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а = 2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Р   - ?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3" name="Шестиугольник 29"/>
            <p:cNvSpPr/>
            <p:nvPr/>
          </p:nvSpPr>
          <p:spPr>
            <a:xfrm>
              <a:off x="857160" y="1928880"/>
              <a:ext cx="214200" cy="2142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14" name="Группа 32"/>
          <p:cNvGrpSpPr/>
          <p:nvPr/>
        </p:nvGrpSpPr>
        <p:grpSpPr>
          <a:xfrm>
            <a:off x="545760" y="2571840"/>
            <a:ext cx="1838880" cy="520560"/>
            <a:chOff x="545760" y="2571840"/>
            <a:chExt cx="1838880" cy="520560"/>
          </a:xfrm>
        </p:grpSpPr>
        <p:sp>
          <p:nvSpPr>
            <p:cNvPr id="415" name="TextBox 8"/>
            <p:cNvSpPr/>
            <p:nvPr/>
          </p:nvSpPr>
          <p:spPr>
            <a:xfrm>
              <a:off x="545760" y="2571840"/>
              <a:ext cx="18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b050"/>
                  </a:solidFill>
                  <a:latin typeface="Century Schoolbook"/>
                </a:rPr>
                <a:t>Р   =  а х 6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6" name="Шестиугольник 31"/>
            <p:cNvSpPr/>
            <p:nvPr/>
          </p:nvSpPr>
          <p:spPr>
            <a:xfrm>
              <a:off x="857160" y="2858040"/>
              <a:ext cx="214200" cy="2145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17" name="Группа 35"/>
          <p:cNvGrpSpPr/>
          <p:nvPr/>
        </p:nvGrpSpPr>
        <p:grpSpPr>
          <a:xfrm>
            <a:off x="670680" y="4143240"/>
            <a:ext cx="1997280" cy="947160"/>
            <a:chOff x="670680" y="4143240"/>
            <a:chExt cx="1997280" cy="947160"/>
          </a:xfrm>
        </p:grpSpPr>
        <p:sp>
          <p:nvSpPr>
            <p:cNvPr id="418" name="TextBox 15"/>
            <p:cNvSpPr/>
            <p:nvPr/>
          </p:nvSpPr>
          <p:spPr>
            <a:xfrm>
              <a:off x="670680" y="4143240"/>
              <a:ext cx="199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Р    = 2 х 6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Р    = 12 см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9" name="Шестиугольник 33"/>
            <p:cNvSpPr/>
            <p:nvPr/>
          </p:nvSpPr>
          <p:spPr>
            <a:xfrm>
              <a:off x="1000080" y="4357440"/>
              <a:ext cx="214200" cy="2142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0" name="Шестиугольник 34"/>
            <p:cNvSpPr/>
            <p:nvPr/>
          </p:nvSpPr>
          <p:spPr>
            <a:xfrm>
              <a:off x="1000080" y="4786560"/>
              <a:ext cx="214200" cy="2142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285840" y="293400"/>
            <a:ext cx="535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Arial"/>
                <a:ea typeface="Calibri"/>
              </a:rPr>
              <a:t>Итог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то такое периметр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к вычислить периметр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18:28:16Z</dcterms:created>
  <dc:creator>Ира</dc:creator>
  <dc:description/>
  <dc:language>en-US</dc:language>
  <cp:lastModifiedBy>Ира</cp:lastModifiedBy>
  <dcterms:modified xsi:type="dcterms:W3CDTF">2012-07-02T19:47:59Z</dcterms:modified>
  <cp:revision>8</cp:revision>
  <dc:subject/>
  <dc:title>Периметр многоугольника.</dc:title>
</cp:coreProperties>
</file>