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045-5E4F-443E-9A98-A3A9DA39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ADC-EDBF-4AA6-BA64-3ED5E837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8C4-4BC0-4B74-A615-3B98AFCB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EA7-3D96-41C4-86FE-A93BE3C0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C828-4B6B-4B04-BC97-553818B4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C43A-B214-421A-B09E-0FE09AB8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CD24-EFF0-458B-911E-BB3DAA20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A0B1-C3B7-4BB3-A74D-C607B9A0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3B4B-7C46-4C82-986F-6958C41E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EC08-FBA7-41C6-AA98-F8BD56D0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D947-C8DE-4C10-99FA-4ED5E5E7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FE0-D984-4AD4-8FA1-337ED842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6509-082E-45A2-939D-CB90AD6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B9BC-B123-454E-8372-67E28873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480F-4E59-4BBD-9B68-E107E3B3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EE7B-F4E5-42C0-AF83-CF33DAEE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8A84-5908-4AFF-9BDF-154376EB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919B5-26DC-4A71-8F64-CDD53BC0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4C788-4BA4-40CE-B18D-E6B60E16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B4107-7DA4-4709-B91F-4C0BF564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29F99-3F76-4598-80C1-84942BF0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67229-E5A1-4360-9EFF-FB7ECA0F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386-5328-450F-A109-9513A9D5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4DAFF-EBC0-423C-88A5-F2E34DB3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36CC2-57EC-46CE-8093-097AD80A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F0C13-CEAE-4DD1-99CB-0ACC898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107B9-8BB4-442A-8F3C-0C98FFA2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142DA-BF2F-4136-8C1D-842C6FB9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ABFD0-E551-48EB-9915-BB6D3EAB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1CEA5-E811-4804-A949-36CB8EB7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33507-EC19-4ACD-87D5-F0949B3D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09EB1-81D3-41C1-955E-6E10B2D9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0740-13D2-4327-A991-D7C0995E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CFB-04B2-4D12-9479-EB74F01D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DBDF8-367F-451A-85C0-D6554065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8C6E-51EC-4896-909A-BBA4B954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5BAEF-6D2D-4CF2-A110-F7B7F78E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DB001-177F-4126-A7DB-9714DF4F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99B1-81DE-4B30-AE09-33360E46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442A6-8D49-4FB5-906D-C41A398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484F-5ACE-46BF-8225-D6935EA0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BD068-1AFC-4952-BB2B-437C390D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89C7E-7E0B-4AC2-A88C-132300E0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C2A1A-AA88-46C0-8D3B-41BF864A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738-63A3-48CE-8718-8CCCE4E6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08DD1-9615-4DE3-9D4B-84F54396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1AD94-F193-4F3C-87FF-5C9C3554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EDE2A-3314-434A-9709-FDF68B6A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3D619-767E-4043-842B-8DFB45CC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D491E-2E40-417D-A4FB-6BEE2876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7640B-E697-4380-ACC3-944888C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2AC31-9986-44D4-9A1C-2B7DD3AD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77BB9-BE29-4EA0-B646-B7B95409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DAF82-23CD-4341-BF11-A696FC36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0724A-44CC-46F4-887C-BD7FAF01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C39-A287-41D9-A31A-8C60BD82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0328A-CBA9-4172-B6A0-1C589D97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621737-FEEB-4A5C-B037-CC79BFA1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C6E4F-3F2C-45F9-802D-336434EC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8F0DA-D85C-426A-9DF6-A7877B73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651897-090D-4BCF-B07A-7585A1F0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888AF-593B-460B-857A-7DF6A041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98EAF-2257-40AD-A40C-EC207074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A1EB4-27B5-4124-91BD-6F414970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B6379-5DCE-4A67-89F8-EBE71EA6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05810-5E02-439C-BE34-62E2F10B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ED1-0A43-4AC3-B3D0-36EEB87D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F9D14-0492-4C11-B175-5B0DD8D5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D5DB63-02E3-4E1E-8B55-A26A707D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7C70C-4376-4203-89D8-D926CECF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FF063-1B5E-47C2-B1B0-4341958E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975A2-9FF3-4DCF-96F5-FAF11404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C9E90-1DE2-4496-BB52-9D4BEF48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117E9-9771-4CF0-BEC1-2D30CDDE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93ABB0-D0DA-4740-90DA-339E3551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9AC61-4171-48DC-B910-8812CBA7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4F047-255D-43A8-9BD5-EAC6159C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EFB-795A-42A8-9DCF-281AAF9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B33AD-7A3F-4795-9B79-F2250FFB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21273-FC21-4EB5-AB0E-473B1FF1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129EB-E47D-40B6-A928-62A5900E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12D80-4770-43E2-B7D7-8CD00967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BD3F8-0B48-45F3-9656-65B1420F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77D-0767-47D9-81C6-7D986534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A19C-7058-4DF6-8C13-09EFBF95D7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A828-B6AD-4AEB-9F07-E8C679E751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CB6B-4E0E-4DC7-A672-E58688AFD1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BE10-866D-4F8C-AF7D-4742BC7199F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B960-2A01-4D55-8009-18844DC38D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8D76-207E-465D-BB56-E28AD3650A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82C6-558E-411E-B01E-75FAD39548C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9285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ПЕРИМЕТР МНОГОУГОЛЬНИКА</a:t>
            </a:r>
            <a:br>
              <a:rPr sz="4400"/>
            </a:b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( УРОК 2 )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1571760" y="1071720"/>
          <a:ext cx="5929200" cy="2301840"/>
        </p:xfrm>
        <a:graphic>
          <a:graphicData uri="http://schemas.openxmlformats.org/drawingml/2006/table">
            <a:tbl>
              <a:tblPr/>
              <a:tblGrid>
                <a:gridCol w="1882800"/>
                <a:gridCol w="528480"/>
                <a:gridCol w="895320"/>
                <a:gridCol w="2094120"/>
                <a:gridCol w="528480"/>
              </a:tblGrid>
              <a:tr h="4600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3 – 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 + 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3 +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7 –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9 –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 – 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8160" marR="3816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1571760" y="4500720"/>
          <a:ext cx="6000480" cy="1500120"/>
        </p:xfrm>
        <a:graphic>
          <a:graphicData uri="http://schemas.openxmlformats.org/drawingml/2006/table">
            <a:tbl>
              <a:tblPr/>
              <a:tblGrid>
                <a:gridCol w="982440"/>
                <a:gridCol w="995400"/>
                <a:gridCol w="1000080"/>
                <a:gridCol w="995400"/>
                <a:gridCol w="1027080"/>
                <a:gridCol w="1000080"/>
              </a:tblGrid>
              <a:tr h="750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Rectangle 2"/>
          <p:cNvSpPr/>
          <p:nvPr/>
        </p:nvSpPr>
        <p:spPr>
          <a:xfrm>
            <a:off x="214200" y="145080"/>
            <a:ext cx="83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Устный сч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шифруйте слов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Прямоугольник 6"/>
          <p:cNvSpPr/>
          <p:nvPr/>
        </p:nvSpPr>
        <p:spPr>
          <a:xfrm>
            <a:off x="2811600" y="5357880"/>
            <a:ext cx="4838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3788640" y="5357880"/>
            <a:ext cx="4564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  <a:ea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Прямоугольник 8"/>
          <p:cNvSpPr/>
          <p:nvPr/>
        </p:nvSpPr>
        <p:spPr>
          <a:xfrm>
            <a:off x="4789440" y="5357880"/>
            <a:ext cx="4064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  <a:ea typeface="Calibri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оугольник 9"/>
          <p:cNvSpPr/>
          <p:nvPr/>
        </p:nvSpPr>
        <p:spPr>
          <a:xfrm>
            <a:off x="6861600" y="5357880"/>
            <a:ext cx="3956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  <a:ea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оугольник 10"/>
          <p:cNvSpPr/>
          <p:nvPr/>
        </p:nvSpPr>
        <p:spPr>
          <a:xfrm>
            <a:off x="5789520" y="5357880"/>
            <a:ext cx="4032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  <a:ea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11"/>
          <p:cNvSpPr/>
          <p:nvPr/>
        </p:nvSpPr>
        <p:spPr>
          <a:xfrm>
            <a:off x="1788840" y="5357880"/>
            <a:ext cx="3560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  <a:ea typeface="Calibri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500040" y="3643200"/>
          <a:ext cx="7643880" cy="1714680"/>
        </p:xfrm>
        <a:graphic>
          <a:graphicData uri="http://schemas.openxmlformats.org/drawingml/2006/table">
            <a:tbl>
              <a:tblPr/>
              <a:tblGrid>
                <a:gridCol w="2554200"/>
                <a:gridCol w="2546640"/>
                <a:gridCol w="2543040"/>
              </a:tblGrid>
              <a:tr h="85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)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 + 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)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 – 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)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 + 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)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 – 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)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 – 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)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 – 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Rectangle 1"/>
          <p:cNvSpPr/>
          <p:nvPr/>
        </p:nvSpPr>
        <p:spPr>
          <a:xfrm>
            <a:off x="285840" y="22932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Решите задач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ебята собирали для поделок желуди и шишки. Катя нашла 15 шишек и 32 желудя, Юля – 24 шишки и 17 желуд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 какие вопросы вы ответите, выполнив действ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одумайте, сколько нужно выполнить действий, чтобы ответить на вопрос: «Сколько желудей и шишек собрали Катя и Юля?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214200" y="216720"/>
            <a:ext cx="83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егодня на уроке мы будем решать задачи на нахождение периметра многоуголь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428760" y="122220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Задание № 5 </a:t>
            </a:r>
            <a:r>
              <a:rPr b="0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(с. 68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очитайте задач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то вам известно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то надо узнать? Как иначе можно сформулировать данный вопрос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65" name="Группа 6"/>
          <p:cNvGrpSpPr/>
          <p:nvPr/>
        </p:nvGrpSpPr>
        <p:grpSpPr>
          <a:xfrm>
            <a:off x="896400" y="3786120"/>
            <a:ext cx="1599480" cy="459720"/>
            <a:chOff x="896400" y="3786120"/>
            <a:chExt cx="1599480" cy="459720"/>
          </a:xfrm>
        </p:grpSpPr>
        <p:sp>
          <p:nvSpPr>
            <p:cNvPr id="366" name="TextBox 3"/>
            <p:cNvSpPr/>
            <p:nvPr/>
          </p:nvSpPr>
          <p:spPr>
            <a:xfrm>
              <a:off x="896400" y="3786120"/>
              <a:ext cx="159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Р    = а х 4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7" name="Прямоугольник 5"/>
            <p:cNvSpPr/>
            <p:nvPr/>
          </p:nvSpPr>
          <p:spPr>
            <a:xfrm>
              <a:off x="1213920" y="4000680"/>
              <a:ext cx="142560" cy="14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"/>
          <p:cNvSpPr/>
          <p:nvPr/>
        </p:nvSpPr>
        <p:spPr>
          <a:xfrm>
            <a:off x="285840" y="21420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Самостоятельная   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е периметр  многоугольника: если сторона а = 2см, в = 5 см, с = 7см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е периметр  прямоугольника: если две стороны равны 6 см, а две другие стороны равны 7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е  периметр квадрата: если сторона квадрата равна 5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Задание № 9 стр.6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20:03:04Z</dcterms:created>
  <dc:creator>Ира</dc:creator>
  <dc:description/>
  <dc:language>en-US</dc:language>
  <cp:lastModifiedBy>Ира</cp:lastModifiedBy>
  <dcterms:modified xsi:type="dcterms:W3CDTF">2012-07-02T20:34:07Z</dcterms:modified>
  <cp:revision>4</cp:revision>
  <dc:subject/>
  <dc:title>Периметр многоугольника ( урок 2 )</dc:title>
</cp:coreProperties>
</file>