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6C6-E58B-404D-8EE6-A0750AF2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FFB-5D88-4118-BC03-78D3F7F2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6AB-DCB3-4D20-98C6-73872EA6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E848-385B-4A8E-8869-C2AC4C1A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EFC1-63DE-4DE4-8B9E-C2022C63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13AF-BD53-40C9-AF2B-FE91C582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1DDB-D0B0-479E-850D-7A2F8C27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B04A-E88D-4A07-93CF-E339CBE9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1ADA-623C-47D7-90D3-75E9E7E3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9BF2-1ADC-4BCF-8872-40907C05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FBC9-84F4-4F73-8315-65847492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09A-6EC0-4A76-8112-2C39A817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65CF-4E87-4EB3-88DA-C1A28354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5F05-CFBE-49F2-A614-FB1CD17D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76C6-6CD0-46FE-8E5D-459B5331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E546-4A86-45FF-880C-6FBE34C3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B97C-B349-4560-8BFA-648ACD62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C6F-DAD5-4ECB-A634-8027A93D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B5A-4D0F-4228-9ABE-E1918DD4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F92-69E3-4EE6-9D2B-2059490E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CF0-ED04-4499-A962-9C02BD03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DB1-45C3-4161-8D91-C94CC252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4BB-D9B6-42D3-AFBB-50599059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492-57C9-48C9-8769-1BB1C7F0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09BB-070B-4833-BAEA-6A13B76710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7E63-E573-43B1-A931-2AC5F4D3ECA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Georgia"/>
              </a:rPr>
              <a:t>Полезные ископаемые Воронежской област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908000" y="5661000"/>
            <a:ext cx="72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олнил: </a:t>
            </a:r>
            <a:r>
              <a:rPr b="0" lang="ru-RU" sz="4000" spc="-1" strike="noStrike">
                <a:solidFill>
                  <a:srgbClr val="ffffff"/>
                </a:solidFill>
                <a:latin typeface="Mistral"/>
              </a:rPr>
              <a:t>Горбунов Евгени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8" descr="Мергель 1"/>
          <p:cNvPicPr/>
          <p:nvPr/>
        </p:nvPicPr>
        <p:blipFill>
          <a:blip r:embed="rId1"/>
          <a:stretch/>
        </p:blipFill>
        <p:spPr>
          <a:xfrm>
            <a:off x="1116000" y="2349360"/>
            <a:ext cx="4824360" cy="29368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Georgia"/>
              </a:rPr>
              <a:t>География полезных ископаемых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Воронежской области разведано 98 месторождений твердых полезных ископаемых, 53 из которых находятся в эксплуат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лезные ископаемые представлены в основном сырьем для строительных материал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Копия сканирование0001"/>
          <p:cNvPicPr/>
          <p:nvPr/>
        </p:nvPicPr>
        <p:blipFill>
          <a:blip r:embed="rId1"/>
          <a:stretch/>
        </p:blipFill>
        <p:spPr>
          <a:xfrm>
            <a:off x="4716360" y="1773360"/>
            <a:ext cx="4138560" cy="38574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Грани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е месторождения грани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ходятся не далеко о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авловска. Используются в вид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тделочных материалов, щебня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утового камня. Из-за  недостатка щебн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Шкурлатовский гранитно-щебёночны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рьер стал использоваться с больш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ощностью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Архитектурные изделия из гранита"/>
          <p:cNvPicPr/>
          <p:nvPr/>
        </p:nvPicPr>
        <p:blipFill>
          <a:blip r:embed="rId1"/>
          <a:stretch/>
        </p:blipFill>
        <p:spPr>
          <a:xfrm>
            <a:off x="5724360" y="2349360"/>
            <a:ext cx="3124440" cy="4164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65" name="Picture 5" descr="Залежи гранита"/>
          <p:cNvPicPr/>
          <p:nvPr/>
        </p:nvPicPr>
        <p:blipFill>
          <a:blip r:embed="rId2"/>
          <a:stretch/>
        </p:blipFill>
        <p:spPr>
          <a:xfrm>
            <a:off x="684360" y="3645000"/>
            <a:ext cx="3816360" cy="2862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Мел и мерге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762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пасы мела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ергеля расположен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правом берегу Дона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считывают окол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млрд. 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Ме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спользуется в раз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раслях хозяйства д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делий более чем в 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именования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4" descr="P2011619"/>
          <p:cNvPicPr/>
          <p:nvPr/>
        </p:nvPicPr>
        <p:blipFill>
          <a:blip r:embed="rId1"/>
          <a:stretch/>
        </p:blipFill>
        <p:spPr>
          <a:xfrm>
            <a:off x="5508720" y="1413000"/>
            <a:ext cx="3240000" cy="2428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69" name="Picture 5" descr="Добыча мела"/>
          <p:cNvPicPr/>
          <p:nvPr/>
        </p:nvPicPr>
        <p:blipFill>
          <a:blip r:embed="rId2"/>
          <a:stretch/>
        </p:blipFill>
        <p:spPr>
          <a:xfrm>
            <a:off x="5580000" y="4149720"/>
            <a:ext cx="3168720" cy="2081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Белая глина - каол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4149720"/>
            <a:ext cx="806436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ное сырье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арфора - фаянсов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ел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4" descr="Белая глина каолин"/>
          <p:cNvPicPr/>
          <p:nvPr/>
        </p:nvPicPr>
        <p:blipFill>
          <a:blip r:embed="rId1"/>
          <a:stretch/>
        </p:blipFill>
        <p:spPr>
          <a:xfrm>
            <a:off x="2771640" y="1557360"/>
            <a:ext cx="3780000" cy="2492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Красная и желтая глин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ьзу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с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Красная глина 1"/>
          <p:cNvPicPr/>
          <p:nvPr/>
        </p:nvPicPr>
        <p:blipFill>
          <a:blip r:embed="rId1"/>
          <a:stretch/>
        </p:blipFill>
        <p:spPr>
          <a:xfrm>
            <a:off x="5364000" y="1628640"/>
            <a:ext cx="3384720" cy="2737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6" name="Picture 5" descr="Охра 1"/>
          <p:cNvPicPr/>
          <p:nvPr/>
        </p:nvPicPr>
        <p:blipFill>
          <a:blip r:embed="rId2"/>
          <a:stretch/>
        </p:blipFill>
        <p:spPr>
          <a:xfrm>
            <a:off x="1116000" y="3500280"/>
            <a:ext cx="3311640" cy="2926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Огнеупорная гл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5157720"/>
            <a:ext cx="79912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щегосударственное значение имеют огнеупорные глины Латненского месторождения. Используются они для производства огнеупорного кирпича, необходимого для строительства доменных печей. Огнеупорный кирпич Семилукского завода выдерживает температуру до 1700°С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4" descr="Огнеупорная глина"/>
          <p:cNvPicPr/>
          <p:nvPr/>
        </p:nvPicPr>
        <p:blipFill>
          <a:blip r:embed="rId1"/>
          <a:stretch/>
        </p:blipFill>
        <p:spPr>
          <a:xfrm>
            <a:off x="4387680" y="2421000"/>
            <a:ext cx="4756320" cy="2631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Огнеупорный кирпич"/>
          <p:cNvPicPr/>
          <p:nvPr/>
        </p:nvPicPr>
        <p:blipFill>
          <a:blip r:embed="rId2"/>
          <a:stretch/>
        </p:blipFill>
        <p:spPr>
          <a:xfrm>
            <a:off x="1116000" y="1844640"/>
            <a:ext cx="2952720" cy="1968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Минеральная в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6049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Воронежской области находятся несколько источников минеральной вод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мая сильно минерализированная вода находится у села Белая Горка в Богучарском районе, ее  минерализация составляет 9 г/л. Люди не только ее пьют, но принимают в ней ванны, выкапывая ямы прямо у скважин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ибольшей популярностью пользуется Икорецкая вода. Она известна далеко за пределами обла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4" descr="Безымянный"/>
          <p:cNvPicPr/>
          <p:nvPr/>
        </p:nvPicPr>
        <p:blipFill>
          <a:blip r:embed="rId1"/>
          <a:stretch/>
        </p:blipFill>
        <p:spPr>
          <a:xfrm>
            <a:off x="5867280" y="1700280"/>
            <a:ext cx="2905200" cy="34099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42:55Z</dcterms:created>
  <dc:creator>ЕВГЕНИЙ</dc:creator>
  <dc:description/>
  <dc:language>en-US</dc:language>
  <cp:lastModifiedBy>Asus</cp:lastModifiedBy>
  <dcterms:modified xsi:type="dcterms:W3CDTF">2014-11-07T12:50:33Z</dcterms:modified>
  <cp:revision>17</cp:revision>
  <dc:subject/>
  <dc:title>Полезные ископаемые Воронежской области</dc:title>
</cp:coreProperties>
</file>