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638-578B-40CA-BCAB-3ABFA7EC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015-5F34-4B21-A87B-790029BE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93F-C79B-49BD-9553-79D39CD2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B8D-8EC7-4DCE-9F20-9CCB5178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2ED-261D-461A-8C3A-82C9AD0F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36D-2BE6-40F5-A4F7-03982515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15B-9B35-4EDA-AA42-1C40D49C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344-AEDF-407B-8DB3-5978F2E3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79D-086D-4F0B-9248-ABB7566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8CD-6F87-4150-B6D5-D015CAE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8E3-FA91-4F55-AE71-DDF27435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D33-A34A-4C78-B773-D5756FB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76CB-99EE-4254-83B9-43B5FBCCE5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640872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новационный опыт организации проектно-исследовательской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5445000"/>
            <a:ext cx="41054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 учитель английского языка ГБОУ СОШ №16 г.о. Жигулевск Михайловская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росто знать – еще не все, знания нужно уметь использов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Все, что я знаю, я знаю для чего мне это надо и где, и как я могу это примени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тезис современного понимания метода проектов, который привлекает многие образовательные системы, стремящиеся найти разумный баланс между академическими знаниями и практическими ум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жи и я забуду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и и я запомню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влеки и я научусь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тайская пословиц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современного учител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брать методы и формы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й  и внеурочной деятельности учащихся, которые оптимально соответствуют поставленной цели развития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4005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проектной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нимание и применение учащимися знаний, умений, навыков, приобретенных при изучении различных предметов (на интеграционной осно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ебный проек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плекс поисковых, исследовательских видов работ, выполняемых учащимися самостоятельно (в парах, группах или индивидуально) с целью практического или теоретического решения значим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203640" y="1844640"/>
            <a:ext cx="54943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новационная, так как предлагает преобразование реальности, строится на базе соответствующей технологии, которую можно унифицировать, освоить и усовершенств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539640" y="2924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лат. «брошенный вперед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ы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-иг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едметн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его нужна проектно-исследов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4149360"/>
            <a:ext cx="6697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самостоятельные аргументи-рова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68360" y="2060640"/>
            <a:ext cx="62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учащихся самостоятельному, критическому мыш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71640" y="2924280"/>
            <a:ext cx="684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ять, опираясь на знание фактов, закономерностей науки, делать обоснованны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40000" y="5084640"/>
            <a:ext cx="64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аботать в команде, выполняя разные социальные р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к проектно-исследовательской деятель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2060640"/>
            <a:ext cx="8516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значим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следовательском, творческом план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задачи, требующей интегрированного знания, исследовательского поиска для ее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и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дивидуальная, парная, групповая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 на уроке или во внеурочное вре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ательной част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 указанием поэтапных результатов и распределением ро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сследовательских мето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пределение проблемы, вытекающих из нее задач исследования; выдвижение гипотезы их решения; обсуждение методов исследования; оформление конеч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проведения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овая 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гипот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ип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малых групп сотрудн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в группах стратегии исследования, источников информации, способов оформлен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проведения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сследовательская, поисковая работа учащихся в соответствии со своим зад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очные обсуждения, дискуссии, сбор и обработк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езультатов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а, оппонирование, выявление нов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организации проектно-исследователь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должен быть посильным для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подготовку учащихся к выполнению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необходимые условия для успешного выполнения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уководство проектом со стороны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ая презентация результатов работы по про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чащийся должен четко показать свой вклад в выполнение проекта. Каждый участник проекта получает индивидуальную оц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Настя</cp:lastModifiedBy>
  <dcterms:modified xsi:type="dcterms:W3CDTF">2013-11-16T19:13:41Z</dcterms:modified>
  <cp:revision>601</cp:revision>
  <dc:subject/>
  <dc:title>Diapositiva 1</dc:title>
</cp:coreProperties>
</file>