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3.wmf" ContentType="image/x-wmf"/>
  <Override PartName="/ppt/media/image9.jpeg" ContentType="image/jpeg"/>
  <Override PartName="/ppt/media/image1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A0FF-380A-4B18-A6D3-37FCF68D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738F-1BD0-4598-91CC-92623DC9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9720-D25B-4D29-9DF0-CBE6872F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8FF-0BAD-455D-B0CF-A7BF4210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E7A-91E1-440E-BACB-514A8641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288-D197-4975-B510-0B17DE1C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C299-A467-4EE5-9C27-9325CDA1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B726-B36F-40FD-BF8C-EE5E8143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941-43B7-4D8F-9B1A-D92E71E6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5B1D-9740-4FF7-813A-8D8C4787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245-F5E6-440C-8992-669E3425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52B-D9DE-4073-A570-AA2F64ED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203D-1395-499F-8442-C94C7FEBDE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Урок биологии</a:t>
            </a:r>
            <a:br>
              <a:rPr sz="4400"/>
            </a:b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8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Учитель: Саксина Н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одолговатый моз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520" y="1294920"/>
            <a:ext cx="3886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тро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лина 2-3 с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ширина 1,5 см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явл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одолжени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пинного моз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rcRect l="0" t="0" r="12416" b="0"/>
          <a:stretch/>
        </p:blipFill>
        <p:spPr>
          <a:xfrm>
            <a:off x="5029200" y="1371600"/>
            <a:ext cx="321480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ефлексы продолговатого моз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600200"/>
            <a:ext cx="5715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1. Глотательный рефлекс.     Сделайте в быстром темпе подряд несколько глотательных движ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2. Получите мигательный рефлекс. Мигательный рефлекс заключается в непроизвольном смыкании век при прикосновении к зрачку или склере гла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J0282737"/>
          <p:cNvPicPr/>
          <p:nvPr/>
        </p:nvPicPr>
        <p:blipFill>
          <a:blip r:embed="rId1"/>
          <a:stretch/>
        </p:blipFill>
        <p:spPr>
          <a:xfrm>
            <a:off x="5943600" y="1523880"/>
            <a:ext cx="281952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Мозжеч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599840"/>
            <a:ext cx="3886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тро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меет два полушария и кору из серого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14[1]"/>
          <p:cNvPicPr/>
          <p:nvPr/>
        </p:nvPicPr>
        <p:blipFill>
          <a:blip r:embed="rId1"/>
          <a:stretch/>
        </p:blipFill>
        <p:spPr>
          <a:xfrm>
            <a:off x="4572000" y="1828800"/>
            <a:ext cx="386064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бота  мозжеч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990720"/>
            <a:ext cx="426708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1. Роль мозжечка в противодействии случайным движениям, возникающим в силу инер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2. Пальценосовая проба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ex1[1]"/>
          <p:cNvPicPr/>
          <p:nvPr/>
        </p:nvPicPr>
        <p:blipFill>
          <a:blip r:embed="rId1"/>
          <a:stretch/>
        </p:blipFill>
        <p:spPr>
          <a:xfrm>
            <a:off x="5105520" y="990720"/>
            <a:ext cx="3200400" cy="2882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Documents and Settings\Александр\Рабочий стол\c39131894dcfeddf6450311c42247436.jpg"/>
          <p:cNvPicPr/>
          <p:nvPr/>
        </p:nvPicPr>
        <p:blipFill>
          <a:blip r:embed="rId2"/>
          <a:stretch/>
        </p:blipFill>
        <p:spPr>
          <a:xfrm>
            <a:off x="5105520" y="411480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арушение работы мозжеч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Documents and Settings\Александр\Рабочий стол\0239760821.jpg"/>
          <p:cNvPicPr/>
          <p:nvPr/>
        </p:nvPicPr>
        <p:blipFill>
          <a:blip r:embed="rId1"/>
          <a:stretch/>
        </p:blipFill>
        <p:spPr>
          <a:xfrm>
            <a:off x="533520" y="1523880"/>
            <a:ext cx="815328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Мос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3352320"/>
            <a:ext cx="274320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Стро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0000cc"/>
                </a:solidFill>
                <a:latin typeface="Arial"/>
              </a:rPr>
              <a:t>Состоит из ядер серого вещества и белого вещ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05740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C:\Documents and Settings\Александр\Рабочий стол\article109.jpg"/>
          <p:cNvPicPr/>
          <p:nvPr/>
        </p:nvPicPr>
        <p:blipFill>
          <a:blip r:embed="rId2"/>
          <a:stretch/>
        </p:blipFill>
        <p:spPr>
          <a:xfrm>
            <a:off x="3276720" y="1676520"/>
            <a:ext cx="5562360" cy="4638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редний моз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520" y="1218960"/>
            <a:ext cx="4496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тро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Он образован ножками мозга и четверохолмием. Ножки - это проводящие пути, которые связывают полушария конечного мозга с нижними этажами нервной систе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Копия view.jpg"/>
          <p:cNvPicPr/>
          <p:nvPr/>
        </p:nvPicPr>
        <p:blipFill>
          <a:blip r:embed="rId1"/>
          <a:srcRect l="7507" t="0" r="0" b="0"/>
          <a:stretch/>
        </p:blipFill>
        <p:spPr>
          <a:xfrm>
            <a:off x="5181480" y="1752480"/>
            <a:ext cx="3581640" cy="3657600"/>
          </a:xfrm>
          <a:prstGeom prst="rect">
            <a:avLst/>
          </a:prstGeom>
          <a:ln w="0">
            <a:noFill/>
          </a:ln>
        </p:spPr>
      </p:pic>
      <p:cxnSp>
        <p:nvCxnSpPr>
          <p:cNvPr id="92" name="Прямая со стрелкой 7"/>
          <p:cNvCxnSpPr/>
          <p:nvPr/>
        </p:nvCxnSpPr>
        <p:spPr>
          <a:xfrm flipH="1">
            <a:off x="6019560" y="3581280"/>
            <a:ext cx="714960" cy="1286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Прямоугольник 8"/>
          <p:cNvSpPr/>
          <p:nvPr/>
        </p:nvSpPr>
        <p:spPr>
          <a:xfrm>
            <a:off x="4952880" y="4876920"/>
            <a:ext cx="168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редний моз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абота среднего моз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06632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ru-RU" sz="3000" spc="-1" strike="noStrike">
                <a:solidFill>
                  <a:srgbClr val="0000cc"/>
                </a:solidFill>
                <a:latin typeface="Arial"/>
              </a:rPr>
              <a:t>Одну ногу поставьте перед другой так, чтобы носок ноги, стоящей сзади, прикасался к пятке передней ноги. Обе ступни располагаются на одной линии. Руки складываются в «замок», предплечья сближаются, глаза закрыты. Застыньте в этой неудобной поз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0-08[1]"/>
          <p:cNvPicPr/>
          <p:nvPr/>
        </p:nvPicPr>
        <p:blipFill>
          <a:blip r:embed="rId1"/>
          <a:stretch/>
        </p:blipFill>
        <p:spPr>
          <a:xfrm>
            <a:off x="5562720" y="1143000"/>
            <a:ext cx="304776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ичины нарушения работы головного моз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рав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Недостаточный с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Неправильное 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Несоблюдение правил гиги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Нервные сры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Нездоровый образ жизни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амятка для тех,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кто заботитсяо своем здоровь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5840" y="2214360"/>
            <a:ext cx="85010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Arial"/>
              </a:rPr>
              <a:t>Хорошо высыпайся и планируй свой ден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Arial"/>
              </a:rPr>
              <a:t>Начинай день с улыбки и заряд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Arial"/>
              </a:rPr>
              <a:t>Полноценно питай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Arial"/>
              </a:rPr>
              <a:t>Следи за своими эмоциями, сдерживай свой гнев, не давай волю нерв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Arial"/>
              </a:rPr>
              <a:t>Внимательно слушай собеседн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Arial"/>
              </a:rPr>
              <a:t>Относись к людям так, как бы ты хотел, чтобы они относились к теб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Arial"/>
              </a:rPr>
              <a:t>Читай много хороших кни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Arial"/>
              </a:rPr>
              <a:t>Чаще общайся с природой, она — кладовая здоровь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Arial"/>
              </a:rPr>
              <a:t>Если что-то тебя беспокоит, сообщи родителям или близким тебе людя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cc"/>
                </a:solidFill>
                <a:latin typeface="Arial"/>
              </a:rPr>
              <a:t>Строение и функции головного мозга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_x000b_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ставь диагно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1523880"/>
            <a:ext cx="441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У больного, страдающего гипертонией, нарушена координация дв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и э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его умственные способности не пострадали. Поражение какого отдела головного мозга привело к такому результат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CAD4K3D1"/>
          <p:cNvPicPr/>
          <p:nvPr/>
        </p:nvPicPr>
        <p:blipFill>
          <a:blip r:embed="rId2"/>
          <a:stretch/>
        </p:blipFill>
        <p:spPr>
          <a:xfrm>
            <a:off x="5562720" y="1752480"/>
            <a:ext cx="3176640" cy="3353040"/>
          </a:xfrm>
          <a:prstGeom prst="rect">
            <a:avLst/>
          </a:prstGeom>
          <a:ln w="0">
            <a:noFill/>
          </a:ln>
        </p:spPr>
      </p:pic>
      <p:sp>
        <p:nvSpPr>
          <p:cNvPr id="104" name="WordArt 6"/>
          <p:cNvSpPr txBox="1"/>
          <p:nvPr/>
        </p:nvSpPr>
        <p:spPr>
          <a:xfrm>
            <a:off x="5029200" y="5715000"/>
            <a:ext cx="28954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+mj-lt"/>
              </a:rPr>
              <a:t>мозжечка</a:t>
            </a:r>
            <a:endParaRPr b="0" lang="en-US" sz="20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+mj-lt"/>
              <a:ea typeface="+mj-lt"/>
            </a:endParaRPr>
          </a:p>
        </p:txBody>
      </p:sp>
    </p:spTree>
  </p:cSld>
  <p:transition spd="slow">
    <p:split dir="out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_x000b_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ставь диагно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клинике лежит человек, у которого в одном из отделов опухоль.  Лицо этого человек не может выражать эмоции. Поражение какого отдела головного мозга привело к такому результат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post-13-1164566640[1]"/>
          <p:cNvPicPr/>
          <p:nvPr/>
        </p:nvPicPr>
        <p:blipFill>
          <a:blip r:embed="rId2"/>
          <a:stretch/>
        </p:blipFill>
        <p:spPr>
          <a:xfrm>
            <a:off x="5562720" y="1676520"/>
            <a:ext cx="312408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WordArt 5"/>
          <p:cNvSpPr txBox="1"/>
          <p:nvPr/>
        </p:nvSpPr>
        <p:spPr>
          <a:xfrm>
            <a:off x="5867280" y="5715000"/>
            <a:ext cx="1676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+mj-lt"/>
              </a:rPr>
              <a:t>моста</a:t>
            </a:r>
            <a:endParaRPr b="0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+mj-lt"/>
              <a:ea typeface="+mj-lt"/>
            </a:endParaRPr>
          </a:p>
        </p:txBody>
      </p:sp>
    </p:spTree>
  </p:cSld>
  <p:transition spd="slow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ставь диагноз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_x000b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066680"/>
            <a:ext cx="52578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У ребенка высокая температура и кашель, сопровождающийся рвотой. Родители обратились к врачу с подозрением на пищевое отравление. А после обследования больного врач диагностировал респираторное заболевание. Почему сильный кашель у ребенка часто сопровождается рвот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PE02716_"/>
          <p:cNvPicPr/>
          <p:nvPr/>
        </p:nvPicPr>
        <p:blipFill>
          <a:blip r:embed="rId3"/>
          <a:stretch/>
        </p:blipFill>
        <p:spPr>
          <a:xfrm>
            <a:off x="5791320" y="1447920"/>
            <a:ext cx="2811240" cy="26524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5"/>
          <p:cNvSpPr txBox="1"/>
          <p:nvPr/>
        </p:nvSpPr>
        <p:spPr>
          <a:xfrm>
            <a:off x="533520" y="5257800"/>
            <a:ext cx="8381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Calibri"/>
              </a:rPr>
              <a:t>центры кашля и рвоты находятся рядом</a:t>
            </a:r>
            <a:endParaRPr b="0" lang="en-US" sz="7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7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Calibri"/>
              </a:rPr>
              <a:t>в продолговатом мозге</a:t>
            </a:r>
            <a:endParaRPr b="0" lang="en-US" sz="7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Calibri"/>
              <a:ea typeface="Calibri"/>
            </a:endParaRPr>
          </a:p>
        </p:txBody>
      </p:sp>
    </p:spTree>
  </p:cSld>
  <p:transition spd="slow">
    <p:split dir="out" orient="ver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ставь диагноз_x000b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клинике лежит человек, у которого в одном из отделов опухоль. Человек хочет стоять, но не может сохранить равновесие. Поражение какого отдела головного мозга привело к такому результат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3dfig_18[1]"/>
          <p:cNvPicPr/>
          <p:nvPr/>
        </p:nvPicPr>
        <p:blipFill>
          <a:blip r:embed="rId2"/>
          <a:stretch/>
        </p:blipFill>
        <p:spPr>
          <a:xfrm>
            <a:off x="5867280" y="1523880"/>
            <a:ext cx="2657520" cy="3543480"/>
          </a:xfrm>
          <a:prstGeom prst="rect">
            <a:avLst/>
          </a:prstGeom>
          <a:ln w="0">
            <a:noFill/>
          </a:ln>
        </p:spPr>
      </p:pic>
      <p:sp>
        <p:nvSpPr>
          <p:cNvPr id="116" name="WordArt 5"/>
          <p:cNvSpPr txBox="1"/>
          <p:nvPr/>
        </p:nvSpPr>
        <p:spPr>
          <a:xfrm>
            <a:off x="609480" y="5410080"/>
            <a:ext cx="70106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граница среднего мозга и мозжечка</a:t>
            </a:r>
            <a:endParaRPr b="0" lang="en-US" sz="11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 spd="slow">
    <p:split dir="out" orient="ver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мпьютерные  томограф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3" descr="3doct-1000ge2"/>
          <p:cNvPicPr/>
          <p:nvPr/>
        </p:nvPicPr>
        <p:blipFill>
          <a:blip r:embed="rId1"/>
          <a:stretch/>
        </p:blipFill>
        <p:spPr>
          <a:xfrm>
            <a:off x="457200" y="1523880"/>
            <a:ext cx="3733920" cy="2818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2_ct-twin"/>
          <p:cNvPicPr/>
          <p:nvPr/>
        </p:nvPicPr>
        <p:blipFill>
          <a:blip r:embed="rId2"/>
          <a:stretch/>
        </p:blipFill>
        <p:spPr>
          <a:xfrm>
            <a:off x="4038480" y="4267080"/>
            <a:ext cx="2438640" cy="2370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otdrad50053"/>
          <p:cNvPicPr/>
          <p:nvPr/>
        </p:nvPicPr>
        <p:blipFill>
          <a:blip r:embed="rId3"/>
          <a:stretch/>
        </p:blipFill>
        <p:spPr>
          <a:xfrm>
            <a:off x="5867280" y="1752480"/>
            <a:ext cx="2743200" cy="2306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омограмма головного мозг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a070170b"/>
          <p:cNvPicPr/>
          <p:nvPr/>
        </p:nvPicPr>
        <p:blipFill>
          <a:blip r:embed="rId1"/>
          <a:stretch/>
        </p:blipFill>
        <p:spPr>
          <a:xfrm>
            <a:off x="1600200" y="1523880"/>
            <a:ext cx="6095880" cy="4496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§45 пере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ветить на вопросы после парагр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Дополнитель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Найти пословицы и поговорки о головном моз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осчитать массу своего головного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105160" y="380880"/>
            <a:ext cx="38098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« Мозг человека самый сложный объект во Вселенной, чем больше мы понимаем как он устроен, тем лучше мы можем заботиться о нё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genii1"/>
          <p:cNvPicPr/>
          <p:nvPr/>
        </p:nvPicPr>
        <p:blipFill>
          <a:blip r:embed="rId1"/>
          <a:stretch/>
        </p:blipFill>
        <p:spPr>
          <a:xfrm>
            <a:off x="609480" y="457200"/>
            <a:ext cx="4114800" cy="6095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Изучить строение и функции головного моз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Раскрыть роль продолговатого, среднего, промежуточного мозга и мозжечка в осуществлении условных рефлексов и выяснить их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840" y="6286680"/>
            <a:ext cx="872964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И.П.Павлов                 И.М.Сече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00760" y="3642840"/>
            <a:ext cx="2923920" cy="2482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Администратор\Desktop\1118.jpg"/>
          <p:cNvPicPr/>
          <p:nvPr/>
        </p:nvPicPr>
        <p:blipFill>
          <a:blip r:embed="rId2"/>
          <a:stretch/>
        </p:blipFill>
        <p:spPr>
          <a:xfrm>
            <a:off x="0" y="914400"/>
            <a:ext cx="4229280" cy="522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Администратор\Desktop\0069-015.jpg"/>
          <p:cNvPicPr/>
          <p:nvPr/>
        </p:nvPicPr>
        <p:blipFill>
          <a:blip r:embed="rId3"/>
          <a:stretch/>
        </p:blipFill>
        <p:spPr>
          <a:xfrm>
            <a:off x="4292640" y="914400"/>
            <a:ext cx="485136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9520" y="457200"/>
            <a:ext cx="487692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«Мозг-центр всех центров и главный орган ума»</a:t>
            </a:r>
            <a:br>
              <a:rPr sz="4400"/>
            </a:b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Гиппок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gippokrat"/>
          <p:cNvPicPr/>
          <p:nvPr/>
        </p:nvPicPr>
        <p:blipFill>
          <a:blip r:embed="rId1"/>
          <a:stretch/>
        </p:blipFill>
        <p:spPr>
          <a:xfrm>
            <a:off x="533520" y="1143000"/>
            <a:ext cx="32004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облема: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можно ли утверждать, что чем больше мозг (голова), тем умнее челове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f&amp;t"/>
          <p:cNvPicPr/>
          <p:nvPr/>
        </p:nvPicPr>
        <p:blipFill>
          <a:blip r:embed="rId1"/>
          <a:stretch/>
        </p:blipFill>
        <p:spPr>
          <a:xfrm>
            <a:off x="2286000" y="2590920"/>
            <a:ext cx="449568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3" descr="tur-7"/>
          <p:cNvPicPr/>
          <p:nvPr/>
        </p:nvPicPr>
        <p:blipFill>
          <a:blip r:embed="rId1"/>
          <a:stretch/>
        </p:blipFill>
        <p:spPr>
          <a:xfrm>
            <a:off x="838080" y="533520"/>
            <a:ext cx="1676520" cy="1866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менделеев1"/>
          <p:cNvPicPr/>
          <p:nvPr/>
        </p:nvPicPr>
        <p:blipFill>
          <a:blip r:embed="rId2"/>
          <a:stretch/>
        </p:blipFill>
        <p:spPr>
          <a:xfrm>
            <a:off x="457200" y="4876920"/>
            <a:ext cx="1828800" cy="1981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Иван Сергеевич Турген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масса мозга – 2012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                     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ладимир Ильич Ле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масса мозга – 1340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                    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митрий Иванович Менделе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масса мозга – 1571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4" descr="lenin01"/>
          <p:cNvPicPr/>
          <p:nvPr/>
        </p:nvPicPr>
        <p:blipFill>
          <a:blip r:embed="rId3"/>
          <a:stretch/>
        </p:blipFill>
        <p:spPr>
          <a:xfrm>
            <a:off x="1523880" y="2666880"/>
            <a:ext cx="182880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Александр\Рабочий стол\пр.png"/>
          <p:cNvPicPr/>
          <p:nvPr/>
        </p:nvPicPr>
        <p:blipFill>
          <a:blip r:embed="rId1"/>
          <a:stretch/>
        </p:blipFill>
        <p:spPr>
          <a:xfrm>
            <a:off x="762120" y="1219320"/>
            <a:ext cx="7543800" cy="5257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тделы головного моз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оловной моз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право 3"/>
          <p:cNvSpPr/>
          <p:nvPr/>
        </p:nvSpPr>
        <p:spPr>
          <a:xfrm rot="8218200">
            <a:off x="1785960" y="1306080"/>
            <a:ext cx="915840" cy="5716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право 4"/>
          <p:cNvSpPr/>
          <p:nvPr/>
        </p:nvSpPr>
        <p:spPr>
          <a:xfrm rot="5400000">
            <a:off x="2642400" y="2786040"/>
            <a:ext cx="3429000" cy="5713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право 5"/>
          <p:cNvSpPr/>
          <p:nvPr/>
        </p:nvSpPr>
        <p:spPr>
          <a:xfrm rot="2529000">
            <a:off x="6078600" y="1365120"/>
            <a:ext cx="882720" cy="571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71680" y="19288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Зад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3429000" y="478620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Сред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6000840" y="214308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Перед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214200" y="3000240"/>
            <a:ext cx="32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Продолгова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М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Мозжеч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5572080" y="2714760"/>
            <a:ext cx="32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Промежуточ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Большие полуш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9:07:28Z</dcterms:created>
  <dc:creator>ПОЛЬЗОВАТЕЛЬ</dc:creator>
  <dc:description/>
  <dc:language>en-US</dc:language>
  <cp:lastModifiedBy>BLACKEDITION</cp:lastModifiedBy>
  <dcterms:modified xsi:type="dcterms:W3CDTF">2014-03-12T20:01:5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