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4DB6-6668-4305-973A-85F0FEA8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CCAE-5CA4-4B70-B5DE-5BB2B6ED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E19-01A4-417F-A3BB-47AE71FB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505D-6F01-4D95-84E9-0CD11B9A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AA60-F582-4B65-8C31-4B229946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F99-061B-4B08-AEFE-15610A8D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A4AA-D758-4026-B8F6-3EF86B7F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756-0753-41D7-844C-56BAACE9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FFE-FC9C-4C9E-B069-4BDFDF7B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339-2961-47FB-AB21-1E6E5C6D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027-6DBC-4B98-BFA2-1671B380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CBD6-C439-4E1E-A253-9E9BBC52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A430-19AE-4223-B3CC-D8F4DFF194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838080" y="1295280"/>
            <a:ext cx="79250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равнение, сложение и вычитание </a:t>
            </a:r>
            <a:endParaRPr b="1" i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робей с разными знаменателями</a:t>
            </a:r>
            <a:endParaRPr b="1" i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Дата 3"/>
          <p:cNvSpPr/>
          <p:nvPr/>
        </p:nvSpPr>
        <p:spPr>
          <a:xfrm>
            <a:off x="6019920" y="228600"/>
            <a:ext cx="2906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isli_html_m658e97f"/>
          <p:cNvPicPr/>
          <p:nvPr/>
        </p:nvPicPr>
        <p:blipFill>
          <a:blip r:embed="rId1"/>
          <a:stretch/>
        </p:blipFill>
        <p:spPr>
          <a:xfrm>
            <a:off x="3657600" y="4191120"/>
            <a:ext cx="22478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Times New Roman"/>
              </a:rPr>
              <a:t>Теоретическая разми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928800"/>
            <a:ext cx="86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Чтобы привести дробь к новому знаменателю, над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Чтобы найти дополнительный множитель для дроби, над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щим знаменателем двух или нескольких дробей является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Если знаменатели дробей – взаимно простые числа, то общим знаменателем будет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Теоретическая разми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600" y="928800"/>
            <a:ext cx="861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Чтобы сравнить дроби с одинаковыми  знаменателями над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кратить дробь – значит разделит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сократимая дробь- это дроб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Чтобы сложить или вычесть дроби с одинаковыми  знаменателями над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31120" y="304560"/>
            <a:ext cx="347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едставьте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роб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0"/>
          <p:cNvSpPr/>
          <p:nvPr/>
        </p:nvSpPr>
        <p:spPr>
          <a:xfrm>
            <a:off x="310320" y="5334120"/>
            <a:ext cx="38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Сократите дробь 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82"/>
              <p:cNvSpPr txBox="1"/>
              <p:nvPr/>
            </p:nvSpPr>
            <p:spPr>
              <a:xfrm>
                <a:off x="609480" y="3505320"/>
                <a:ext cx="11430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и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83"/>
              <p:cNvSpPr txBox="1"/>
              <p:nvPr/>
            </p:nvSpPr>
            <p:spPr>
              <a:xfrm>
                <a:off x="1022400" y="1143000"/>
                <a:ext cx="4492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4"/>
              <p:cNvSpPr txBox="1"/>
              <p:nvPr/>
            </p:nvSpPr>
            <p:spPr>
              <a:xfrm>
                <a:off x="5240160" y="1066680"/>
                <a:ext cx="3589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Text Box 85"/>
          <p:cNvSpPr/>
          <p:nvPr/>
        </p:nvSpPr>
        <p:spPr>
          <a:xfrm>
            <a:off x="1524960" y="12952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знаменателю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6"/>
          <p:cNvSpPr/>
          <p:nvPr/>
        </p:nvSpPr>
        <p:spPr>
          <a:xfrm>
            <a:off x="5792400" y="12952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знаменателю 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87"/>
              <p:cNvSpPr txBox="1"/>
              <p:nvPr/>
            </p:nvSpPr>
            <p:spPr>
              <a:xfrm>
                <a:off x="2362320" y="3581280"/>
                <a:ext cx="118116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и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8"/>
              <p:cNvSpPr txBox="1"/>
              <p:nvPr/>
            </p:nvSpPr>
            <p:spPr>
              <a:xfrm>
                <a:off x="4343400" y="3578400"/>
                <a:ext cx="144792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и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89"/>
              <p:cNvSpPr txBox="1"/>
              <p:nvPr/>
            </p:nvSpPr>
            <p:spPr>
              <a:xfrm>
                <a:off x="6629400" y="3581280"/>
                <a:ext cx="14479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и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90"/>
              <p:cNvSpPr txBox="1"/>
              <p:nvPr/>
            </p:nvSpPr>
            <p:spPr>
              <a:xfrm>
                <a:off x="3505320" y="5562720"/>
                <a:ext cx="41497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Text Box 92"/>
          <p:cNvSpPr/>
          <p:nvPr/>
        </p:nvSpPr>
        <p:spPr>
          <a:xfrm>
            <a:off x="385200" y="2590920"/>
            <a:ext cx="67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риведите дробь к общему знаменат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4192560" y="380880"/>
                <a:ext cx="152100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9"/>
              <p:cNvSpPr txBox="1"/>
              <p:nvPr/>
            </p:nvSpPr>
            <p:spPr>
              <a:xfrm>
                <a:off x="6934320" y="304920"/>
                <a:ext cx="168264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Text Box 5"/>
          <p:cNvSpPr/>
          <p:nvPr/>
        </p:nvSpPr>
        <p:spPr>
          <a:xfrm>
            <a:off x="3200400" y="144792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07080" y="504720"/>
            <a:ext cx="37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Какая дробь лишня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28600" y="19051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Найдите рациональный способ счё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0"/>
              <p:cNvSpPr txBox="1"/>
              <p:nvPr/>
            </p:nvSpPr>
            <p:spPr>
              <a:xfrm>
                <a:off x="990720" y="2666880"/>
                <a:ext cx="65530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Text Box 11"/>
          <p:cNvSpPr/>
          <p:nvPr/>
        </p:nvSpPr>
        <p:spPr>
          <a:xfrm>
            <a:off x="232560" y="3835440"/>
            <a:ext cx="566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Расположите в порядке убы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2"/>
              <p:cNvSpPr txBox="1"/>
              <p:nvPr/>
            </p:nvSpPr>
            <p:spPr>
              <a:xfrm>
                <a:off x="5638680" y="4495680"/>
                <a:ext cx="27640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Text Box 13"/>
          <p:cNvSpPr/>
          <p:nvPr/>
        </p:nvSpPr>
        <p:spPr>
          <a:xfrm>
            <a:off x="228600" y="5257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Сравни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4"/>
              <p:cNvSpPr txBox="1"/>
              <p:nvPr/>
            </p:nvSpPr>
            <p:spPr>
              <a:xfrm>
                <a:off x="4114800" y="5562720"/>
                <a:ext cx="11430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и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3"/>
              <p:cNvSpPr txBox="1"/>
              <p:nvPr/>
            </p:nvSpPr>
            <p:spPr>
              <a:xfrm>
                <a:off x="2209680" y="5553000"/>
                <a:ext cx="121932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и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8" descr="puh1"/>
          <p:cNvPicPr/>
          <p:nvPr/>
        </p:nvPicPr>
        <p:blipFill>
          <a:blip r:embed="rId1"/>
          <a:stretch/>
        </p:blipFill>
        <p:spPr>
          <a:xfrm>
            <a:off x="304920" y="2286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360" y="2742840"/>
            <a:ext cx="9448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колько всего мёда съел  Винни-Пух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огда он съел больше мёда и на скольк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0"/>
              <p:cNvSpPr txBox="1"/>
              <p:nvPr/>
            </p:nvSpPr>
            <p:spPr>
              <a:xfrm>
                <a:off x="3205080" y="318960"/>
                <a:ext cx="532296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На завтрак-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горшочка мёда;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 обед -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горшочка мёд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1"/>
              <p:cNvSpPr txBox="1"/>
              <p:nvPr/>
            </p:nvSpPr>
            <p:spPr>
              <a:xfrm>
                <a:off x="1905120" y="5029200"/>
                <a:ext cx="4334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2"/>
              <p:cNvSpPr txBox="1"/>
              <p:nvPr/>
            </p:nvSpPr>
            <p:spPr>
              <a:xfrm>
                <a:off x="609480" y="5029200"/>
                <a:ext cx="4716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3"/>
              <p:cNvSpPr txBox="1"/>
              <p:nvPr/>
            </p:nvSpPr>
            <p:spPr>
              <a:xfrm>
                <a:off x="3429000" y="5105520"/>
                <a:ext cx="4716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4"/>
              <p:cNvSpPr txBox="1"/>
              <p:nvPr/>
            </p:nvSpPr>
            <p:spPr>
              <a:xfrm>
                <a:off x="4495680" y="5105520"/>
                <a:ext cx="4334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15"/>
              <p:cNvSpPr txBox="1"/>
              <p:nvPr/>
            </p:nvSpPr>
            <p:spPr>
              <a:xfrm>
                <a:off x="6095880" y="5105520"/>
                <a:ext cx="4716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6"/>
              <p:cNvSpPr txBox="1"/>
              <p:nvPr/>
            </p:nvSpPr>
            <p:spPr>
              <a:xfrm>
                <a:off x="7162920" y="5105520"/>
                <a:ext cx="4316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Rectangle 20"/>
          <p:cNvSpPr/>
          <p:nvPr/>
        </p:nvSpPr>
        <p:spPr>
          <a:xfrm>
            <a:off x="1221480" y="533412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1"/>
          <p:cNvSpPr/>
          <p:nvPr/>
        </p:nvSpPr>
        <p:spPr>
          <a:xfrm>
            <a:off x="3963600" y="53341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6631200" y="533412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4">
            <a:hlinkClick r:id="" action="ppaction://hlinkshowjump?jump=firstslide"/>
          </p:cNvPr>
          <p:cNvSpPr/>
          <p:nvPr/>
        </p:nvSpPr>
        <p:spPr>
          <a:xfrm>
            <a:off x="838188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1588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752">
                <a:moveTo>
                  <a:pt x="11905" y="15357"/>
                </a:moveTo>
                <a:lnTo>
                  <a:pt x="11905" y="13399"/>
                </a:lnTo>
                <a:cubicBezTo>
                  <a:pt x="11905" y="12572"/>
                  <a:pt x="12236" y="11876"/>
                  <a:pt x="12837" y="11876"/>
                </a:cubicBezTo>
                <a:cubicBezTo>
                  <a:pt x="13968" y="11876"/>
                  <a:pt x="14865" y="10509"/>
                  <a:pt x="14865" y="8925"/>
                </a:cubicBezTo>
                <a:cubicBezTo>
                  <a:pt x="14865" y="6610"/>
                  <a:pt x="13011" y="4869"/>
                  <a:pt x="10800" y="4869"/>
                </a:cubicBezTo>
                <a:cubicBezTo>
                  <a:pt x="8589" y="4869"/>
                  <a:pt x="6918" y="6610"/>
                  <a:pt x="6918" y="8925"/>
                </a:cubicBezTo>
                <a:lnTo>
                  <a:pt x="8772" y="8925"/>
                </a:lnTo>
                <a:cubicBezTo>
                  <a:pt x="8772" y="7785"/>
                  <a:pt x="9695" y="6897"/>
                  <a:pt x="10800" y="6897"/>
                </a:cubicBezTo>
                <a:cubicBezTo>
                  <a:pt x="11905" y="6897"/>
                  <a:pt x="12837" y="7785"/>
                  <a:pt x="12837" y="8925"/>
                </a:cubicBezTo>
                <a:cubicBezTo>
                  <a:pt x="12837" y="9665"/>
                  <a:pt x="12367" y="10396"/>
                  <a:pt x="11905" y="10396"/>
                </a:cubicBezTo>
                <a:cubicBezTo>
                  <a:pt x="10800" y="10396"/>
                  <a:pt x="9695" y="11876"/>
                  <a:pt x="9695" y="13399"/>
                </a:cubicBezTo>
                <a:lnTo>
                  <a:pt x="9695" y="15357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ния</dc:creator>
  <dc:description/>
  <dc:language>en-US</dc:language>
  <cp:lastModifiedBy>Сания</cp:lastModifiedBy>
  <dcterms:modified xsi:type="dcterms:W3CDTF">2009-02-22T20:15:0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