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EAF-181E-4393-9C7A-178E99F0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D4E-3D1C-4207-BC32-ABD92EDD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EA4-FB45-455E-9DCE-1E8381C6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2B1-28BA-40F7-8503-5E1A0AAF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F4AD-6ABF-48C0-B834-C315A38A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05E8-E78F-47C6-83CD-B61AE26A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C83A-0130-48BE-B0E4-C2FF747D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D2B1-749E-41C3-ACCF-3FD78961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F691-5DBC-4A8C-85F8-61BED89E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55B7-A5D5-4EFE-BE4B-5C0C2AE6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63E7-CF03-4C32-99A5-5BCADB2B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B31-479E-473A-BCF7-8401BC60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E8E3-7DD2-47B4-9CA4-CD61CCC0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7967-33B2-49D2-82FD-15F834D9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E382-06E8-4B55-A20A-8471529C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B72B-ABC9-4163-B23D-E74E9D51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01BD-9846-478C-AC85-73A4E599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09A-4E67-412B-9280-48BBEE5C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AB7-6C60-4BD0-A8D3-8100924B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285-45F3-4830-A5F1-1A6B9AE4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1CE-F638-454A-A6EE-BBE503C7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3C9-B3A5-431E-A624-178B6783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3B4-4E57-416A-8404-1CBE95BB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7FA-5CB8-4FCD-A9A0-2CC7B286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6FD1-7FBB-4F57-9917-B23D9A887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70C4-1255-49D6-9BA4-703D5EACB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Путешествие 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783252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-2259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5589360"/>
            <a:ext cx="85406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еж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3213360" cy="4421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859280" y="765000"/>
            <a:ext cx="3041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5660640"/>
            <a:ext cx="85183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юкз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561636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4391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-316080"/>
            <a:ext cx="8964720" cy="67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3280" y="378936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501720" cy="234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716360" y="549360"/>
            <a:ext cx="3546720" cy="2406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24000" y="3716280"/>
            <a:ext cx="32112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 rot="10800000">
            <a:off x="539640" y="189000"/>
            <a:ext cx="77932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068640" cy="1925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03280" y="3645000"/>
            <a:ext cx="3076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586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62984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09:02:22Z</dcterms:created>
  <dc:creator>Психолог</dc:creator>
  <dc:description/>
  <dc:language>en-US</dc:language>
  <cp:lastModifiedBy>Психолог</cp:lastModifiedBy>
  <dcterms:modified xsi:type="dcterms:W3CDTF">2014-04-17T08:24:37Z</dcterms:modified>
  <cp:revision>12</cp:revision>
  <dc:subject/>
  <dc:title>Самоактуализация личности</dc:title>
</cp:coreProperties>
</file>