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3.jpeg" ContentType="image/jpeg"/>
  <Override PartName="/ppt/media/image49.png" ContentType="image/png"/>
  <Override PartName="/ppt/media/image31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51.png" ContentType="image/png"/>
  <Override PartName="/ppt/media/image46.jpeg" ContentType="image/jpeg"/>
  <Override PartName="/ppt/media/image45.jpeg" ContentType="image/jpeg"/>
  <Override PartName="/ppt/media/image47.png" ContentType="image/png"/>
  <Override PartName="/ppt/media/image10.jpeg" ContentType="image/jpeg"/>
  <Override PartName="/ppt/media/image35.png" ContentType="image/png"/>
  <Override PartName="/ppt/media/image43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50.png" ContentType="image/png"/>
  <Override PartName="/ppt/media/image13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6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5F92-6A41-4EFA-B70D-FD85E7A890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E6ED-D9D0-42EB-8DB4-23146F9504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B983-513C-4AFA-BA60-D1CCC7290A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99C8-7146-488B-BF5F-FFD71052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7F9B-BC82-48A2-B4F2-58420F3D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C51-E9CE-42C7-88BF-733BA53E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E961-E906-4317-98DC-F5782B75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1C73-19C4-44EE-AFEA-5350687C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184-D1B0-4EE5-839C-C0C3B181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AA5D-8FAC-4815-806D-37E15C07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4353-3676-4036-9DC4-D1156B10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A09-D6A0-4D71-9823-6CB6EC68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4FAD-17FB-4BFC-9D2D-0EFF7932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8D15-9CB2-4E61-82DB-97ABC29D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50F7-1CFB-415B-B504-9D2FB908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50C8-4A72-4DA5-A451-F8ED6F3C40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rule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ANd9GcSMgQcGLj39YRb-3-oUTpJeGVdUd7_gMBZDMSiLfHLxFrpiAbtJ0w"/>
          <p:cNvPicPr/>
          <p:nvPr/>
        </p:nvPicPr>
        <p:blipFill>
          <a:blip r:embed="rId2"/>
          <a:stretch/>
        </p:blipFill>
        <p:spPr>
          <a:xfrm>
            <a:off x="0" y="152280"/>
            <a:ext cx="134460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981080" y="3049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ектная рабо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1676520" y="6095880"/>
            <a:ext cx="60292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вторы: учащиеся 2 "А"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1752480" y="182880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"Семь раз отмерь...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1738440" y="3166920"/>
            <a:ext cx="5667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(старинные меры длины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ANd9GcSMgQcGLj39YRb-3-oUTpJeGVdUd7_gMBZDMSiLfHLxFrpiAbtJ0w"/>
          <p:cNvPicPr/>
          <p:nvPr/>
        </p:nvPicPr>
        <p:blipFill>
          <a:blip r:embed="rId1"/>
          <a:stretch/>
        </p:blipFill>
        <p:spPr>
          <a:xfrm>
            <a:off x="0" y="0"/>
            <a:ext cx="9604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685800" y="304920"/>
          <a:ext cx="8004240" cy="6003720"/>
        </p:xfrm>
        <a:graphic>
          <a:graphicData uri="http://schemas.openxmlformats.org/drawingml/2006/table">
            <a:tbl>
              <a:tblPr/>
              <a:tblGrid>
                <a:gridCol w="1143000"/>
                <a:gridCol w="922320"/>
                <a:gridCol w="868320"/>
                <a:gridCol w="1031760"/>
                <a:gridCol w="990720"/>
                <a:gridCol w="685800"/>
                <a:gridCol w="1219320"/>
                <a:gridCol w="1143000"/>
              </a:tblGrid>
              <a:tr h="11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ле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Локо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яд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а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яд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ели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ахов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ос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уш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душ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ANd9GcSMgQcGLj39YRb-3-oUTpJeGVdUd7_gMBZDMSiLfHLxFrpiAbtJ0w"/>
          <p:cNvPicPr/>
          <p:nvPr/>
        </p:nvPicPr>
        <p:blipFill>
          <a:blip r:embed="rId1"/>
          <a:stretch/>
        </p:blipFill>
        <p:spPr>
          <a:xfrm>
            <a:off x="90360" y="152280"/>
            <a:ext cx="96228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Фото-0106"/>
          <p:cNvPicPr/>
          <p:nvPr/>
        </p:nvPicPr>
        <p:blipFill>
          <a:blip r:embed="rId2"/>
          <a:stretch/>
        </p:blipFill>
        <p:spPr>
          <a:xfrm>
            <a:off x="5562720" y="38862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C:\Users\Татьяна\Desktop\SAM_0117.JPG"/>
          <p:cNvPicPr/>
          <p:nvPr/>
        </p:nvPicPr>
        <p:blipFill>
          <a:blip r:embed="rId3"/>
          <a:stretch/>
        </p:blipFill>
        <p:spPr>
          <a:xfrm>
            <a:off x="1517760" y="40654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Users\Татьяна\Desktop\SAM_0116.JPG"/>
          <p:cNvPicPr/>
          <p:nvPr/>
        </p:nvPicPr>
        <p:blipFill>
          <a:blip r:embed="rId4"/>
          <a:stretch/>
        </p:blipFill>
        <p:spPr>
          <a:xfrm>
            <a:off x="297000" y="1593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C:\Users\Татьяна\Desktop\SAM_0123.JPG"/>
          <p:cNvPicPr/>
          <p:nvPr/>
        </p:nvPicPr>
        <p:blipFill>
          <a:blip r:embed="rId5"/>
          <a:stretch/>
        </p:blipFill>
        <p:spPr>
          <a:xfrm>
            <a:off x="3581280" y="1254240"/>
            <a:ext cx="2173320" cy="240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C:\Users\Татьяна\Desktop\SAM_0126.JPG"/>
          <p:cNvPicPr/>
          <p:nvPr/>
        </p:nvPicPr>
        <p:blipFill>
          <a:blip r:embed="rId6"/>
          <a:stretch/>
        </p:blipFill>
        <p:spPr>
          <a:xfrm>
            <a:off x="6056280" y="1593720"/>
            <a:ext cx="2706840" cy="20304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1" descr=""/>
          <p:cNvPicPr/>
          <p:nvPr/>
        </p:nvPicPr>
        <p:blipFill>
          <a:blip r:embed="rId7"/>
          <a:stretch/>
        </p:blipFill>
        <p:spPr>
          <a:xfrm>
            <a:off x="950760" y="-115920"/>
            <a:ext cx="74311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rule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457200" y="228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ринные меры длины в лит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295280" y="10666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4876920" y="3962520"/>
            <a:ext cx="3504960" cy="2628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4"/>
          <a:stretch/>
        </p:blipFill>
        <p:spPr>
          <a:xfrm>
            <a:off x="762120" y="373392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"/>
          <p:cNvPicPr/>
          <p:nvPr/>
        </p:nvPicPr>
        <p:blipFill>
          <a:blip r:embed="rId5"/>
          <a:stretch/>
        </p:blipFill>
        <p:spPr>
          <a:xfrm>
            <a:off x="762120" y="91440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ANd9GcSMgQcGLj39YRb-3-oUTpJeGVdUd7_gMBZDMSiLfHLxFrpiAbtJ0w"/>
          <p:cNvPicPr/>
          <p:nvPr/>
        </p:nvPicPr>
        <p:blipFill>
          <a:blip r:embed="rId6"/>
          <a:stretch/>
        </p:blipFill>
        <p:spPr>
          <a:xfrm>
            <a:off x="0" y="0"/>
            <a:ext cx="1154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rule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457200" y="2286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295280" y="10666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280" y="0"/>
          <a:ext cx="8844120" cy="7743960"/>
        </p:xfrm>
        <a:graphic>
          <a:graphicData uri="http://schemas.openxmlformats.org/drawingml/2006/table">
            <a:tbl>
              <a:tblPr/>
              <a:tblGrid>
                <a:gridCol w="2613240"/>
                <a:gridCol w="2597040"/>
                <a:gridCol w="3633840"/>
              </a:tblGrid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е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минание меры дл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Мамин-Сибиря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ерая Шей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вободного места, где можно было плавать, оставалось не больше пятнадцати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ажен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Х.Андерс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юймовоч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…в чашечке цветка сидела хорошенькая крошечная девочка ростом не больше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юйм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П.Ерш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онёк Горбун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«Да игрушечку-конь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стом только в три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вершк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 спине с двумя горб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а с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аршинным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уша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Н.Некр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душка Мазай и зайц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«С каждой минутой вода подбирала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 бедным зверькам; уж под ними остало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ньше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арши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емли в ширину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ньше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сажени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длин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Погорель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ёрная курица, или подземные жител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…отворилась боковая дверь… и вошло множество маленьких людей, ростом не более как с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л-аршин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С.Пуш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казка о Царе Салтан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…Сына Бог ей дал в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ршин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М.Гарш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ягушка –путешествен-ниц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..тащить хотя и лёгкую лягушку три тысячи 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ерс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е бог знает какое удовольствие…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ик сказок Д.К.Зелен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а «Кожа медвежья – лицо человечь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ибегает, сам с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оготок 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орода с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локото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ое народное твор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азн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иченька – невеличенька, сама с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ершок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голова с горш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rule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295280" y="10666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4121280" y="3108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228600"/>
          <a:ext cx="8001000" cy="914400"/>
        </p:xfrm>
        <a:graphic>
          <a:graphicData uri="http://schemas.openxmlformats.org/drawingml/2006/table">
            <a:tbl>
              <a:tblPr/>
              <a:tblGrid>
                <a:gridCol w="1752480"/>
                <a:gridCol w="1905120"/>
                <a:gridCol w="4343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Мамин-Сибиря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ерая Шей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вободного места, где можно было плавать, оставалось не больше пятнадцати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ажен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Picture 26" descr="%D1%81%D0%B5%D1%80%D0%B0%D1%8F-%D1%88%D0%B5%D0%B9%D0%BA%D0%B0"/>
          <p:cNvPicPr/>
          <p:nvPr/>
        </p:nvPicPr>
        <p:blipFill>
          <a:blip r:embed="rId2"/>
          <a:stretch/>
        </p:blipFill>
        <p:spPr>
          <a:xfrm>
            <a:off x="1447920" y="1295280"/>
            <a:ext cx="65530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9600" spc="-1" strike="noStrike">
                <a:solidFill>
                  <a:srgbClr val="333399"/>
                </a:solidFill>
                <a:latin typeface="Arial"/>
              </a:rPr>
              <a:t>Сажень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1087200" y="2000160"/>
            <a:ext cx="748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rbel"/>
              </a:rPr>
              <a:t>1 сажень = 213 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sazheni.gif"/>
          <p:cNvPicPr/>
          <p:nvPr/>
        </p:nvPicPr>
        <p:blipFill>
          <a:blip r:embed="rId1"/>
          <a:stretch/>
        </p:blipFill>
        <p:spPr>
          <a:xfrm>
            <a:off x="3286080" y="3500280"/>
            <a:ext cx="285768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20110403052744!%D0%9B%D1%8F%D0%B3%D1%83%D1%88%D0%BA%D0%B0-%D0%BF%D1%83%D1%82%D0%B5%D1%88%D0%B5%D1%81%D1%82%D0%B2%D0%B5%D0%BD%D0%BD%D0%B8%D1%86%D0%B0_(%D0%BC%D1%83%D0%BB%D1%8C%D1%82%D1%84%D0%B8%D0%BB%D1%8C%D0%BC,_1965)"/>
          <p:cNvPicPr/>
          <p:nvPr/>
        </p:nvPicPr>
        <p:blipFill>
          <a:blip r:embed="rId1"/>
          <a:stretch/>
        </p:blipFill>
        <p:spPr>
          <a:xfrm>
            <a:off x="1981080" y="2666880"/>
            <a:ext cx="5257800" cy="350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304920" y="304920"/>
          <a:ext cx="8229600" cy="1616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М.Гарш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ягушка –путешественниц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..тащить хотя и лёгкую лягушку три тысячи 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ерст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е бог знает какое удовольствие…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571680" y="285840"/>
            <a:ext cx="77752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nsolas"/>
              </a:rPr>
              <a:t>На Руси было два вида сажени</a:t>
            </a:r>
            <a:r>
              <a:rPr b="1" lang="uk-UA" sz="3600" spc="-1" strike="noStrike">
                <a:solidFill>
                  <a:srgbClr val="333399"/>
                </a:solidFill>
                <a:latin typeface="Consolas"/>
              </a:rPr>
              <a:t>:</a:t>
            </a:r>
            <a:r>
              <a:rPr b="1" lang="ru-RU" sz="3600" spc="-1" strike="noStrike">
                <a:solidFill>
                  <a:srgbClr val="333399"/>
                </a:solidFill>
                <a:latin typeface="Consolas"/>
              </a:rPr>
              <a:t> маховая сажень и косая саж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Копия (2) 100"/>
          <p:cNvPicPr/>
          <p:nvPr/>
        </p:nvPicPr>
        <p:blipFill>
          <a:blip r:embed="rId1"/>
          <a:stretch/>
        </p:blipFill>
        <p:spPr>
          <a:xfrm>
            <a:off x="685800" y="1981080"/>
            <a:ext cx="3867120" cy="1852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3048120" cy="2133360"/>
          </a:xfrm>
          <a:prstGeom prst="rect">
            <a:avLst/>
          </a:prstGeom>
          <a:ln w="0">
            <a:noFill/>
          </a:ln>
        </p:spPr>
      </p:pic>
      <p:sp>
        <p:nvSpPr>
          <p:cNvPr id="137" name="Line 5"/>
          <p:cNvSpPr/>
          <p:nvPr/>
        </p:nvSpPr>
        <p:spPr>
          <a:xfrm>
            <a:off x="914400" y="5181480"/>
            <a:ext cx="2362320" cy="76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5105520" y="228600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139" name="Line 7"/>
          <p:cNvSpPr/>
          <p:nvPr/>
        </p:nvSpPr>
        <p:spPr>
          <a:xfrm>
            <a:off x="5562720" y="2514600"/>
            <a:ext cx="1904760" cy="3733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Русские пословицы и погов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от правды на пядень, а она от тебя на саж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упишь на пядь, потеряешь саж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ая сажень в плеч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cs37"/>
          <p:cNvPicPr/>
          <p:nvPr/>
        </p:nvPicPr>
        <p:blipFill>
          <a:blip r:embed="rId1"/>
          <a:stretch/>
        </p:blipFill>
        <p:spPr>
          <a:xfrm>
            <a:off x="1600200" y="2057400"/>
            <a:ext cx="5715000" cy="431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1143000" y="457200"/>
          <a:ext cx="6781680" cy="1066680"/>
        </p:xfrm>
        <a:graphic>
          <a:graphicData uri="http://schemas.openxmlformats.org/drawingml/2006/table">
            <a:tbl>
              <a:tblPr/>
              <a:tblGrid>
                <a:gridCol w="2260440"/>
                <a:gridCol w="2260800"/>
                <a:gridCol w="226044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С.Пушк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казка о Царе Салтан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…Сына Бог ей дал в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ршин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rule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14400" y="720720"/>
            <a:ext cx="8229600" cy="6137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ANd9GcSMgQcGLj39YRb-3-oUTpJeGVdUd7_gMBZDMSiLfHLxFrpiAbtJ0w"/>
          <p:cNvPicPr/>
          <p:nvPr/>
        </p:nvPicPr>
        <p:blipFill>
          <a:blip r:embed="rId2"/>
          <a:stretch/>
        </p:blipFill>
        <p:spPr>
          <a:xfrm>
            <a:off x="0" y="0"/>
            <a:ext cx="1217520" cy="14479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спорт  проектной работы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    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звание проек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  «Семь раз отмерь…» (старинные меры длины)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 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уководитель проек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 Наширбанова Т.А. учитель  начальных  классов  МКОУ СОШ №6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 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ект реализу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 уроках: Математи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  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зраст учащих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на который рассчитан проект: 7-8 лет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  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вторы проек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  учащиеся 2 «А» класса МКОУ СОШ № 6. 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 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ип проек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 информационно-исследовательский. 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дукт проек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       Электронная презентация, папка «Семь раз отмерь…»(старинные меры длины).                                                    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0_5e04a_7933260b_XL"/>
          <p:cNvPicPr/>
          <p:nvPr/>
        </p:nvPicPr>
        <p:blipFill>
          <a:blip r:embed="rId1"/>
          <a:stretch/>
        </p:blipFill>
        <p:spPr>
          <a:xfrm>
            <a:off x="380880" y="2133720"/>
            <a:ext cx="6400800" cy="453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457200" y="152280"/>
          <a:ext cx="8229600" cy="2225880"/>
        </p:xfrm>
        <a:graphic>
          <a:graphicData uri="http://schemas.openxmlformats.org/drawingml/2006/table">
            <a:tbl>
              <a:tblPr/>
              <a:tblGrid>
                <a:gridCol w="2208240"/>
                <a:gridCol w="2641680"/>
                <a:gridCol w="3379680"/>
              </a:tblGrid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Н.Некрасо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душка Мазай и зайцы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«С каждой минутой вода подбиралась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 бедным зверькам; уж под ними осталось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ньше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аршина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емли в ширину,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ньше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сажени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длину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Pivovarov_VD-Chernaya-kuritza-Pogorelskiy_A"/>
          <p:cNvPicPr/>
          <p:nvPr/>
        </p:nvPicPr>
        <p:blipFill>
          <a:blip r:embed="rId1"/>
          <a:stretch/>
        </p:blipFill>
        <p:spPr>
          <a:xfrm>
            <a:off x="2819520" y="2438280"/>
            <a:ext cx="319860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304920" y="380880"/>
          <a:ext cx="8229600" cy="1920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Погорель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ёрная курица, или подземные жите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…отворилась боковая дверь… и вошло множество маленьких людей, ростом не более как с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л-аршин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0600" spc="-1" strike="noStrike">
                <a:solidFill>
                  <a:srgbClr val="333399"/>
                </a:solidFill>
                <a:latin typeface="Arial"/>
              </a:rPr>
              <a:t>Аршин</a:t>
            </a:r>
            <a:br>
              <a:rPr sz="10600"/>
            </a:b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arshin"/>
          <p:cNvPicPr/>
          <p:nvPr/>
        </p:nvPicPr>
        <p:blipFill>
          <a:blip r:embed="rId1"/>
          <a:stretch/>
        </p:blipFill>
        <p:spPr>
          <a:xfrm>
            <a:off x="304920" y="3352680"/>
            <a:ext cx="3433680" cy="28800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4"/>
          <p:cNvSpPr/>
          <p:nvPr/>
        </p:nvSpPr>
        <p:spPr>
          <a:xfrm>
            <a:off x="1367280" y="2071800"/>
            <a:ext cx="62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1 аршин = 71 с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4267080" y="32767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56" name="Line 6"/>
          <p:cNvSpPr/>
          <p:nvPr/>
        </p:nvSpPr>
        <p:spPr>
          <a:xfrm>
            <a:off x="6095880" y="464832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Русские пословицы и погов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шин на кафтан, да два на запла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три аршина в землю ви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купец на свой аршин меря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аршин борода, да ума на пядь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ать о чужих грехах аршинами, а о своих — строчными букв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ershov5_32.jpg"/>
          <p:cNvPicPr/>
          <p:nvPr/>
        </p:nvPicPr>
        <p:blipFill>
          <a:blip r:embed="rId1"/>
          <a:stretch/>
        </p:blipFill>
        <p:spPr>
          <a:xfrm>
            <a:off x="2133720" y="2209680"/>
            <a:ext cx="5333760" cy="421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380880" y="304920"/>
          <a:ext cx="8305920" cy="1493640"/>
        </p:xfrm>
        <a:graphic>
          <a:graphicData uri="http://schemas.openxmlformats.org/drawingml/2006/table">
            <a:tbl>
              <a:tblPr/>
              <a:tblGrid>
                <a:gridCol w="1676520"/>
                <a:gridCol w="1828800"/>
                <a:gridCol w="4800600"/>
              </a:tblGrid>
              <a:tr h="150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П.Ерш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ОНЕК - ГОРБУНО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 игрушечку-конь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том только в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три вершк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пине с двумя горб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с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ршинными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шам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228600" y="16765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onsolas"/>
              </a:rPr>
              <a:t>Для измерений часто использовали верхню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onsolas"/>
              </a:rPr>
              <a:t>часть пальца - верш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259560" y="3505320"/>
            <a:ext cx="547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1 Вершок = 4 см 4 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9"/>
          <p:cNvSpPr/>
          <p:nvPr/>
        </p:nvSpPr>
        <p:spPr>
          <a:xfrm>
            <a:off x="2560320" y="142920"/>
            <a:ext cx="449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33399"/>
                </a:solidFill>
                <a:latin typeface="Corbel"/>
              </a:rPr>
              <a:t>Вершо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304920" y="4267080"/>
            <a:ext cx="4495680" cy="2362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2"/>
          <a:stretch/>
        </p:blipFill>
        <p:spPr>
          <a:xfrm>
            <a:off x="4952880" y="4057560"/>
            <a:ext cx="3581640" cy="2686320"/>
          </a:xfrm>
          <a:prstGeom prst="rect">
            <a:avLst/>
          </a:prstGeom>
          <a:ln w="0">
            <a:noFill/>
          </a:ln>
        </p:spPr>
      </p:pic>
      <p:sp>
        <p:nvSpPr>
          <p:cNvPr id="166" name="Line 11"/>
          <p:cNvSpPr/>
          <p:nvPr/>
        </p:nvSpPr>
        <p:spPr>
          <a:xfrm>
            <a:off x="5791320" y="4343400"/>
            <a:ext cx="7596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Русские пословицы и погов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ее суббота через пятницу на два вершка вылез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вершка (или полвершка) от горшка, а уже указч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рода с вершок, а слов с ме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752480" y="2190600"/>
            <a:ext cx="5639040" cy="385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152280" y="304920"/>
          <a:ext cx="8686800" cy="1447560"/>
        </p:xfrm>
        <a:graphic>
          <a:graphicData uri="http://schemas.openxmlformats.org/drawingml/2006/table">
            <a:tbl>
              <a:tblPr/>
              <a:tblGrid>
                <a:gridCol w="2567160"/>
                <a:gridCol w="2550960"/>
                <a:gridCol w="3568680"/>
              </a:tblGrid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Х.Андерс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юймовоч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…в чашечке цветка сидела хорошенькая крошечная девочка ростом не больше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юйма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Самая маленькая древняя мера в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странах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omic Sans MS"/>
              </a:rPr>
              <a:t>Дюйм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– мера, равная дли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ерхней фаланги большого пальца.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0033cc"/>
                </a:solidFill>
                <a:latin typeface="Comic Sans MS"/>
              </a:rPr>
              <a:t>1 дюйм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= 2,54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4496040" cy="3070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74" name="Line 6"/>
          <p:cNvSpPr/>
          <p:nvPr/>
        </p:nvSpPr>
        <p:spPr>
          <a:xfrm>
            <a:off x="6553080" y="3886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33520" y="1219320"/>
            <a:ext cx="8381880" cy="45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Перст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- старинное название указательного пальца руки , ширина которого равна приблизительн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2 см.</a:t>
            </a:r>
            <a:br>
              <a:rPr sz="4800"/>
            </a:br>
            <a:br>
              <a:rPr sz="4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5486400" y="4038480"/>
            <a:ext cx="3200400" cy="2533680"/>
          </a:xfrm>
          <a:prstGeom prst="rect">
            <a:avLst/>
          </a:prstGeom>
          <a:ln w="0">
            <a:noFill/>
          </a:ln>
        </p:spPr>
      </p:pic>
      <p:sp>
        <p:nvSpPr>
          <p:cNvPr id="177" name="Line 4"/>
          <p:cNvSpPr/>
          <p:nvPr/>
        </p:nvSpPr>
        <p:spPr>
          <a:xfrm>
            <a:off x="6095880" y="43434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rule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ANd9GcSMgQcGLj39YRb-3-oUTpJeGVdUd7_gMBZDMSiLfHLxFrpiAbtJ0w"/>
          <p:cNvPicPr/>
          <p:nvPr/>
        </p:nvPicPr>
        <p:blipFill>
          <a:blip r:embed="rId2"/>
          <a:stretch/>
        </p:blipFill>
        <p:spPr>
          <a:xfrm>
            <a:off x="0" y="152280"/>
            <a:ext cx="134460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Администратор\Desktop\фото проектов\P1050936.JPG"/>
          <p:cNvPicPr/>
          <p:nvPr/>
        </p:nvPicPr>
        <p:blipFill>
          <a:blip r:embed="rId3"/>
          <a:stretch/>
        </p:blipFill>
        <p:spPr>
          <a:xfrm>
            <a:off x="1600200" y="304920"/>
            <a:ext cx="684360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2"/>
          <p:cNvSpPr/>
          <p:nvPr/>
        </p:nvSpPr>
        <p:spPr>
          <a:xfrm>
            <a:off x="152280" y="1600200"/>
            <a:ext cx="6572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1 малая пядь = 18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1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ликая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 пядь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22—23 с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6215040" y="1785960"/>
            <a:ext cx="1738440" cy="20718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800" spc="-1" strike="noStrike">
                <a:solidFill>
                  <a:srgbClr val="0033cc"/>
                </a:solidFill>
                <a:latin typeface="Arial"/>
              </a:rPr>
              <a:t>ПЯДЬ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3"/>
          <a:stretch/>
        </p:blipFill>
        <p:spPr>
          <a:xfrm>
            <a:off x="5638680" y="4248000"/>
            <a:ext cx="32767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Русские пословицы и погов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от правды на пядень, а она от тебя на саж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упишь на пядь, потеряешь саж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ь пядей во лбу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аршин борода, да ума на пядь 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en-US" sz="8000" spc="-1" strike="noStrike">
                <a:solidFill>
                  <a:srgbClr val="0033cc"/>
                </a:solidFill>
                <a:latin typeface="Arial"/>
              </a:rPr>
              <a:t>ладон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14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188" name="Line 5"/>
          <p:cNvSpPr/>
          <p:nvPr/>
        </p:nvSpPr>
        <p:spPr>
          <a:xfrm>
            <a:off x="2286000" y="327672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1391-EE7F-471E-89DD-46405E77A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Comic Sans MS"/>
              </a:rPr>
              <a:t>                  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Локоть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– рас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от локтевого сгиб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до конца вытянут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реднего     паль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lang="ru-RU" sz="4000" spc="-1" strike="noStrike">
                <a:solidFill>
                  <a:srgbClr val="0033cc"/>
                </a:solidFill>
                <a:latin typeface="Comic Sans MS"/>
              </a:rPr>
              <a:t>1 локоть</a:t>
            </a: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 = 46 - 47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2692440" cy="4038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4038480" y="411480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193" name="Line 6"/>
          <p:cNvSpPr/>
          <p:nvPr/>
        </p:nvSpPr>
        <p:spPr>
          <a:xfrm>
            <a:off x="6553080" y="4267080"/>
            <a:ext cx="45720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Русские пословицы и погов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 с ноготок, а борода с локо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en-US" sz="8000" spc="-1" strike="noStrike">
                <a:solidFill>
                  <a:srgbClr val="0033cc"/>
                </a:solidFill>
                <a:latin typeface="Arial"/>
              </a:rPr>
              <a:t>фу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3352680" cy="2286000"/>
          </a:xfrm>
          <a:prstGeom prst="rect">
            <a:avLst/>
          </a:prstGeom>
          <a:ln w="0">
            <a:noFill/>
          </a:ln>
        </p:spPr>
      </p:pic>
      <p:sp>
        <p:nvSpPr>
          <p:cNvPr id="199" name="Line 5"/>
          <p:cNvSpPr/>
          <p:nvPr/>
        </p:nvSpPr>
        <p:spPr>
          <a:xfrm flipV="1">
            <a:off x="1981080" y="4190760"/>
            <a:ext cx="2438640" cy="759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en-US" sz="8000" spc="-1" strike="noStrike">
                <a:solidFill>
                  <a:srgbClr val="0033cc"/>
                </a:solidFill>
                <a:latin typeface="Arial"/>
              </a:rPr>
              <a:t>ша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203" name="Line 5"/>
          <p:cNvSpPr/>
          <p:nvPr/>
        </p:nvSpPr>
        <p:spPr>
          <a:xfrm flipV="1">
            <a:off x="2057400" y="5334120"/>
            <a:ext cx="5181480" cy="3808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Русские пословицы и погов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гнул и царство покори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 шагу наз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928800" y="142920"/>
            <a:ext cx="7772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cc"/>
                </a:solidFill>
                <a:latin typeface="Consolas"/>
              </a:rPr>
              <a:t>ВЕРСТ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428840" y="2071800"/>
            <a:ext cx="640080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1 верста = 1067 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C:\Documents and Settings\05\Рабочий стол\меры длины\длина\верста\верста2.jpg"/>
          <p:cNvPicPr/>
          <p:nvPr/>
        </p:nvPicPr>
        <p:blipFill>
          <a:blip r:embed="rId1"/>
          <a:stretch/>
        </p:blipFill>
        <p:spPr>
          <a:xfrm>
            <a:off x="1371600" y="3124080"/>
            <a:ext cx="2371680" cy="3162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" descr="C:\Documents and Settings\05\Рабочий стол\меры длины\длина\верста\верста3.jpg"/>
          <p:cNvPicPr/>
          <p:nvPr/>
        </p:nvPicPr>
        <p:blipFill>
          <a:blip r:embed="rId2"/>
          <a:stretch/>
        </p:blipFill>
        <p:spPr>
          <a:xfrm>
            <a:off x="4572000" y="2971800"/>
            <a:ext cx="2476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4E18-CF0D-41EB-B5F6-C8B84ECC54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Bookman Old Style"/>
              </a:rPr>
              <a:t>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man Old Style"/>
              </a:rPr>
              <a:t>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 подмосковном селе Коломенском находи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летняя резиденция царя Алексея Михайлови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орога туда была оживленной, широкой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читалась главной в государстве. А уж ког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оставили огромные верстовые столбы, ка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 России еще не бывало, слава этой дорог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озросла еще более. Смекалистый народ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еминул воспользоваться новинкой и окрести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олговязого человека коломе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ерстой. Так до сих пор и величае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d31_3"/>
          <p:cNvPicPr/>
          <p:nvPr/>
        </p:nvPicPr>
        <p:blipFill>
          <a:blip r:embed="rId1"/>
          <a:stretch/>
        </p:blipFill>
        <p:spPr>
          <a:xfrm>
            <a:off x="5715000" y="3048120"/>
            <a:ext cx="28702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rule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ANd9GcSMgQcGLj39YRb-3-oUTpJeGVdUd7_gMBZDMSiLfHLxFrpiAbtJ0w"/>
          <p:cNvPicPr/>
          <p:nvPr/>
        </p:nvPicPr>
        <p:blipFill>
          <a:blip r:embed="rId2"/>
          <a:stretch/>
        </p:blipFill>
        <p:spPr>
          <a:xfrm>
            <a:off x="0" y="152280"/>
            <a:ext cx="1344600" cy="1600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0"/>
          <p:cNvSpPr/>
          <p:nvPr/>
        </p:nvSpPr>
        <p:spPr>
          <a:xfrm>
            <a:off x="1371600" y="762120"/>
            <a:ext cx="7620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овседневной жизни мы сталкиваемся с математическими величинами ежедневно. Мы, не задумываясь,  производим различные вычис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современными единицами измерения длины мы  знакомы. Они удобны и понятн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есно, а как измеряли длину на Руси в старые времен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мы не используем старинные  единицы измерения длины в наше врем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Русские пословицы и погов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ва верстой далека, а сердцу ря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 не верстами меря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слова до дела — целая вер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стой ближе, пятаком дешев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ь верст молодцу не крю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за версту вид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мысли до мысли пять тысяч вер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янись верстой, да не будь прост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ёт семь верст до небес, и все ле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семь верст комара искали, а комар — на но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223560" y="571680"/>
            <a:ext cx="8574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Метрическая система мер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была введен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в нашей стране в 1918 год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71680" y="3357720"/>
            <a:ext cx="7989840" cy="25430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3"/>
          <p:cNvSpPr/>
          <p:nvPr/>
        </p:nvSpPr>
        <p:spPr>
          <a:xfrm>
            <a:off x="6006960" y="607212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алон ме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В наше время так же использу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1 милли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1 санти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1 деци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1 кило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838080" y="228600"/>
            <a:ext cx="727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МЕРИТЕЛЬНЫЕ ИНСТР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i-main-pic" descr="Картинка 11 из 55809"/>
          <p:cNvPicPr/>
          <p:nvPr/>
        </p:nvPicPr>
        <p:blipFill>
          <a:blip r:embed="rId1"/>
          <a:stretch/>
        </p:blipFill>
        <p:spPr>
          <a:xfrm>
            <a:off x="0" y="3733920"/>
            <a:ext cx="5372280" cy="3543120"/>
          </a:xfrm>
          <a:prstGeom prst="rect">
            <a:avLst/>
          </a:prstGeom>
          <a:ln w="0">
            <a:noFill/>
          </a:ln>
        </p:spPr>
      </p:pic>
      <p:pic>
        <p:nvPicPr>
          <p:cNvPr id="222" name="i-main-pic" descr="Картинка 1 из 1088"/>
          <p:cNvPicPr/>
          <p:nvPr/>
        </p:nvPicPr>
        <p:blipFill>
          <a:blip r:embed="rId2"/>
          <a:stretch/>
        </p:blipFill>
        <p:spPr>
          <a:xfrm rot="20574600">
            <a:off x="5791320" y="4723920"/>
            <a:ext cx="3649680" cy="1752840"/>
          </a:xfrm>
          <a:prstGeom prst="rect">
            <a:avLst/>
          </a:prstGeom>
          <a:ln w="0">
            <a:noFill/>
          </a:ln>
        </p:spPr>
      </p:pic>
      <p:pic>
        <p:nvPicPr>
          <p:cNvPr id="223" name="i-main-pic" descr="Картинка 2 из 243"/>
          <p:cNvPicPr/>
          <p:nvPr/>
        </p:nvPicPr>
        <p:blipFill>
          <a:blip r:embed="rId3"/>
          <a:stretch/>
        </p:blipFill>
        <p:spPr>
          <a:xfrm>
            <a:off x="5029200" y="2438280"/>
            <a:ext cx="4114800" cy="3063960"/>
          </a:xfrm>
          <a:prstGeom prst="rect">
            <a:avLst/>
          </a:prstGeom>
          <a:ln w="0">
            <a:noFill/>
          </a:ln>
        </p:spPr>
      </p:pic>
      <p:pic>
        <p:nvPicPr>
          <p:cNvPr id="224" name="i-main-pic" descr="Картинка 1 из 2208"/>
          <p:cNvPicPr/>
          <p:nvPr/>
        </p:nvPicPr>
        <p:blipFill>
          <a:blip r:embed="rId4"/>
          <a:stretch/>
        </p:blipFill>
        <p:spPr>
          <a:xfrm>
            <a:off x="3581280" y="228600"/>
            <a:ext cx="4496040" cy="3762360"/>
          </a:xfrm>
          <a:prstGeom prst="rect">
            <a:avLst/>
          </a:prstGeom>
          <a:ln w="0">
            <a:noFill/>
          </a:ln>
        </p:spPr>
      </p:pic>
      <p:pic>
        <p:nvPicPr>
          <p:cNvPr id="225" name="i-main-pic" descr="Картинка 3 из 11177"/>
          <p:cNvPicPr/>
          <p:nvPr/>
        </p:nvPicPr>
        <p:blipFill>
          <a:blip r:embed="rId5"/>
          <a:stretch/>
        </p:blipFill>
        <p:spPr>
          <a:xfrm>
            <a:off x="228600" y="9907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ные источники информац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 Иллюстрированный толковый словарь русского языка/ В. И. Даль. – М.: Эксмо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узнецов С. А. Большой толковый словарь русского языка. – М.: Норинт,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 Мокиенко В. М. Загадки русской фразеологии. Санкт-Петербург: Авалон, Азбука-классика, 20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Олехник  С.Н., Нестеренко Ю.В., Потапов М.К.  Старинные занимательные задачи.- М.: Наука, Главная редакция физико-математической литературы, 19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 Русская система мер. Википедия — свободная энциклопед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ru.wikipedia.org/wiki/%D0%F3%F1%F1%EA%E0%FF_%F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8%F1%F2%E5%EC%E0_%EC%E5%F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Русские пословицы и поговорки/Под ред. В. П. Аникина. – М.: Художественная литература, 19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 Савенков А. И. Я – исследователь. Учебник-тетрадь для младших школьников. – Самара: Учебная литература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ные источники информации: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Старинные русские МЕРЫ длины, веса, объёма и площади. http://mer.kakras.r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Усачёв А. А. Считарь. Числа, счёт, сложение. – М.: РООССА, 20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 Ушаков Д. Н. Большой толковый словарь современного русского языка. - М.: Альта-Принт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Энциклопедический словарь юного математика/ А. П. Савин.— М.: Педагогика-Пресс, 199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Я познаю мир: Математика: Детская энциклопедия/Авт.-сост. А. П. Савин и др. – М.: Издательство АСТ: ООО «Издательство Астрель»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rule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ANd9GcSMgQcGLj39YRb-3-oUTpJeGVdUd7_gMBZDMSiLfHLxFrpiAbtJ0w"/>
          <p:cNvPicPr/>
          <p:nvPr/>
        </p:nvPicPr>
        <p:blipFill>
          <a:blip r:embed="rId2"/>
          <a:stretch/>
        </p:blipFill>
        <p:spPr>
          <a:xfrm>
            <a:off x="0" y="0"/>
            <a:ext cx="1025640" cy="1219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дачи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знакомиться с измерительной системой, которая существовала ране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становить взаимосвязь между старой  измерительной системой и ново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оследить отражение старых мер в русском фольклор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овести исследования, с целью расширения наших знаний по математике и кругозора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859320" y="388800"/>
            <a:ext cx="777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ь, какие меры длины существовали на Ру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ари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ена и почему о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очняют цель исследования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снить, какие меры длины существовали в старинные времена на Рус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снить какими измерительными приборами измеряют длину в настоящее время и пользовались в старинные времена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снить, в каких литературных источниках встречаются названия старинных мер дли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снить, что означают пословицы, поговорки, шутки, фразеологизмы, в которых встречаются названия старинных мер дли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сти эксперимент с измерением длины в старинных единица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елать выво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ложить возможные пути дальнейшего исслед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та исследовательской раб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потеза исследования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предполагаем, что старинные меры длины утратили свою значимость по причине своей неточности и были заменены на единицы измерения принятые во всём мир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ы исследова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умать самостоятельно, что мы знаем о современны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инных мерах дли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ь специальную литератур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ответы на вопросы с помощью сети Interne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ANd9GcSMgQcGLj39YRb-3-oUTpJeGVdUd7_gMBZDMSiLfHLxFrpiAbtJ0w"/>
          <p:cNvPicPr/>
          <p:nvPr/>
        </p:nvPicPr>
        <p:blipFill>
          <a:blip r:embed="rId1"/>
          <a:stretch/>
        </p:blipFill>
        <p:spPr>
          <a:xfrm>
            <a:off x="7799400" y="5257800"/>
            <a:ext cx="1344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rule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ANd9GcSMgQcGLj39YRb-3-oUTpJeGVdUd7_gMBZDMSiLfHLxFrpiAbtJ0w"/>
          <p:cNvPicPr/>
          <p:nvPr/>
        </p:nvPicPr>
        <p:blipFill>
          <a:blip r:embed="rId2"/>
          <a:stretch/>
        </p:blipFill>
        <p:spPr>
          <a:xfrm>
            <a:off x="0" y="0"/>
            <a:ext cx="1152360" cy="13716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2209680" y="228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572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ть инсценировку «Ярмар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ка проблемы. Актуа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местное определение ц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бить класс на 4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ть задание каждой группе поработать с определёнными литературными источ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ой группе: 1) обнаружить в литературном источнике старинные меры длины; 2) зафиксировать обнаруженный фрагмент; 3) проиллюстрировать (на завершающем этапе). Каждая группа защищает свою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е задание (по жребию): проанализировать энциклопедическую литературу, подготовить сообщение об определённой мере д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е задание (практико-исследовательское): произвести измерения членов своей семьи в старинных мерах, заполнить сводную таблиц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систематизируются в единую папку «Семь раз отмерь…» (старинные меры длины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5181480" y="3581280"/>
            <a:ext cx="381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 древности, мерой длины и веса всегда был человек: на сколько он протянет руку, сколько сможет поднять на плеч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истема древнерусских мер длины включала в себя следующие основные меры: версту, сажень, аршин, локоть, пядь и вер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749680" cy="3124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41896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rule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ANd9GcSMgQcGLj39YRb-3-oUTpJeGVdUd7_gMBZDMSiLfHLxFrpiAbtJ0w"/>
          <p:cNvPicPr/>
          <p:nvPr/>
        </p:nvPicPr>
        <p:blipFill>
          <a:blip r:embed="rId2"/>
          <a:stretch/>
        </p:blipFill>
        <p:spPr>
          <a:xfrm>
            <a:off x="0" y="0"/>
            <a:ext cx="1154160" cy="1371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1905120" y="228600"/>
            <a:ext cx="6629400" cy="19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анализировать энциклопедическую литературу, подготовить сообщение об определённой мере дл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295280" y="10666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609480" y="1752480"/>
            <a:ext cx="5029200" cy="377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4"/>
          <a:stretch/>
        </p:blipFill>
        <p:spPr>
          <a:xfrm>
            <a:off x="5410080" y="3200400"/>
            <a:ext cx="35053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7:01:52Z</dcterms:created>
  <dc:creator>Admin</dc:creator>
  <dc:description/>
  <dc:language>en-US</dc:language>
  <cp:lastModifiedBy>Admin</cp:lastModifiedBy>
  <dcterms:modified xsi:type="dcterms:W3CDTF">2014-11-06T21:06:1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