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49.png" ContentType="image/png"/>
  <Override PartName="/ppt/media/image31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51.png" ContentType="image/png"/>
  <Override PartName="/ppt/media/image46.jpeg" ContentType="image/jpeg"/>
  <Override PartName="/ppt/media/image45.jpeg" ContentType="image/jpeg"/>
  <Override PartName="/ppt/media/image47.png" ContentType="image/png"/>
  <Override PartName="/ppt/media/image1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50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26D-EB21-4843-A991-00A0FBFDB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3A6-5F94-4FFF-A1D9-456076BD4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8BB-D47A-4236-AF77-7F0DD6A64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966-D0BA-459D-85F4-5F2C3244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C17-E3AC-4B15-8870-3199C07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3EB-CFE6-4F57-986C-7B2B42CA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2AF-8BB4-47B0-8DD9-3143A3CF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11E-51AA-4DA1-A9F1-99A711D4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39-48EA-44A3-9A05-0F8FC8C1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826-328A-40B6-82C0-56161B9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4DB-6B35-4E02-83CC-AABE86A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A0C-FDFB-4A25-AB76-617198D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659-6498-4C03-9CBD-3421CF4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B91-E60F-4772-8E8F-FA04DA3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165-2490-472E-A996-2BEE786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98A-C41D-4AEC-8A95-FE8CF662A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981080" y="304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ектная рабо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676520" y="6095880"/>
            <a:ext cx="6029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вторы: учащиеся 2 "А"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1752480" y="182880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"Семь раз отмерь..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1738440" y="3166920"/>
            <a:ext cx="5667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(старинные меры длины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0" y="0"/>
            <a:ext cx="960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304920"/>
          <a:ext cx="8004240" cy="6003720"/>
        </p:xfrm>
        <a:graphic>
          <a:graphicData uri="http://schemas.openxmlformats.org/drawingml/2006/table">
            <a:tbl>
              <a:tblPr/>
              <a:tblGrid>
                <a:gridCol w="1143000"/>
                <a:gridCol w="922320"/>
                <a:gridCol w="868320"/>
                <a:gridCol w="1031760"/>
                <a:gridCol w="990720"/>
                <a:gridCol w="685800"/>
                <a:gridCol w="1219320"/>
                <a:gridCol w="1143000"/>
              </a:tblGrid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око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яд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я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ли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хов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с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90360" y="15228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Фото-0106"/>
          <p:cNvPicPr/>
          <p:nvPr/>
        </p:nvPicPr>
        <p:blipFill>
          <a:blip r:embed="rId2"/>
          <a:stretch/>
        </p:blipFill>
        <p:spPr>
          <a:xfrm>
            <a:off x="5562720" y="3886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Татьяна\Desktop\SAM_0117.JPG"/>
          <p:cNvPicPr/>
          <p:nvPr/>
        </p:nvPicPr>
        <p:blipFill>
          <a:blip r:embed="rId3"/>
          <a:stretch/>
        </p:blipFill>
        <p:spPr>
          <a:xfrm>
            <a:off x="1517760" y="4065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Татьяна\Desktop\SAM_0116.JPG"/>
          <p:cNvPicPr/>
          <p:nvPr/>
        </p:nvPicPr>
        <p:blipFill>
          <a:blip r:embed="rId4"/>
          <a:stretch/>
        </p:blipFill>
        <p:spPr>
          <a:xfrm>
            <a:off x="297000" y="1593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Татьяна\Desktop\SAM_0123.JPG"/>
          <p:cNvPicPr/>
          <p:nvPr/>
        </p:nvPicPr>
        <p:blipFill>
          <a:blip r:embed="rId5"/>
          <a:stretch/>
        </p:blipFill>
        <p:spPr>
          <a:xfrm>
            <a:off x="3581280" y="1254240"/>
            <a:ext cx="2173320" cy="24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Users\Татьяна\Desktop\SAM_0126.JPG"/>
          <p:cNvPicPr/>
          <p:nvPr/>
        </p:nvPicPr>
        <p:blipFill>
          <a:blip r:embed="rId6"/>
          <a:stretch/>
        </p:blipFill>
        <p:spPr>
          <a:xfrm>
            <a:off x="6056280" y="1593720"/>
            <a:ext cx="2706840" cy="2030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7"/>
          <a:stretch/>
        </p:blipFill>
        <p:spPr>
          <a:xfrm>
            <a:off x="950760" y="-115920"/>
            <a:ext cx="74311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нные меры длины в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Nd9GcSMgQcGLj39YRb-3-oUTpJeGVdUd7_gMBZDMSiLfHLxFrpiAbtJ0w"/>
          <p:cNvPicPr/>
          <p:nvPr/>
        </p:nvPicPr>
        <p:blipFill>
          <a:blip r:embed="rId6"/>
          <a:stretch/>
        </p:blipFill>
        <p:spPr>
          <a:xfrm>
            <a:off x="0" y="0"/>
            <a:ext cx="1154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57200" y="228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0"/>
          <a:ext cx="8844120" cy="7743960"/>
        </p:xfrm>
        <a:graphic>
          <a:graphicData uri="http://schemas.openxmlformats.org/drawingml/2006/table">
            <a:tbl>
              <a:tblPr/>
              <a:tblGrid>
                <a:gridCol w="2613240"/>
                <a:gridCol w="2597040"/>
                <a:gridCol w="363384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минание меры дл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Мамин-Сибиря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ого места, где можно было плавать, оставалось не больше пятнадцати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Х.Андерс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в чашечке цветка сидела хорошенькая крошечная девочка ростом не бол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юйм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Ер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ёк Горбу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Да игрушечку-конь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стом только в три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ерш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пине с двумя гор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ным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ш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.Некр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душка Мазай и зай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С каждой минутой вода подбира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 бедным зверькам; уж под ними оста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и в ширин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сажен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дли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Погоре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ёрная курица, или подземные жител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отворилась боковая дверь… и вошло множество маленьких людей, ростом не более как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л-арши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С.Пу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Царе Салта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Сына Бог ей дал в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М.Гар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ягушка –путешествен-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..тащить хотя и лёгкую лягушку три тысячи 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с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бог знает какое удовольствие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сказок Д.К.Зеле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 «Кожа медвежья – лицо человеч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бегает, сам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готок 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рода с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окото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зн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иченька – невеличенька, сама с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шо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олова с горш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12128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228600"/>
          <a:ext cx="8001000" cy="91440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4343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Мамин-Сибир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ого места, где можно было плавать, оставалось не больше пятнадцати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же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26" descr="%D1%81%D0%B5%D1%80%D0%B0%D1%8F-%D1%88%D0%B5%D0%B9%D0%BA%D0%B0"/>
          <p:cNvPicPr/>
          <p:nvPr/>
        </p:nvPicPr>
        <p:blipFill>
          <a:blip r:embed="rId2"/>
          <a:stretch/>
        </p:blipFill>
        <p:spPr>
          <a:xfrm>
            <a:off x="1447920" y="1295280"/>
            <a:ext cx="6553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Сажень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87200" y="2000160"/>
            <a:ext cx="748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1 сажень = 213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sazheni.gif"/>
          <p:cNvPicPr/>
          <p:nvPr/>
        </p:nvPicPr>
        <p:blipFill>
          <a:blip r:embed="rId1"/>
          <a:stretch/>
        </p:blipFill>
        <p:spPr>
          <a:xfrm>
            <a:off x="3286080" y="3500280"/>
            <a:ext cx="28576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110403052744!%D0%9B%D1%8F%D0%B3%D1%83%D1%88%D0%BA%D0%B0-%D0%BF%D1%83%D1%82%D0%B5%D1%88%D0%B5%D1%81%D1%82%D0%B2%D0%B5%D0%BD%D0%BD%D0%B8%D1%86%D0%B0_(%D0%BC%D1%83%D0%BB%D1%8C%D1%82%D1%84%D0%B8%D0%BB%D1%8C%D0%BC,_1965)"/>
          <p:cNvPicPr/>
          <p:nvPr/>
        </p:nvPicPr>
        <p:blipFill>
          <a:blip r:embed="rId1"/>
          <a:stretch/>
        </p:blipFill>
        <p:spPr>
          <a:xfrm>
            <a:off x="1981080" y="2666880"/>
            <a:ext cx="525780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04920" y="30492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М.Гар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ягушка –путешественниц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..тащить хотя и лёгкую лягушку три тысячи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с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бог знает какое удовольствие…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571680" y="285840"/>
            <a:ext cx="77752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nsolas"/>
              </a:rPr>
              <a:t>На Руси было два вида сажени</a:t>
            </a:r>
            <a:r>
              <a:rPr b="1" lang="uk-UA" sz="3600" spc="-1" strike="noStrike">
                <a:solidFill>
                  <a:srgbClr val="333399"/>
                </a:solidFill>
                <a:latin typeface="Consolas"/>
              </a:rPr>
              <a:t>:</a:t>
            </a:r>
            <a:r>
              <a:rPr b="1" lang="ru-RU" sz="3600" spc="-1" strike="noStrike">
                <a:solidFill>
                  <a:srgbClr val="333399"/>
                </a:solidFill>
                <a:latin typeface="Consolas"/>
              </a:rPr>
              <a:t> маховая сажень и косая саж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Копия (2) 100"/>
          <p:cNvPicPr/>
          <p:nvPr/>
        </p:nvPicPr>
        <p:blipFill>
          <a:blip r:embed="rId1"/>
          <a:stretch/>
        </p:blipFill>
        <p:spPr>
          <a:xfrm>
            <a:off x="685800" y="1981080"/>
            <a:ext cx="3867120" cy="18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>
            <a:off x="914400" y="5181480"/>
            <a:ext cx="23623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5105520" y="22860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Line 7"/>
          <p:cNvSpPr/>
          <p:nvPr/>
        </p:nvSpPr>
        <p:spPr>
          <a:xfrm>
            <a:off x="5562720" y="2514600"/>
            <a:ext cx="1904760" cy="3733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от правды на пядень, а она от тебя на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упишь на пядь, потеряешь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ая сажень в пле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s37"/>
          <p:cNvPicPr/>
          <p:nvPr/>
        </p:nvPicPr>
        <p:blipFill>
          <a:blip r:embed="rId1"/>
          <a:stretch/>
        </p:blipFill>
        <p:spPr>
          <a:xfrm>
            <a:off x="1600200" y="2057400"/>
            <a:ext cx="5715000" cy="43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143000" y="457200"/>
          <a:ext cx="6781680" cy="106668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Пушк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Царе Салтан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Сына Бог ей дал в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рши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720720"/>
            <a:ext cx="8229600" cy="613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21752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порт  проектной работ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  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звание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«Семь раз отмерь…» (старинные меры длины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Наширбанова Т.А. учитель  начальных  классов  МКОУ СОШ №6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ект реализу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уроках: Математи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раст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 который рассчитан проект: 7-8 лет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ы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учащиеся 2 «А» класса МКОУ СОШ № 6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информационно-исследовательский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      Электронная презентация, папка «Семь раз отмерь…»(старинные меры длины).                                              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0_5e04a_7933260b_XL"/>
          <p:cNvPicPr/>
          <p:nvPr/>
        </p:nvPicPr>
        <p:blipFill>
          <a:blip r:embed="rId1"/>
          <a:stretch/>
        </p:blipFill>
        <p:spPr>
          <a:xfrm>
            <a:off x="380880" y="2133720"/>
            <a:ext cx="640080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57200" y="152280"/>
          <a:ext cx="8229600" cy="2225880"/>
        </p:xfrm>
        <a:graphic>
          <a:graphicData uri="http://schemas.openxmlformats.org/drawingml/2006/table">
            <a:tbl>
              <a:tblPr/>
              <a:tblGrid>
                <a:gridCol w="2208240"/>
                <a:gridCol w="2641680"/>
                <a:gridCol w="337968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.Некрас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душка Мазай и зайц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С каждой минутой вода подбиралас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 бедным зверькам; уж под ними осталос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арши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и в ширину,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сажен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длин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Pivovarov_VD-Chernaya-kuritza-Pogorelskiy_A"/>
          <p:cNvPicPr/>
          <p:nvPr/>
        </p:nvPicPr>
        <p:blipFill>
          <a:blip r:embed="rId1"/>
          <a:stretch/>
        </p:blipFill>
        <p:spPr>
          <a:xfrm>
            <a:off x="2819520" y="2438280"/>
            <a:ext cx="31986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04920" y="380880"/>
          <a:ext cx="8229600" cy="192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Погоре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ёрная курица, или подземные ж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отворилась боковая дверь… и вошло множество маленьких людей, ростом не более как с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л-аршин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600" spc="-1" strike="noStrike">
                <a:solidFill>
                  <a:srgbClr val="333399"/>
                </a:solidFill>
                <a:latin typeface="Arial"/>
              </a:rPr>
              <a:t>Аршин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rshin"/>
          <p:cNvPicPr/>
          <p:nvPr/>
        </p:nvPicPr>
        <p:blipFill>
          <a:blip r:embed="rId1"/>
          <a:stretch/>
        </p:blipFill>
        <p:spPr>
          <a:xfrm>
            <a:off x="304920" y="3352680"/>
            <a:ext cx="3433680" cy="288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1367280" y="2071800"/>
            <a:ext cx="62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 аршин = 71 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56" name="Line 6"/>
          <p:cNvSpPr/>
          <p:nvPr/>
        </p:nvSpPr>
        <p:spPr>
          <a:xfrm>
            <a:off x="6095880" y="46483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шин на кафтан, да два на запла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три аршина в землю ви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купец на свой аршин меря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ршин борода, да ума на пядь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ать о чужих грехах аршинами, а о своих — строчными бук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rshov5_32.jpg"/>
          <p:cNvPicPr/>
          <p:nvPr/>
        </p:nvPicPr>
        <p:blipFill>
          <a:blip r:embed="rId1"/>
          <a:stretch/>
        </p:blipFill>
        <p:spPr>
          <a:xfrm>
            <a:off x="2133720" y="2209680"/>
            <a:ext cx="5333760" cy="42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80880" y="304920"/>
          <a:ext cx="8305920" cy="1493640"/>
        </p:xfrm>
        <a:graphic>
          <a:graphicData uri="http://schemas.openxmlformats.org/drawingml/2006/table">
            <a:tbl>
              <a:tblPr/>
              <a:tblGrid>
                <a:gridCol w="1676520"/>
                <a:gridCol w="1828800"/>
                <a:gridCol w="4800600"/>
              </a:tblGrid>
              <a:tr h="150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Ерш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НЕК - ГОРБУ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 игрушечку-конь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ом только в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ри верш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пине с двумя горб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с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ршинными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ш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286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olas"/>
              </a:rPr>
              <a:t>Для измерений часто использовали верхню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olas"/>
              </a:rPr>
              <a:t>часть пальца - вер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59560" y="350532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 Вершок = 4 см 4 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560320" y="142920"/>
            <a:ext cx="44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Corbel"/>
              </a:rPr>
              <a:t>Верш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4952880" y="405756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66" name="Line 11"/>
          <p:cNvSpPr/>
          <p:nvPr/>
        </p:nvSpPr>
        <p:spPr>
          <a:xfrm>
            <a:off x="5791320" y="43434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е суббота через пятницу на два вершка вылез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вершка (или полвершка) от горшка, а уже указч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ода с вершок, а слов с ме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752480" y="2190600"/>
            <a:ext cx="563904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52280" y="304920"/>
          <a:ext cx="8686800" cy="1447560"/>
        </p:xfrm>
        <a:graphic>
          <a:graphicData uri="http://schemas.openxmlformats.org/drawingml/2006/table">
            <a:tbl>
              <a:tblPr/>
              <a:tblGrid>
                <a:gridCol w="2567160"/>
                <a:gridCol w="2550960"/>
                <a:gridCol w="356868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Х.Андер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…в чашечке цветка сидела хорошенькая крошечная девочка ростом не больше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юйм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амая маленькая древняя мера в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транах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Дюйм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– мера, равная дл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ерхней фаланги большого пальца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1 дюйм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= 2,5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496040" cy="307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>
            <a:off x="6553080" y="3886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33520" y="1219320"/>
            <a:ext cx="838188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Пер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старинное название указательного пальца руки , ширина которого равна приблизитель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2 см.</a:t>
            </a:r>
            <a:br>
              <a:rPr sz="4800"/>
            </a:b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3200400" cy="253368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>
            <a:off x="6095880" y="4343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Администратор\Desktop\фото проектов\P1050936.JPG"/>
          <p:cNvPicPr/>
          <p:nvPr/>
        </p:nvPicPr>
        <p:blipFill>
          <a:blip r:embed="rId3"/>
          <a:stretch/>
        </p:blipFill>
        <p:spPr>
          <a:xfrm>
            <a:off x="1600200" y="304920"/>
            <a:ext cx="68436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152280" y="1600200"/>
            <a:ext cx="6572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 малая пядь = 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ая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пядь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2—23 с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215040" y="1785960"/>
            <a:ext cx="1738440" cy="2071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33cc"/>
                </a:solidFill>
                <a:latin typeface="Arial"/>
              </a:rPr>
              <a:t>ПЯДЬ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638680" y="424800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от правды на пядень, а она от тебя на саж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упишь на пядь, потеряешь саж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 пядей во лб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ршин борода, да ума на пядь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ладон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14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>
            <a:off x="2286000" y="327672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765-84DC-4BFF-B76A-D4CC76667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               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Локо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т локтевого сги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о конца вытяну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реднего     п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1 локоть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 = 46 - 47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692440" cy="4038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038480" y="41148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93" name="Line 6"/>
          <p:cNvSpPr/>
          <p:nvPr/>
        </p:nvSpPr>
        <p:spPr>
          <a:xfrm>
            <a:off x="6553080" y="4267080"/>
            <a:ext cx="45720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 с ноготок, а борода с локо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фу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 flipV="1">
            <a:off x="1981080" y="4190760"/>
            <a:ext cx="2438640" cy="75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ша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 flipV="1">
            <a:off x="2057400" y="5334120"/>
            <a:ext cx="518148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нул и царство покор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шагу наз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928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nsolas"/>
              </a:rPr>
              <a:t>ВЕРС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428840" y="2071800"/>
            <a:ext cx="64008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 верста = 1067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Documents and Settings\05\Рабочий стол\меры длины\длина\верста\верста2.jpg"/>
          <p:cNvPicPr/>
          <p:nvPr/>
        </p:nvPicPr>
        <p:blipFill>
          <a:blip r:embed="rId1"/>
          <a:stretch/>
        </p:blipFill>
        <p:spPr>
          <a:xfrm>
            <a:off x="1371600" y="3124080"/>
            <a:ext cx="2371680" cy="3162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C:\Documents and Settings\05\Рабочий стол\меры длины\длина\верста\верста3.jpg"/>
          <p:cNvPicPr/>
          <p:nvPr/>
        </p:nvPicPr>
        <p:blipFill>
          <a:blip r:embed="rId2"/>
          <a:stretch/>
        </p:blipFill>
        <p:spPr>
          <a:xfrm>
            <a:off x="4572000" y="2971800"/>
            <a:ext cx="2476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911-6BB5-4EDA-8BF2-056ED6A64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подмосковном селе Коломенском наход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етняя резиденция царя Алексея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орога туда была оживленной, широк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читалась главной в государстве. А уж к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ставили огромные верстовые столбы, ка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России еще не бывало, слава этой дор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озросла еще более. Смекалистый народ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минул воспользоваться новинкой и окрест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олговязого человека колом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рстой. Так до сих пор и велич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d31_3"/>
          <p:cNvPicPr/>
          <p:nvPr/>
        </p:nvPicPr>
        <p:blipFill>
          <a:blip r:embed="rId1"/>
          <a:stretch/>
        </p:blipFill>
        <p:spPr>
          <a:xfrm>
            <a:off x="571500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152280"/>
            <a:ext cx="134460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1371600" y="76212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вседневной жизни мы сталкиваемся с математическими величинами ежедневно. Мы, не задумываясь,  производим различные вычис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современными единицами измерения длины мы  знакомы. Они удобны и понятн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но, а как измеряли длину на Руси в старые време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ы не используем старинные  единицы измерения длины в наше врем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Русские 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верстой далека, а сердцу ря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не верстами мер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лова до дела — целая вер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стой ближе, пятаком дешев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 верст молодцу не крю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за версту ви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мысли до мысли пять тысяч в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нись верстой, да не будь прос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ёт семь верст до небес, и все л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семь верст комара искали, а комар — на н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23560" y="571680"/>
            <a:ext cx="857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етрическая система ме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была введе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в нашей стране в 1918 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7989840" cy="2543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006960" y="60721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лон 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наше время так же использу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милл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сант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1 кил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838080" y="228600"/>
            <a:ext cx="72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РИТЕЛЬНЫЕ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-main-pic" descr="Картинка 11 из 55809"/>
          <p:cNvPicPr/>
          <p:nvPr/>
        </p:nvPicPr>
        <p:blipFill>
          <a:blip r:embed="rId1"/>
          <a:stretch/>
        </p:blipFill>
        <p:spPr>
          <a:xfrm>
            <a:off x="0" y="3733920"/>
            <a:ext cx="5372280" cy="3543120"/>
          </a:xfrm>
          <a:prstGeom prst="rect">
            <a:avLst/>
          </a:prstGeom>
          <a:ln w="0">
            <a:noFill/>
          </a:ln>
        </p:spPr>
      </p:pic>
      <p:pic>
        <p:nvPicPr>
          <p:cNvPr id="222" name="i-main-pic" descr="Картинка 1 из 1088"/>
          <p:cNvPicPr/>
          <p:nvPr/>
        </p:nvPicPr>
        <p:blipFill>
          <a:blip r:embed="rId2"/>
          <a:stretch/>
        </p:blipFill>
        <p:spPr>
          <a:xfrm rot="20574600">
            <a:off x="5791320" y="4723920"/>
            <a:ext cx="3649680" cy="1752840"/>
          </a:xfrm>
          <a:prstGeom prst="rect">
            <a:avLst/>
          </a:prstGeom>
          <a:ln w="0">
            <a:noFill/>
          </a:ln>
        </p:spPr>
      </p:pic>
      <p:pic>
        <p:nvPicPr>
          <p:cNvPr id="223" name="i-main-pic" descr="Картинка 2 из 243"/>
          <p:cNvPicPr/>
          <p:nvPr/>
        </p:nvPicPr>
        <p:blipFill>
          <a:blip r:embed="rId3"/>
          <a:stretch/>
        </p:blipFill>
        <p:spPr>
          <a:xfrm>
            <a:off x="5029200" y="2438280"/>
            <a:ext cx="4114800" cy="3063960"/>
          </a:xfrm>
          <a:prstGeom prst="rect">
            <a:avLst/>
          </a:prstGeom>
          <a:ln w="0">
            <a:noFill/>
          </a:ln>
        </p:spPr>
      </p:pic>
      <p:pic>
        <p:nvPicPr>
          <p:cNvPr id="224" name="i-main-pic" descr="Картинка 1 из 2208"/>
          <p:cNvPicPr/>
          <p:nvPr/>
        </p:nvPicPr>
        <p:blipFill>
          <a:blip r:embed="rId4"/>
          <a:stretch/>
        </p:blipFill>
        <p:spPr>
          <a:xfrm>
            <a:off x="3581280" y="228600"/>
            <a:ext cx="4496040" cy="37623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3 из 11177"/>
          <p:cNvPicPr/>
          <p:nvPr/>
        </p:nvPicPr>
        <p:blipFill>
          <a:blip r:embed="rId5"/>
          <a:stretch/>
        </p:blipFill>
        <p:spPr>
          <a:xfrm>
            <a:off x="228600" y="990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Иллюстрированный толковый словарь русского языка/ В. И. Даль. – М.: Эксмо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узнецов С. А. Большой толковый словарь русского языка. – М.: Норинт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Мокиенко В. М. Загадки русской фразеологии. Санкт-Петербург: Авалон, Азбука-классика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Олехник  С.Н., Нестеренко Ю.В., Потапов М.К.  Старинные занимательные задачи.- М.: Наука, Главная редакция физико-математической литературы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Русская система мер. Википедия — свободная энциклопе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D0%F3%F1%F1%EA%E0%FF_%F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8%F1%F2%E5%EC%E0_%EC%E5%F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усские пословицы и поговорки/Под ред. В. П. Аникина. – М.: Художественная литература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Савенков А. И. Я – исследователь. Учебник-тетрадь для младших школьников. – Самара: Учебная литература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таринные русские МЕРЫ длины, веса, объёма и площади. http://mer.kakras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Усачёв А. А. Считарь. Числа, счёт, сложение. – М.: РООССА, 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Ушаков Д. Н. Большой толковый словарь современного русского языка. - М.: Альта-Принт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Энциклопедический словарь юного математика/ А. П. Савин.— М.: Педагогика-Пресс,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Я познаю мир: Математика: Детская энциклопедия/Авт.-сост. А. П. Савин и др. – М.: Издательство АСТ: ООО «Издательство Астрель»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025640" cy="1219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накомиться с измерительной системой, которая существовала ран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ить взаимосвязь между старой  измерительной системой и нов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следить отражение старых мер в русском фольклор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овести исследования, с целью расширения наших знаний по математике и кругозор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859320" y="388800"/>
            <a:ext cx="77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какие меры длины существовали на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и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а и почему 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яют цель исследован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какие меры длины существовали в старинные времена на Рус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 какими измерительными приборами измеряют длину в настоящее время и пользовались в старинные времена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в каких литературных источниках встречаются названия старинных мер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что означают пословицы, поговорки, шутки, фразеологизмы, в которых встречаются названия старинных мер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эксперимент с измерением длины в старинных единиц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ть вы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ть возможные пути дальнейшего исслед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исследовательско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редполагаем, что старинные меры длины утратили свою значимость по причине своей неточности и были заменены на единицы измерения принятые во всём мир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ть самостоятельно, что мы знаем о современн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ных мерах д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специальную литератур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ответы на вопросы с помощью сети Interne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SMgQcGLj39YRb-3-oUTpJeGVdUd7_gMBZDMSiLfHLxFrpiAbtJ0w"/>
          <p:cNvPicPr/>
          <p:nvPr/>
        </p:nvPicPr>
        <p:blipFill>
          <a:blip r:embed="rId1"/>
          <a:stretch/>
        </p:blipFill>
        <p:spPr>
          <a:xfrm>
            <a:off x="7799400" y="5257800"/>
            <a:ext cx="1344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15236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209680" y="228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инсценировку «Ярмар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проблемы. Акт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е определение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ить класс на 4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задание каждой группе поработать с определёнными литературными источ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группе: 1) обнаружить в литературном источнике старинные меры длины; 2) зафиксировать обнаруженный фрагмент; 3) проиллюстрировать (на завершающем этапе). Каждая группа защищает сво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задание (по жребию): проанализировать энциклопедическую литературу, подготовить сообщение об определённой мере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задание (практико-исследовательское): произвести измерения членов своей семьи в старинных мерах, заполнить сводную таблиц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систематизируются в единую папку «Семь раз отмерь…» (старинные меры длины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181480" y="358128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стема древнерусских мер длины включала в себя следующие основные меры: версту, сажень, аршин, локоть, пядь и вер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74968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418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rul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Nd9GcSMgQcGLj39YRb-3-oUTpJeGVdUd7_gMBZDMSiLfHLxFrpiAbtJ0w"/>
          <p:cNvPicPr/>
          <p:nvPr/>
        </p:nvPicPr>
        <p:blipFill>
          <a:blip r:embed="rId2"/>
          <a:stretch/>
        </p:blipFill>
        <p:spPr>
          <a:xfrm>
            <a:off x="0" y="0"/>
            <a:ext cx="115416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905120" y="228600"/>
            <a:ext cx="662940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энциклопедическую литературу, подготовить сообщение об определённой мере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95280" y="1066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5410080" y="3200400"/>
            <a:ext cx="35053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01:52Z</dcterms:created>
  <dc:creator>Admin</dc:creator>
  <dc:description/>
  <dc:language>en-US</dc:language>
  <cp:lastModifiedBy>Admin</cp:lastModifiedBy>
  <dcterms:modified xsi:type="dcterms:W3CDTF">2014-11-06T21:06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