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A254-02C5-4BCD-8CC7-C68A42DF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AF78-AC0B-4D97-A242-09F27934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1B17-5D5D-47FE-A01F-0BB1B5FC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B926-69FC-4718-B8A4-7C63E028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2BA4-166C-4B23-82FF-28CBEC3B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BA92-216C-4AAB-A47D-B3AEB004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CB82-616A-420A-81D3-228C1DA1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EE86-D758-4BE0-9CD9-98508327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BEAC-2A40-479A-8738-44D96AEC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E962-6D28-4806-B5C6-5E9B1DE5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516F-950D-436D-B51D-482AEF8A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35DE-857D-4CCC-834F-20F04840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3393-9088-4DD2-B5B5-157C1648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9B1D-B5BA-4E8E-903F-DBC16706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D837-E3A0-4A05-B800-65931BCA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B58E-604A-4B9E-97B8-0F7F949C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7D80-FCAE-4E69-BE74-B3957223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83CC-C37A-4529-8330-FFE03D85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D5EE-B4A8-4019-9F7D-8E670FC2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EDF7-E520-4666-8E0A-EE10760B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D007-A51D-466C-AE12-2FA49219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90E9-CAF6-4047-906D-FD5100A0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1520-5EC7-4054-8BA7-FAAD99AA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EC26-E67D-4FB0-80B1-60666C97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3245-9534-4000-907D-F4F57388A7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4060-59C4-448D-8C01-CE7086BDE07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Развитие личностных компетенций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347640" y="3573000"/>
            <a:ext cx="2879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примере работы отряда ЮИ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50920" y="549360"/>
          <a:ext cx="8642160" cy="5181480"/>
        </p:xfrm>
        <a:graphic>
          <a:graphicData uri="http://schemas.openxmlformats.org/drawingml/2006/table">
            <a:tbl>
              <a:tblPr/>
              <a:tblGrid>
                <a:gridCol w="3913200"/>
                <a:gridCol w="2381040"/>
                <a:gridCol w="2347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сновное общее образ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e8ec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цениваемые составляющие требов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e8ec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редства ре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e8ecf7"/>
                    </a:solidFill>
                  </a:tcPr>
                </a:tc>
              </a:tr>
              <a:tr h="426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) </a:t>
                      </a: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развитие морального сознания и компетентност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ешении моральных проблем на основе личностного выбора, формирование нравственных чувств и нравственного поведения, осознанного и ответственного отношения к собственным поступкам;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cdd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10) Ответственность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11) Нравственное поведение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cdd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кум решения задач по ПД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cdd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95280" y="549360"/>
          <a:ext cx="8424720" cy="5146560"/>
        </p:xfrm>
        <a:graphic>
          <a:graphicData uri="http://schemas.openxmlformats.org/drawingml/2006/table">
            <a:tbl>
              <a:tblPr/>
              <a:tblGrid>
                <a:gridCol w="4013280"/>
                <a:gridCol w="1990800"/>
                <a:gridCol w="24206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сновное общее образ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e8ec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цениваемые составляющие требов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e8ec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редства ре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e8ecf7"/>
                    </a:solidFill>
                  </a:tcPr>
                </a:tc>
              </a:tr>
              <a:tr h="422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)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формирование коммуникативной компетентности в общении и  сотрудничестве со сверстникам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детьми старшего и младшего возраста, взрослыми в процессе образовательной, общественно полезной, учебно-исследовательской, творческой и других видов деятельности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cdd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12) Навыки цивилизованного общения и сотрудничества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cdd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Интерактивные и деловые иг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Участие в социальных проектах «Мой друг велосипед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езопасное колесо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cdd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539640" y="549360"/>
          <a:ext cx="8604360" cy="6176880"/>
        </p:xfrm>
        <a:graphic>
          <a:graphicData uri="http://schemas.openxmlformats.org/drawingml/2006/table">
            <a:tbl>
              <a:tblPr/>
              <a:tblGrid>
                <a:gridCol w="4438800"/>
                <a:gridCol w="2030400"/>
                <a:gridCol w="21351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сновное общее образ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e8ec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цениваемые составляющие требов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e8ec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редства ре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e8ecf7"/>
                    </a:solidFill>
                  </a:tcPr>
                </a:tc>
              </a:tr>
              <a:tr h="525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)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формирование ценности  здорового и безопасного образа жизни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воение правил индивидуального и коллективного безопасного поведения в чрезвычайных ситуациях, угрожающих жизни и здоровью людей, правил поведения на транспорте и на дорогах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cdd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13) Здоровый и безопасный образ жизни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14) Уважение к труду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cdd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Тематические часы «Первая медицинская помощь при ДТП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Экскурсии по город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cdd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611280" y="549360"/>
          <a:ext cx="7921440" cy="4840200"/>
        </p:xfrm>
        <a:graphic>
          <a:graphicData uri="http://schemas.openxmlformats.org/drawingml/2006/table">
            <a:tbl>
              <a:tblPr/>
              <a:tblGrid>
                <a:gridCol w="4086000"/>
                <a:gridCol w="1995480"/>
                <a:gridCol w="1839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сновное общее образ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e8ec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цениваемые составляющие требов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e8ec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редства ре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e8ecf7"/>
                    </a:solidFill>
                  </a:tcPr>
                </a:tc>
              </a:tr>
              <a:tr h="39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)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формирование основ экологической культур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ветствующей современному уровню экологического мышления, развитие опыта экологически ориентированной рефлексивно-оценочной и практической  деятельности в жизненных ситуациях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cdd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15) Экологическая куль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cdd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логические акции, агитбригады, конкурсы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логической направленности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cdd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468360" y="549360"/>
          <a:ext cx="8424720" cy="3797280"/>
        </p:xfrm>
        <a:graphic>
          <a:graphicData uri="http://schemas.openxmlformats.org/drawingml/2006/table">
            <a:tbl>
              <a:tblPr/>
              <a:tblGrid>
                <a:gridCol w="4344840"/>
                <a:gridCol w="2124000"/>
                <a:gridCol w="1955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сновное общее образ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e8ec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цениваемые составляющие требов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e8ec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редства ре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e8ecf7"/>
                    </a:solidFill>
                  </a:tcPr>
                </a:tc>
              </a:tr>
              <a:tr h="288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)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сознание значения семьи в жизни человека и обществ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ценности семейной жизни, уважительное и заботливое отношение к членам своей семьи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cdd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16) Отзывчивость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17) Понимание ценности человеческой жизни, семьи, гражданского общества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cdd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семейных конкурсов рисунков, фотографий, презентац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cdd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684360" y="1413000"/>
          <a:ext cx="7993080" cy="3735360"/>
        </p:xfrm>
        <a:graphic>
          <a:graphicData uri="http://schemas.openxmlformats.org/drawingml/2006/table">
            <a:tbl>
              <a:tblPr/>
              <a:tblGrid>
                <a:gridCol w="3619440"/>
                <a:gridCol w="2516040"/>
                <a:gridCol w="18576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сновное общее образ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e8ec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цениваемые составляющие требов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e8ec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редства ре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e8ecf7"/>
                    </a:solidFill>
                  </a:tcPr>
                </a:tc>
              </a:tr>
              <a:tr h="281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)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развитие эстетического сознани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освоение художественного наследия народов России и мира,  творческой деятельности эстетического характер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cdd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18) Эстетическая куль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cdd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районных, областных творческих конкурсах и фестивалях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cdd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:\Документы - Игорь\Загрузки\Новая папка\202.ht1.gif"/>
          <p:cNvPicPr/>
          <p:nvPr/>
        </p:nvPicPr>
        <p:blipFill>
          <a:blip r:embed="rId1"/>
          <a:stretch/>
        </p:blipFill>
        <p:spPr>
          <a:xfrm>
            <a:off x="2124000" y="0"/>
            <a:ext cx="4319640" cy="34480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0"/>
          <p:cNvSpPr/>
          <p:nvPr/>
        </p:nvSpPr>
        <p:spPr>
          <a:xfrm>
            <a:off x="324000" y="350028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ятельный и активны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804000" y="62064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ворческ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1619280" y="595008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Любознательны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1476360" y="443700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нициативны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324000" y="134136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ткрыты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4067280" y="400536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брожелательны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4788000" y="486900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тзывчивы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6443640" y="270828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веренны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6300720" y="5950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тветственны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684360" y="515772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оммуникабельны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4920" y="836640"/>
            <a:ext cx="8518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современном образовании осуществляется перехо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т «школы знания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школе понимания»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оритет коммуникации над информацией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оритет понимания над знание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Основные понят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мпетенция – заданное требование (норма) к                       осуществлению определенного вида деятельности (внешний фактор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мпетентность – уровень усвоения компетенций на высоком уровне и применение в нестандартных ситуациях (внутренний фактор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Личностная компетентность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50920" y="907920"/>
            <a:ext cx="8893080" cy="69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-готовность и способность обучающихся к саморазвитию и личностному самоопределению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-   сформированность  мотивации к обучению и целенаправленной познавательной деятельности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- системы значимых социальных и межличностных отношений, ценностно-смысловых установок, отражающих личностные и гражданские позиции в деятельности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оциальные компетенции, правосознание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пособность ставить цели и строить жизненные планы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- способность к осознанию российской идентичности в поликультурном социум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324000" y="1125360"/>
          <a:ext cx="8351640" cy="5394600"/>
        </p:xfrm>
        <a:graphic>
          <a:graphicData uri="http://schemas.openxmlformats.org/drawingml/2006/table">
            <a:tbl>
              <a:tblPr/>
              <a:tblGrid>
                <a:gridCol w="4238640"/>
                <a:gridCol w="2071440"/>
                <a:gridCol w="20415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сновное общее образ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e8ec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цениваемые составляющие требов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e8ec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редства ре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e8ecf7"/>
                    </a:solidFill>
                  </a:tcPr>
                </a:tc>
              </a:tr>
              <a:tr h="44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оспитание российской гражданской идентичности: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иотизма, уважения к Отечеству, прошлое и настоящее многонационального народа России; осознание своей этнической принадлежности, знание истории, языка, культуры своего народа, своего края, основ культурного наследия народов России и человечества; усвоение гуманистических, демократических и традиционных ценностей многонационального российского общества; воспитание чувства ответственности и долга перед Родино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cdd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Т1) Осознание себя гражданином России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Т2) Гуманистические и демократические ценностные ориентации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cdd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Тематическое занятие «Знакомство с историей движения отрядов ЮИД в СССР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. Создание альбома «ЮИД в школе №154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cdd8ef"/>
                    </a:solidFill>
                  </a:tcPr>
                </a:tc>
              </a:tr>
            </a:tbl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Требования к личностным результатам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95280" y="549360"/>
          <a:ext cx="8280360" cy="5823000"/>
        </p:xfrm>
        <a:graphic>
          <a:graphicData uri="http://schemas.openxmlformats.org/drawingml/2006/table">
            <a:tbl>
              <a:tblPr/>
              <a:tblGrid>
                <a:gridCol w="4032360"/>
                <a:gridCol w="2128680"/>
                <a:gridCol w="2119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сновное общее образ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e8ec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цениваемые составляющие требов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e8ec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редства ре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e8ecf7"/>
                    </a:solidFill>
                  </a:tcPr>
                </a:tc>
              </a:tr>
              <a:tr h="49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ответственного отношения к учению, готовности и способности обучающихся к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аморазвитию и самообразованию на основе мотивации к обучению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нию,  осознанному выбору и построению дальнейшей индивидуальной траектории образования на базе ориентировки в мире профессий и профессиональных предпочтений, с учётом устойчивых познавательных интересов, а также на основе формирования уважительного отношения к труду, развития опыта участия в социально значимом труде;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cdd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3) Мотивированность на  учебную деятельность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4) Опыт участия в социально значимой деятельности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cdd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заимосвязь с инспектором дорожного движе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Конкурс презентаций «Дорожные професси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cdd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50920" y="1052640"/>
          <a:ext cx="8569080" cy="4537080"/>
        </p:xfrm>
        <a:graphic>
          <a:graphicData uri="http://schemas.openxmlformats.org/drawingml/2006/table">
            <a:tbl>
              <a:tblPr/>
              <a:tblGrid>
                <a:gridCol w="4249800"/>
                <a:gridCol w="2328840"/>
                <a:gridCol w="19904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сновное общее образ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e8ec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цениваемые составляющие требов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e8ec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редства ре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e8ecf7"/>
                    </a:solidFill>
                  </a:tcPr>
                </a:tc>
              </a:tr>
              <a:tr h="362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</a:t>
                      </a: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формирование целостного мировоззрения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ветствующего современному уровню развития науки и общественной практики, учитывающего социальное, культурное, языковое, духовное многообразие современного мира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cdd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5) Целостное мировоззрение, соответствующее культуре современного общества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cdd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театра, выставок (Диорама)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еев и др.культурных заведе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cdd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79280" y="549360"/>
          <a:ext cx="8640720" cy="5878440"/>
        </p:xfrm>
        <a:graphic>
          <a:graphicData uri="http://schemas.openxmlformats.org/drawingml/2006/table">
            <a:tbl>
              <a:tblPr/>
              <a:tblGrid>
                <a:gridCol w="3571920"/>
                <a:gridCol w="3062520"/>
                <a:gridCol w="20062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сновное общее образ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e8ec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цениваемые составляющие требов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e8ec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редства ре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e8ecf7"/>
                    </a:solidFill>
                  </a:tcPr>
                </a:tc>
              </a:tr>
              <a:tr h="49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</a:t>
                      </a:r>
                      <a:r>
                        <a:rPr b="1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формирование осознанного, уважительного и доброжелательного отношения к другому человеку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го мнению, мировоззрению, культуре, языку, вере, гражданской позиции, к истории, культуре, религии, традициям, языкам, ценностям народов России и народов мира; готовности и способности вести диалог с другими людьми и достигать в нём взаимопонимания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cdd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6) Толерантность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7) Доброжелательность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cdd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актикум по решению задач и разбору причин ДТП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ыявление основных причин ДТП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Шефство над младшими школьникам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роведение викторин, бесед, игр по ПДД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cdd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24000" y="549360"/>
          <a:ext cx="8496000" cy="5668920"/>
        </p:xfrm>
        <a:graphic>
          <a:graphicData uri="http://schemas.openxmlformats.org/drawingml/2006/table">
            <a:tbl>
              <a:tblPr/>
              <a:tblGrid>
                <a:gridCol w="3735360"/>
                <a:gridCol w="2817720"/>
                <a:gridCol w="1942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сновное общее образ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e8ec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цениваемые составляющие требов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e8ec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редства ре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e8ecf7"/>
                    </a:solidFill>
                  </a:tcPr>
                </a:tc>
              </a:tr>
              <a:tr h="47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 </a:t>
                      </a: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своение социальных норм, правил поведения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ей и форм социальной жизни в группах и сообществах, включая взрослые и социальные сообщества; участие в школьном самоуправлении и  общественной жизни в пределах возрастных компетенций с учётом региональных, этнокультурных, социальных и экономических особенностей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cdd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8) Законопослушность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9) Социальная актив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cdd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Тематические занятия по изучению ПД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Выпуск газ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Участие в творческих конкурс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Выступление агитбригады в начальной школе, в районных конкурса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 готовым сценариям, по самостоятельно разработанным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6ab475"/>
                      </a:solidFill>
                    </a:lnL>
                    <a:lnR w="5760">
                      <a:solidFill>
                        <a:srgbClr val="6ab475"/>
                      </a:solidFill>
                    </a:lnR>
                    <a:lnT w="5760">
                      <a:solidFill>
                        <a:srgbClr val="6ab475"/>
                      </a:solidFill>
                    </a:lnT>
                    <a:lnB w="5760">
                      <a:solidFill>
                        <a:srgbClr val="6ab475"/>
                      </a:solidFill>
                    </a:lnB>
                    <a:solidFill>
                      <a:srgbClr val="cdd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3:20:37Z</dcterms:created>
  <dc:creator>Светлана</dc:creator>
  <dc:description/>
  <dc:language>en-US</dc:language>
  <cp:lastModifiedBy>user</cp:lastModifiedBy>
  <cp:lastPrinted>2014-03-27T04:46:01Z</cp:lastPrinted>
  <dcterms:modified xsi:type="dcterms:W3CDTF">2014-03-27T05:07:13Z</dcterms:modified>
  <cp:revision>5</cp:revision>
  <dc:subject/>
  <dc:title>Развитие личностных компетенций через социализаци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