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132-AC05-414E-9257-B69806DF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74D7-147C-4312-BA00-B17C93FC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B14-2A4E-458F-A0ED-D42928E0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303-7D17-4BAA-8100-B967E260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D6E-ABFC-4846-B235-563A12F6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0867-07C5-4895-BBA5-1F9F1D46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874-C28C-4691-99D1-8F217E40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6F4C-A3A2-43A2-9C91-BF015F8B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B4A-5FEC-49E5-B6BC-A8C01286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F1E3-4754-4899-AE53-543F4140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E027-FCF3-4EB0-A70A-A622979B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A9D-5955-4594-B4E6-DD8AD0AC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076E-CE1D-49EE-8DC1-37E8624556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etpsycholog.ru/" TargetMode="External"/><Relationship Id="rId2" Type="http://schemas.openxmlformats.org/officeDocument/2006/relationships/hyperlink" Target="http://detpsycholog.ru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Ребенок – нытик? 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Не беда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втор: Егорова Татьяна, психолог, коуч по детско-родительским отношениям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detpsycholog.ru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ути коррекции ныть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койствие и последова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зусловная любовь и разумное отношение к ребен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чинно-следственные связ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Как это сделать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амостоятельно изучить литерату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0000"/>
                </a:solidFill>
                <a:uFillTx/>
                <a:latin typeface="Calibri"/>
              </a:rPr>
              <a:t>С помощью психолог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Наши результат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«…Эти знания очень помогают сохранять спокойствие и избегать выбивающих из колеи истерик!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осле прохождения тренинга мы теперь говорим с ребенком на одном языке.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 И ребенок и я стали спокойнее и ближе друг к другу…» Екатери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«Увидела сто-олько ошибок и промахов в воспитании сына, обнаружила у себя столько «тараканов» и комплексов, родом из моего детства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 - но теперь-то я знаю как с ними бороться!...» Юл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«Благодаря тренингу получила как чёткую теоретическую картину, так и практические советы. Очень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онравились задания, направленные на понимание стиля воспитания в семье и понимание характера ребёнка и ожиданий от него.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 Мари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«…Научиться жить без капризов достаточно просто. Я в этом убедилась на примере любимой дочки: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она теперь не только не «скулит» постоянно и не устраивает истерик, но и с радостью помогает мне, стала более самостоятельной: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 по совету Татьяны, мы с ней просто играем!» Ан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 тоже сможете получить прекрасные результаты в общении со своим ребенко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 условии, что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роработаете все ключевые темы занятий с психолог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Что такое нытьё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зически - это тягучие, унылые звуки, издаваемые ребенк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сихически - внутренняя неудовлетворенность чем-т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онимы: боление, жалоба, жалкие слова, сетование, рыдания, хныканье, скулеж, плач, стон, вытьё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ловарь русских синонимов и сходных по смыслу выражений.- под. ред. Н. Абрамова, М.: Русские словари, 1999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3" descr="капризный ребенок и мама.jpg"/>
          <p:cNvPicPr/>
          <p:nvPr/>
        </p:nvPicPr>
        <p:blipFill>
          <a:blip r:embed="rId1"/>
          <a:stretch/>
        </p:blipFill>
        <p:spPr>
          <a:xfrm>
            <a:off x="2544840" y="476280"/>
            <a:ext cx="425916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ичина и цели ныть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домогание (болезнь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цель: получить поддерж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Усталость, голод, жажда, желание спать и т.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-  цель: восполнить ресурсы организ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кука, страх, обида, эгоизм, немощь и т.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– цель: привлечение внимания к себе, получить жал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преты, ограничен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цель: настоять на своем и получить желаем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otkuda-berutsya-kaprizulki.jpg"/>
          <p:cNvPicPr/>
          <p:nvPr/>
        </p:nvPicPr>
        <p:blipFill>
          <a:blip r:embed="rId1"/>
          <a:stretch/>
        </p:blipFill>
        <p:spPr>
          <a:xfrm>
            <a:off x="668160" y="620640"/>
            <a:ext cx="7966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Разновидности ныть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ытье с требовани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ытье с ожиданием «наград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ытье с недовольств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ытье от отчая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ытье от жалости к себ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монстративное ныть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Что делать, если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ебенок капризничает и ноет по каждому поводу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642235.jpg"/>
          <p:cNvPicPr/>
          <p:nvPr/>
        </p:nvPicPr>
        <p:blipFill>
          <a:blip r:embed="rId1"/>
          <a:stretch/>
        </p:blipFill>
        <p:spPr>
          <a:xfrm>
            <a:off x="3500280" y="3141720"/>
            <a:ext cx="21434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Самодиагности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нализ своего поведения и манеры реч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нализ семейного воспитания и психологического клима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3" descr="капризный ребенок и мама1.jpg"/>
          <p:cNvPicPr/>
          <p:nvPr/>
        </p:nvPicPr>
        <p:blipFill>
          <a:blip r:embed="rId1"/>
          <a:stretch/>
        </p:blipFill>
        <p:spPr>
          <a:xfrm>
            <a:off x="765000" y="573120"/>
            <a:ext cx="740736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21:36:33Z</dcterms:created>
  <dc:creator>User</dc:creator>
  <dc:description/>
  <dc:language>en-US</dc:language>
  <cp:lastModifiedBy>User</cp:lastModifiedBy>
  <dcterms:modified xsi:type="dcterms:W3CDTF">2014-10-05T21:59:50Z</dcterms:modified>
  <cp:revision>47</cp:revision>
  <dc:subject/>
  <dc:title>Ребенок – нытик?  Не беда!</dc:title>
</cp:coreProperties>
</file>