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40E9-F1EB-4388-BA40-0A83A9DD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F30C-098F-4D02-B3BE-8F3249F6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5775-1FD0-49EA-BD1C-66336EBA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BDF7-D947-470E-B1D1-CD9BF322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325E-3907-4366-A960-C2D90AB8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6744-7ED3-47B7-865B-28536277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F69C-5866-41DE-AD41-C187A405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4894-E123-4F14-9092-0CDCCB37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1234-5A0F-4EE8-A26C-0CA0B09E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973A-F946-4444-B66A-D3D7C04E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74A5-E7F7-4AF2-A21E-D99A7D35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87B0-8DC1-4AF2-A0D4-98CBF4B3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A97D-A560-4063-AC81-AF09B9D47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нтурные карты с определением номенклатурных объек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ариант 4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лю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979640" y="1700280"/>
          <a:ext cx="5051520" cy="4525920"/>
        </p:xfrm>
        <a:graphic>
          <a:graphicData uri="http://schemas.openxmlformats.org/drawingml/2006/table">
            <a:tbl>
              <a:tblPr/>
              <a:tblGrid>
                <a:gridCol w="1019160"/>
                <a:gridCol w="403236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озерская гря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домская гря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хневажская возвыш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нежская низм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хонская низм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108240" y="87480"/>
            <a:ext cx="258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30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70280" y="359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82280" y="40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2264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73920" y="488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Клю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68360" y="1557360"/>
          <a:ext cx="4619880" cy="4405320"/>
        </p:xfrm>
        <a:graphic>
          <a:graphicData uri="http://schemas.openxmlformats.org/drawingml/2006/table">
            <a:tbl>
              <a:tblPr/>
              <a:tblGrid>
                <a:gridCol w="1378080"/>
                <a:gridCol w="324180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Кирилловская гря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Белозерская гря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Северные Ува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Молого- Шекснинская низм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Возвышенность Авни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280360" cy="5589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02080" y="158760"/>
            <a:ext cx="258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33920" y="3089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31360" y="445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7392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31000" y="3089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02280" y="193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ариант 2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Клю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340000" y="1700280"/>
          <a:ext cx="5040360" cy="4465080"/>
        </p:xfrm>
        <a:graphic>
          <a:graphicData uri="http://schemas.openxmlformats.org/drawingml/2006/table">
            <a:tbl>
              <a:tblPr/>
              <a:tblGrid>
                <a:gridCol w="1295280"/>
                <a:gridCol w="3745080"/>
              </a:tblGrid>
              <a:tr h="92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псовская возвыш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личская возвыш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хонская низм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хневажская возвыш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домская возвыш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ариан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184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347000" y="40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7028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78280" y="488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920" y="359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55360" y="40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ариант 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лю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340000" y="1628640"/>
          <a:ext cx="4762440" cy="4525920"/>
        </p:xfrm>
        <a:graphic>
          <a:graphicData uri="http://schemas.openxmlformats.org/drawingml/2006/table">
            <a:tbl>
              <a:tblPr/>
              <a:tblGrid>
                <a:gridCol w="1090440"/>
                <a:gridCol w="36720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Харовская гря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Андогская гря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Молого- Шекснинская низм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Воже-Кубенская низм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Северные Ува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ариант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825920" y="388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57920" y="22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86640" y="316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65560" y="22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73920" y="488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ариант 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лю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340000" y="1628640"/>
          <a:ext cx="4762440" cy="4525920"/>
        </p:xfrm>
        <a:graphic>
          <a:graphicData uri="http://schemas.openxmlformats.org/drawingml/2006/table">
            <a:tbl>
              <a:tblPr/>
              <a:tblGrid>
                <a:gridCol w="1090440"/>
                <a:gridCol w="36720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Харовская гря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Андогская гря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Молого- Шекснинская низм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Воже-Кубенская низм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Северные Ува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9:57:19Z</dcterms:created>
  <dc:creator>юлия</dc:creator>
  <dc:description/>
  <dc:language>en-US</dc:language>
  <cp:lastModifiedBy>юлия</cp:lastModifiedBy>
  <dcterms:modified xsi:type="dcterms:W3CDTF">2008-11-20T21:11:45Z</dcterms:modified>
  <cp:revision>5</cp:revision>
  <dc:subject/>
  <dc:title>Слайд 1</dc:title>
</cp:coreProperties>
</file>