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1EA-6321-45A9-AD76-C1EEEC74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F57-26FB-47DE-9B7B-EEB4018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6CA-6A72-4D7D-A60B-9D134DBA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28A-07AC-4B1F-9F4E-06857C3E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D7CF-CD59-4984-A66B-4EFEDA3F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8A66-1EC5-4C17-9C4C-DB3C4A7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3CE0-927F-4EC2-BBB7-2B90E15D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271B-B54E-4EB4-BDE2-44E2F88A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C0EF-2AB1-4B6D-B18E-D5714A9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9A18-C25F-4843-80A5-6CD9B9C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56F-D976-419C-91AA-46295D5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780-37FA-4AC8-A4C7-33434E40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566-80BE-4610-B8BE-95483F5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132E-D1B5-4D8F-B5C4-3805E07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8ED3-82A6-49A2-A9A7-BC71FA2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0E1C-B525-4256-A3DB-B2FC1ED7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EF54-1A89-4DEF-B783-7F45D780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AECE-1C0D-43CF-A0CD-08D2C18B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AA74-B1CA-4A4B-9EAC-A31FE86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808E-C711-4B6F-A839-8DAFE12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093B-2FB1-4A1A-81AD-A7A1B07D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C390-88A1-4E8A-95E8-C8964311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335-9EEB-4485-8C68-A50293F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04A2-94E4-47D6-948D-F7BAC6D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BC0B-12CB-4053-8D79-A48AA02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D6DF-5164-4506-B276-29E8B93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18B5-FD1C-4A0A-8BB8-86330C0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CF2D-8D1D-43A1-9D98-BE68CB0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CED2-1614-4EC9-B6A8-A385F81C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9F32-AE76-4C43-B625-DDE07834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5E00-65AB-4E73-A64F-2490B45A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B637-A8BE-45DA-863D-0B11C20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6488-1701-40EA-8629-EDD68B61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EDD-8BFE-45FC-8266-7C066A85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58B0-5E72-46E8-A33A-2CD148F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0FCF-66DD-4631-9F78-FDCB1ABB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4C2E-244C-44E6-85D2-85885D7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2902-8C49-4674-81BC-7253911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ABAE-CCB1-49E5-8352-DC7F17F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2BE2-D079-4E58-89E9-E40AB23B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A1B5-C753-456B-86FD-93201F4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4798-01E0-4E0F-A9C9-C2B1D42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95D4-81E4-4727-B3B6-CBED769A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6F9-B421-40C8-97FF-806021D7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249-5E92-4E99-98C7-B86E0A54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AD0-C031-4063-B6ED-92C3210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6F9-3C8E-4D87-B800-2D46ACD4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376-9B22-4116-BE3F-617C272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6CDC-A5A1-47B4-B095-2EFA573867E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9A8-A147-448F-B80F-0A314687D6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45C-A692-4496-9A97-E1B720E917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F1C-92AA-4FC1-897C-4424D1F8F70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6c911d"/>
                </a:solidFill>
                <a:latin typeface="Trebuchet MS"/>
              </a:rPr>
              <a:t>Родительское собрани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5181480" y="2095560"/>
            <a:ext cx="4248360" cy="47624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1581120" y="53103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А.Черненьк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176760" y="2895480"/>
            <a:ext cx="604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ет психологических особе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ихся при подготовке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ускным экзамен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049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Ваши действия: посетить школу с целью выяснения причин возникновения проблем: беседа с педагогами и психологом, ; организация по необходимости корректирующих занятий со специалиста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Важно контролировать общее физиологическое состояние ребёнка – регулярно проводить диспансеризацию в медицинских учреждения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457200" y="838080"/>
            <a:ext cx="716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Ориентировочный план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1. Психологические трудности ребенка в экзаменационный пери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2. Организация режима д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3. Оптимальная организация учебной деятель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4. Психологический настрой во время экзаме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3f7819"/>
                </a:solidFill>
                <a:latin typeface="Trebuchet MS"/>
              </a:rPr>
              <a:t>Цель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формирование положительной мотивации родителей на совместную деятельность с педагогами и психологом для решения проблемы подготовки к ГИА – 9, ГИА - 11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72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 Сообщение темы и цели выступл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 Выступление на тему: Учет психологических особенностей обучающихся при подготовке к выпускным экзамена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 Обсуждение положений сообщ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 Обсуждение предложенный  проблемных  ситуаций с родителя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. Сообщение о результатах исследования «Знаете ли вы подростковую психологию?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6. Анкета «Обратная связь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»: вопросы составляются по материалам родительского собр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7. Заключение: сообщение темы и целей следующего родительского собр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5530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6c911d"/>
                </a:solidFill>
                <a:latin typeface="Trebuchet MS"/>
              </a:rPr>
              <a:t>«Не думайте, что вы воспитываете ребёнка только тогда, когда с ним разговариваете, или поучаете его, или приказываете ему. </a:t>
            </a:r>
            <a:br>
              <a:rPr sz="3200"/>
            </a:br>
            <a:r>
              <a:rPr b="1" lang="ru-RU" sz="3200" spc="-1" strike="noStrike">
                <a:solidFill>
                  <a:srgbClr val="6c911d"/>
                </a:solidFill>
                <a:latin typeface="Trebuchet MS"/>
              </a:rPr>
              <a:t>Вы воспитываете его в каждый момент вашей жизни, даже тогда, когда вас нет дома».</a:t>
            </a:r>
            <a:br>
              <a:rPr sz="3200"/>
            </a:br>
            <a:r>
              <a:rPr b="0" i="1" lang="ru-RU" sz="3200" spc="-1" strike="noStrike">
                <a:solidFill>
                  <a:srgbClr val="6c911d"/>
                </a:solidFill>
                <a:latin typeface="Trebuchet MS"/>
              </a:rPr>
              <a:t>                                  </a:t>
            </a:r>
            <a:r>
              <a:rPr b="0" lang="ru-RU" sz="3200" spc="-1" strike="noStrike">
                <a:solidFill>
                  <a:srgbClr val="6c911d"/>
                </a:solidFill>
                <a:latin typeface="Trebuchet MS"/>
              </a:rPr>
              <a:t>А.С.Макаренко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263520" y="380880"/>
            <a:ext cx="82710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 u="sng">
                <a:solidFill>
                  <a:srgbClr val="ffff00"/>
                </a:solidFill>
                <a:uFillTx/>
                <a:latin typeface="Trebuchet MS"/>
              </a:rPr>
              <a:t>Психологические особенности в ранней юности:</a:t>
            </a:r>
            <a:br>
              <a:rPr sz="32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c3c43"/>
                </a:solidFill>
                <a:latin typeface="Trebuchet MS"/>
              </a:rPr>
              <a:t>1</a:t>
            </a: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. Гармонизируется</a:t>
            </a:r>
            <a:r>
              <a:rPr b="1" lang="ru-RU" sz="28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физическое и психическое развит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Формируется личностная идентичность, открытие  собственного «Я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Развивается рефлексия, самосозна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Укрепляются и совершенствуются процессы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умственного развития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Trebuchet MS"/>
              </a:rPr>
              <a:t>5. Мышление приобретает личностный, эмоциональный характер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86113"/>
                </a:solidFill>
                <a:latin typeface="Trebuchet MS"/>
              </a:rPr>
              <a:t>Ситуации для обсуждения.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Ваш ребёнок часто критикует свои (чужие) ответы у доски. Каково Ваше отношение к действиям ребёнка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2. Ваш ребёнок часто вступает в споры, демонстративно  отказывается от обсуждения и компромиссов решения проблем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Ваши действия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3. Ребенок проявляет беспокойство по поводу своей готовности к предстоящим экзамена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Ваши действия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4. </a:t>
            </a: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Успеваемость Вашего ребёнка снизилась. Часто получает замечания по поведению в школ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- Как вы поступите в этой ситуации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5. У Вашего ребёнка часто возникают респираторные заболевания, он часто жалуется на утомляемост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86113"/>
                </a:solidFill>
                <a:latin typeface="Trebuchet MS"/>
              </a:rPr>
              <a:t>- Как вы поступите в этой ситуации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 Tchernenkaya</cp:lastModifiedBy>
  <dcterms:modified xsi:type="dcterms:W3CDTF">2014-11-07T19:21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