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341-6969-49B3-BE8D-0EDC0A3E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C38-FDF8-4E7F-B9B9-3A75BA58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E21-D856-47D7-BFE7-E0AC51E5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E35-F796-4FC7-94C7-51CE7E23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46A9-91CA-40A7-AA52-52C19E3E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820D-201C-4A6D-BCDE-BFBC3201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C6F8-53C6-4E30-A111-B83C88B1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E137-B017-4EBD-A9AE-266E3E3A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85DC-B0BB-4218-B1A0-8C086449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F289-4468-4F13-A4AE-075453FF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6129-3769-4C1B-BF26-2159FE93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1E1-6CE6-4597-8D89-D36F8331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43EA-46BF-4D75-9F89-8D960338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C1AC-7F87-4C4F-A611-3D7FEA0E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F7A5-A478-4E09-A787-0F0E3C50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8F0B-66CE-4476-90A5-FD5F4695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3FDC-C820-4E6A-91A3-65321633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5FFCD-C2EE-4A05-AEB5-B098C913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5F94C-2D99-4F6E-8DD2-94AF87F8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1249-3857-4EC8-8836-7E196A47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DCDBC-9B42-4B93-A5A9-D6FEEE41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C6C4-CEB4-4095-8D2B-624F824B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44D-0CE9-49D3-B144-64E5D257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CE19-23F7-4CF1-8002-400EDC15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492F-8965-4BB1-A59C-A0DEF307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DD415-A8DE-4133-811F-FE161D9A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A7AC-0492-4913-9BBC-F6F06925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C0AC1-1F64-45AA-BA0E-EE7D8A06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B7667-D52B-42C6-A74F-062C49D3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A2FA-A15A-468A-B3BC-89496111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2767B-CC95-4B8A-B37C-E641229D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C28A4-0CB2-469C-9B5A-F5F4B21E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64382-3837-4C93-9305-7F3A9941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880-186C-4203-B7C5-8875D828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0C9F0-8B66-42C4-BD97-C09EE80A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3B67-3FD5-4B3F-BE0F-1453F0F6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1935-7C25-4B39-825F-32752735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5C058-21F0-4474-B6D1-E3082724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E7C7F-4FD4-44B9-A884-D95FE72D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B2B9-9D1C-43CF-93B4-FDC3C411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3C4D5-EC74-413A-984B-D2D8AABF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546D3-C5D7-41B6-BC0D-C3E9FD78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4E665-CA29-4CDB-83FC-6F698C2F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593AF-08B0-4C12-A1C5-28595C9F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0FF-F72E-4CA2-A15E-FED4D3E5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FB4C5-0232-4136-AD0F-FC554D80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A2075-16DA-4F94-A2B4-00DBBBDF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B776C-E636-426A-8222-E073312A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14AB2-EE92-47DB-95D4-7C529D21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E04DD-AF6E-49F3-81A0-7A006CDD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52BB0-EBC1-40A1-AA01-CE3103A3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2FF15-F9F2-4DBD-8686-39D5FA82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9E355-26CB-49C6-B678-7B9C4854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17992-6D49-4B10-910B-04A6A1A1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E6B3F-8EBD-445B-8175-69A54D31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559-63DB-4859-B675-E9C89DC8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70479-78B9-484C-BCF8-A02D06AF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AD2-004B-49BD-98F8-05787448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555-A49B-4939-829E-003E2E62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F43-7BF0-4326-B24E-F5EE7D3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3DE7-BAE4-4470-BE3A-697337B0626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97D4-3ECC-48E8-942A-0FDCFF4B8DF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27DB-863B-402D-82F7-66FD5763017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AAC-589B-4D87-ADED-244CC13E1EB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76E3-A01A-4D41-A141-52735FB998F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419640" y="993600"/>
            <a:ext cx="5121000" cy="28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214200" y="224640"/>
            <a:ext cx="7786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3b7e"/>
                </a:solidFill>
                <a:latin typeface="Arial"/>
                <a:ea typeface="Calibri"/>
              </a:rPr>
              <a:t>Устный сче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b23b7e"/>
                </a:solidFill>
                <a:latin typeface="Arial"/>
                <a:ea typeface="Calibri"/>
              </a:rPr>
              <a:t>Решите задач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т дома до колодца 20 метров. Сколько метров надо пройти, чтобы принести ведро воды? А кружку воды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2" name="Группа 6"/>
          <p:cNvGrpSpPr/>
          <p:nvPr/>
        </p:nvGrpSpPr>
        <p:grpSpPr>
          <a:xfrm>
            <a:off x="285840" y="2786040"/>
            <a:ext cx="7429320" cy="3689280"/>
            <a:chOff x="285840" y="2786040"/>
            <a:chExt cx="7429320" cy="3689280"/>
          </a:xfrm>
        </p:grpSpPr>
        <p:pic>
          <p:nvPicPr>
            <p:cNvPr id="223" name="Picture 3" descr="http://im8-tub-ru.yandex.net/i?id=174304480-25-72"/>
            <p:cNvPicPr/>
            <p:nvPr/>
          </p:nvPicPr>
          <p:blipFill>
            <a:blip r:embed="rId1"/>
            <a:stretch/>
          </p:blipFill>
          <p:spPr>
            <a:xfrm>
              <a:off x="285840" y="2786040"/>
              <a:ext cx="2023200" cy="192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5" descr="http://im6-tub-ru.yandex.net/i?id=354605210-12-72"/>
            <p:cNvPicPr/>
            <p:nvPr/>
          </p:nvPicPr>
          <p:blipFill>
            <a:blip r:embed="rId2"/>
            <a:stretch/>
          </p:blipFill>
          <p:spPr>
            <a:xfrm>
              <a:off x="6215040" y="4429440"/>
              <a:ext cx="1500120" cy="20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Стрелка вправо 4"/>
          <p:cNvSpPr/>
          <p:nvPr/>
        </p:nvSpPr>
        <p:spPr>
          <a:xfrm rot="956400">
            <a:off x="2225160" y="4760640"/>
            <a:ext cx="3986280" cy="12384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Box 5"/>
          <p:cNvSpPr/>
          <p:nvPr/>
        </p:nvSpPr>
        <p:spPr>
          <a:xfrm rot="886800">
            <a:off x="3534840" y="41673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0 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500040" y="928800"/>
          <a:ext cx="7143840" cy="4716360"/>
        </p:xfrm>
        <a:graphic>
          <a:graphicData uri="http://schemas.openxmlformats.org/drawingml/2006/table">
            <a:tbl>
              <a:tblPr/>
              <a:tblGrid>
                <a:gridCol w="2390760"/>
                <a:gridCol w="2376360"/>
                <a:gridCol w="2376720"/>
              </a:tblGrid>
              <a:tr h="1571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 –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 –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 +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noFill/>
                  </a:tcPr>
                </a:tc>
              </a:tr>
              <a:tr h="1573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 –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 +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 +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 –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 + 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 –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1"/>
          <p:cNvSpPr/>
          <p:nvPr/>
        </p:nvSpPr>
        <p:spPr>
          <a:xfrm>
            <a:off x="0" y="21780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йдите примеры с ответом 13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3" descr="http://im6-tub-ru.yandex.net/i?id=7358962-43-72"/>
          <p:cNvPicPr/>
          <p:nvPr/>
        </p:nvPicPr>
        <p:blipFill>
          <a:blip r:embed="rId1"/>
          <a:stretch/>
        </p:blipFill>
        <p:spPr>
          <a:xfrm>
            <a:off x="2286000" y="1000080"/>
            <a:ext cx="571680" cy="430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http://im6-tub-ru.yandex.net/i?id=7358962-43-72"/>
          <p:cNvPicPr/>
          <p:nvPr/>
        </p:nvPicPr>
        <p:blipFill>
          <a:blip r:embed="rId2"/>
          <a:stretch/>
        </p:blipFill>
        <p:spPr>
          <a:xfrm>
            <a:off x="2286000" y="4143240"/>
            <a:ext cx="571680" cy="430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http://im6-tub-ru.yandex.net/i?id=7358962-43-72"/>
          <p:cNvPicPr/>
          <p:nvPr/>
        </p:nvPicPr>
        <p:blipFill>
          <a:blip r:embed="rId3"/>
          <a:stretch/>
        </p:blipFill>
        <p:spPr>
          <a:xfrm>
            <a:off x="4714920" y="4143240"/>
            <a:ext cx="571320" cy="430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http://im6-tub-ru.yandex.net/i?id=7358962-43-72"/>
          <p:cNvPicPr/>
          <p:nvPr/>
        </p:nvPicPr>
        <p:blipFill>
          <a:blip r:embed="rId4"/>
          <a:stretch/>
        </p:blipFill>
        <p:spPr>
          <a:xfrm>
            <a:off x="7072200" y="2571840"/>
            <a:ext cx="571680" cy="430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http://im6-tub-ru.yandex.net/i?id=7358962-43-72"/>
          <p:cNvPicPr/>
          <p:nvPr/>
        </p:nvPicPr>
        <p:blipFill>
          <a:blip r:embed="rId5"/>
          <a:stretch/>
        </p:blipFill>
        <p:spPr>
          <a:xfrm>
            <a:off x="7072200" y="4214880"/>
            <a:ext cx="5716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14200" y="28728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Какова масса каждого мешка с мукой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Рисунок 129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6505560" cy="22860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3"/>
          <p:cNvSpPr/>
          <p:nvPr/>
        </p:nvSpPr>
        <p:spPr>
          <a:xfrm>
            <a:off x="1136880" y="364320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3b7e"/>
                </a:solidFill>
                <a:latin typeface="Trebuchet MS"/>
              </a:rPr>
              <a:t>15 к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4859280" y="364320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3b7e"/>
                </a:solidFill>
                <a:latin typeface="Trebuchet MS"/>
              </a:rPr>
              <a:t>9 к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285840" y="29556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3b7e"/>
                </a:solidFill>
                <a:latin typeface="Arial"/>
                <a:ea typeface="Calibri"/>
              </a:rPr>
              <a:t>Сообщение темы уро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егодня мы продолжим работу с единицами длины. Будем решать задачи на определение длины предмето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3" descr="http://im4-tub-ru.yandex.net/i?id=104613236-37-72&amp;n=17"/>
          <p:cNvPicPr/>
          <p:nvPr/>
        </p:nvPicPr>
        <p:blipFill>
          <a:blip r:embed="rId1"/>
          <a:stretch/>
        </p:blipFill>
        <p:spPr>
          <a:xfrm>
            <a:off x="2857680" y="2786040"/>
            <a:ext cx="2357280" cy="17683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229680" y="49291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зовите единицы длины, которые вы уже знает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2644200" y="550080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см,  дм,   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183600" y="21420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3b7e"/>
                </a:solidFill>
                <a:latin typeface="Trebuchet MS"/>
              </a:rPr>
              <a:t>Вспомни и назов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1414440" y="1071720"/>
            <a:ext cx="439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rebuchet MS"/>
              </a:rPr>
              <a:t>1дм = … см 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rebuchet MS"/>
              </a:rPr>
              <a:t>1 м = … дм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rebuchet MS"/>
              </a:rPr>
              <a:t>1 м = …   см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3470400" y="107172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23b7e"/>
                </a:solidFill>
                <a:latin typeface="Trebuchet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Прямоугольник 4"/>
          <p:cNvSpPr/>
          <p:nvPr/>
        </p:nvSpPr>
        <p:spPr>
          <a:xfrm>
            <a:off x="3256200" y="200016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23b7e"/>
                </a:solidFill>
                <a:latin typeface="Trebuchet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Прямоугольник 5"/>
          <p:cNvSpPr/>
          <p:nvPr/>
        </p:nvSpPr>
        <p:spPr>
          <a:xfrm>
            <a:off x="3240720" y="2928960"/>
            <a:ext cx="148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23b7e"/>
                </a:solidFill>
                <a:latin typeface="Trebuchet MS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179640" y="457200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апиши в тетрад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285840" y="29808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3b7e"/>
                </a:solidFill>
                <a:latin typeface="Arial"/>
                <a:ea typeface="Calibri"/>
              </a:rPr>
              <a:t>Задание № 7 </a:t>
            </a:r>
            <a:r>
              <a:rPr b="0" lang="ru-RU" sz="2800" spc="-1" strike="noStrike">
                <a:solidFill>
                  <a:srgbClr val="b23b7e"/>
                </a:solidFill>
                <a:latin typeface="Arial"/>
                <a:ea typeface="Calibri"/>
              </a:rPr>
              <a:t>(с. 32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очитайте условие задачи. Что вам известно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Какой вопрос можно поставить к данному условию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233280" y="3571920"/>
            <a:ext cx="72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апиши краткое условие и реши задачу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285840" y="22212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3b7e"/>
                </a:solidFill>
                <a:latin typeface="Arial"/>
                <a:ea typeface="Calibri"/>
              </a:rPr>
              <a:t>Путешествие в прошл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Как появились меры длины. Как измеряли на Рус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215640" y="2214720"/>
            <a:ext cx="59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читайте в учебнике на стр.3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14240" y="3214800"/>
          <a:ext cx="6715440" cy="2290680"/>
        </p:xfrm>
        <a:graphic>
          <a:graphicData uri="http://schemas.openxmlformats.org/drawingml/2006/table">
            <a:tbl>
              <a:tblPr/>
              <a:tblGrid>
                <a:gridCol w="6715440"/>
              </a:tblGrid>
              <a:tr h="2290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жен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= 3 аршина = 7 футов = 2 м 13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у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= 12 дюймов = 30 см 48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рши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= 71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шо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= 4 см 45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spcBef>
                          <a:spcPts val="7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юй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= 2 см 54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14200" y="43524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3b7e"/>
                </a:solidFill>
                <a:latin typeface="Arial"/>
                <a:ea typeface="Calibri"/>
              </a:rPr>
              <a:t>Итог уро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то нового узнали на урок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зовите старинные русские единицы длин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30T10:41:46Z</dcterms:created>
  <dc:creator>Ира</dc:creator>
  <dc:description/>
  <dc:language>en-US</dc:language>
  <cp:lastModifiedBy>Ира</cp:lastModifiedBy>
  <dcterms:modified xsi:type="dcterms:W3CDTF">2012-06-30T11:36:02Z</dcterms:modified>
  <cp:revision>6</cp:revision>
  <dc:subject/>
  <dc:title>Соотношение между  единицами длины</dc:title>
</cp:coreProperties>
</file>