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20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65B-D345-4CDF-9F76-E76B72E6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196-1409-4FC2-AD91-497E1AC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052-9B02-45D4-A92D-858A2005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976-4147-4851-9644-ABA5DF2F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76D-A628-463E-AC46-0AC98F5A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814-1963-404A-AFCE-4371FDD8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9FA3-3579-4FE1-AC8C-B8CE8A09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7359-2681-4D57-AF49-D396DD4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4919-0F08-4F89-96D9-F43F524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13E5-8B10-42B3-99C1-E744248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38A-43AE-4E40-A97F-F710079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DD6-53A0-49C7-B53C-36ECD280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7B49-6FA2-4792-B1B3-A01D7B1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FABC-9DBC-43E9-8E36-F43FF12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E0C2-EE1E-4B74-8B49-369C04C5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B8F-4111-43E0-B07E-700AB3CA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F7C-8697-4805-8F3E-29F0C8F1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B60-EAF0-4DF6-8840-1CBC521A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E45-BC98-4948-8858-EEB4B62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E5D-0A0D-462D-A44A-AD5BAEE0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741-B7CC-444F-83EF-F01B8B5F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025-3846-4502-AB72-4034DC8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A2F-61D3-4D06-8E80-2A0A0D5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F5B-EDD8-4599-BC8E-0BA02F1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56D2-B64B-4521-A6E3-7ABF6AF82BB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0E7-620D-4835-AE43-9EE310C261B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Monotype Corsiva"/>
              </a:rPr>
              <a:t>«Путешествие в страну Математики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2662200" cy="2289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48360" y="393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реховская Ирина Ивановна       Учитель начальных классов ГБОУ СОШ с. Камышла Самарской област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Monotype Corsiva"/>
              </a:rPr>
              <a:t>«Путешествие в страну</a:t>
            </a:r>
            <a:r>
              <a:rPr b="0" lang="en-US" sz="8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en-US" sz="8000" spc="-1" strike="noStrike">
                <a:solidFill>
                  <a:srgbClr val="ff6600"/>
                </a:solidFill>
                <a:latin typeface="Monotype Corsiva"/>
              </a:rPr>
              <a:t>Математики</a:t>
            </a:r>
            <a:r>
              <a:rPr b="0" lang="en-US" sz="80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3456000"/>
            <a:ext cx="3673440" cy="31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4140360" y="3357720"/>
          <a:ext cx="4038480" cy="21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3357720"/>
                    <a:ext cx="4038480" cy="21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Verdana"/>
              </a:rPr>
              <a:t>Интернет – ресурс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ртинк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ельсин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http://im2-tub-ru.yandex.net/i?id=fa87602b214233f57dc731522e9dd529-122-144&amp;n=2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ята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img-fotki.yandex.ru/get/4002/annaze63.33/0_3111b_2d4d9c0a_X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оровик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im0-tub-ru.yandex.net/i?id=a73b7e5c16eb95dbe4fac4e8df7816fe-86-144&amp;n=2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березовик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img-fotki.yandex.ru/get/6511/131624064.247/0_91ed9_7f8963b_X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62472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95640" y="4437000"/>
            <a:ext cx="144360" cy="122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708280"/>
            <a:ext cx="144360" cy="122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3068640"/>
            <a:ext cx="144360" cy="122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93080" y="2276640"/>
            <a:ext cx="144360" cy="1220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144360" cy="122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5084640"/>
            <a:ext cx="144360" cy="122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4000" y="9810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А класс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9920" y="22766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кин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7320" y="1916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гроте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44500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изкультминутк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480" y="51814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читайс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42480" y="35002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машне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587640" y="2492280"/>
            <a:ext cx="576360" cy="2592360"/>
          </a:xfrm>
          <a:prstGeom prst="line">
            <a:avLst/>
          </a:prstGeom>
          <a:ln w="38160">
            <a:solidFill>
              <a:srgbClr val="ff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3213000"/>
            <a:ext cx="1224000" cy="1800360"/>
          </a:xfrm>
          <a:prstGeom prst="line">
            <a:avLst/>
          </a:prstGeom>
          <a:ln w="38160">
            <a:solidFill>
              <a:srgbClr val="66ff33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427640" y="3213000"/>
            <a:ext cx="720720" cy="2160720"/>
          </a:xfrm>
          <a:prstGeom prst="line">
            <a:avLst/>
          </a:prstGeom>
          <a:ln w="38160">
            <a:solidFill>
              <a:srgbClr val="cc99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852640"/>
            <a:ext cx="1225440" cy="2521080"/>
          </a:xfrm>
          <a:prstGeom prst="line">
            <a:avLst/>
          </a:prstGeom>
          <a:ln w="38160">
            <a:solidFill>
              <a:srgbClr val="990099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339640" y="2924280"/>
            <a:ext cx="576360" cy="1512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03640" y="162864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8490800">
            <a:off x="8243640" y="259920"/>
            <a:ext cx="647640" cy="574560"/>
          </a:xfrm>
          <a:prstGeom prst="leftArrow">
            <a:avLst>
              <a:gd name="adj1" fmla="val 50000"/>
              <a:gd name="adj2" fmla="val 28180"/>
            </a:avLst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451640" y="1413000"/>
            <a:ext cx="1308240" cy="11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cc33"/>
                </a:solidFill>
                <a:latin typeface="Monotype Corsiva"/>
              </a:rPr>
              <a:t>Город </a:t>
            </a: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«Посчитайск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2090880"/>
            <a:ext cx="4038480" cy="34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356000" y="4797360"/>
          <a:ext cx="3152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4797360"/>
                    <a:ext cx="315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734080"/>
            <a:ext cx="1479600" cy="94284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6894000" y="6165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Задач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32000" y="2276280"/>
            <a:ext cx="316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20 больше,ч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30 меньше,ч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4360" y="981000"/>
          <a:ext cx="198432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19843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11280" y="3645000"/>
          <a:ext cx="182880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645000"/>
                    <a:ext cx="1828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659640" y="1052640"/>
          <a:ext cx="210492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1052640"/>
                    <a:ext cx="21049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732720" y="3860640"/>
          <a:ext cx="1985760" cy="215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3860640"/>
                    <a:ext cx="19857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Monotype Corsiva"/>
              </a:rPr>
              <a:t>Станция</a:t>
            </a:r>
            <a:r>
              <a:rPr b="0" lang="en-US" sz="8000" spc="-1" strike="noStrike">
                <a:solidFill>
                  <a:srgbClr val="006666"/>
                </a:solidFill>
                <a:latin typeface="Monotype Corsiva"/>
              </a:rPr>
              <a:t> «Задачкино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4038840" cy="34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826920" y="5734080"/>
          <a:ext cx="3152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5734080"/>
                    <a:ext cx="315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67656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6000" y="5516640"/>
            <a:ext cx="1697040" cy="10810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8964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Monotype Corsiva"/>
              </a:rPr>
              <a:t>Остановка </a:t>
            </a:r>
            <a:r>
              <a:rPr b="0" lang="en-US" sz="8000" spc="-1" strike="noStrike">
                <a:solidFill>
                  <a:srgbClr val="006666"/>
                </a:solidFill>
                <a:latin typeface="Monotype Corsiva"/>
              </a:rPr>
              <a:t>«Физкультминутка 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038480" cy="347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3492360" y="5877000"/>
          <a:ext cx="3152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5877000"/>
                    <a:ext cx="315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20000" y="5445000"/>
            <a:ext cx="1913040" cy="12178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460560" y="6165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/>
            <a:ahLst/>
            <a:rect l="l" t="t" r="r" b="b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ebf7ff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ebf7ff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edfad2"/>
              </a:gs>
            </a:gsLst>
            <a:lin ang="4848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edfad2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618f0"/>
              </a:gs>
              <a:gs pos="100000">
                <a:srgbClr val="ffffff"/>
              </a:gs>
            </a:gsLst>
            <a:lin ang="7332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7332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8504000"/>
          </a:gra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185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0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2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0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17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7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17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99ff"/>
                </a:solidFill>
                <a:latin typeface="Monotype Corsiva"/>
              </a:rPr>
              <a:t>«Игротека»</a:t>
            </a:r>
            <a:endParaRPr b="0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4038480" cy="34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539640" y="5734080"/>
          <a:ext cx="3152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734080"/>
                    <a:ext cx="315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77080" y="5373720"/>
            <a:ext cx="2055960" cy="13096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6173280" y="6165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6666"/>
                </a:solidFill>
                <a:latin typeface="Monotype Corsiva"/>
              </a:rPr>
              <a:t>«Домашнее задание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. 39 № 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вторить таблицу умно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038480" cy="3473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305320" y="3141720"/>
            <a:ext cx="3838680" cy="1771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75680" y="5589720"/>
            <a:ext cx="1768320" cy="11271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6460560" y="623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43:56Z</dcterms:created>
  <dc:creator>Кристина</dc:creator>
  <dc:description/>
  <dc:language>en-US</dc:language>
  <cp:lastModifiedBy>User</cp:lastModifiedBy>
  <dcterms:modified xsi:type="dcterms:W3CDTF">2014-11-04T21:48:44Z</dcterms:modified>
  <cp:revision>22</cp:revision>
  <dc:subject/>
  <dc:title> Тема урока: «Решение задач»</dc:title>
</cp:coreProperties>
</file>