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B49-2D6D-44DA-BEA3-18CB09CC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7A1-3390-4EC4-B6C7-33E5F25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FBF-8B6C-4C40-8717-010FDEA4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B30-EC7B-45CA-8239-E10C3912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D2C-970E-4705-BE25-1AA3903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066-3E7D-48F1-9C1E-2DD0772E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D75-992A-47A0-A555-2DDCA71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60F-D5F7-4D35-9A2A-DEB808E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EF5-CEF0-487C-BAF7-BC9C1C7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233-F349-418A-B2D3-EDB5220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16A-E643-4422-8F81-0AA184B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0C9-A639-4920-8695-3DFE50B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C080-39AE-49A9-9B18-9166D348DD4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834-3454-4052-A217-D34375E62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Documents and Settings\Aida\Рабочий стол\текстуры и фоны, клипарты\Scool_objekts\scool (56).pn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2428920" y="1500120"/>
            <a:ext cx="3929040" cy="417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Угол. Прямой уго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4304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H:\Documents and Settings\Aida\Рабочий стол\текстуры и фоны, клипарты\новые шаблончики\32155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3"/>
          <a:stretch/>
        </p:blipFill>
        <p:spPr>
          <a:xfrm rot="20454600">
            <a:off x="3871440" y="3611160"/>
            <a:ext cx="19288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Aida\Рабочий стол\текстуры и фоны, клипарты\новеньки картинки\ufficio019.gif"/>
          <p:cNvPicPr/>
          <p:nvPr/>
        </p:nvPicPr>
        <p:blipFill>
          <a:blip r:embed="rId4"/>
          <a:stretch/>
        </p:blipFill>
        <p:spPr>
          <a:xfrm rot="1890000">
            <a:off x="6607080" y="3947760"/>
            <a:ext cx="666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Подумай и отве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1066" r="388" b="0"/>
          <a:stretch/>
        </p:blipFill>
        <p:spPr>
          <a:xfrm>
            <a:off x="500040" y="1122480"/>
            <a:ext cx="82152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вместить вершину прямого угла чертежного угольника и вершину уг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вместить одну из сторон чертежного угольника и уг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Если вторая сторона угла совпала со второй стороной угольника, то это прямой уго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071720" y="500040"/>
            <a:ext cx="69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2060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Times New Roman"/>
              </a:rPr>
              <a:t>Как найти прямой угол: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2060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D54-1972-49BD-A59F-3FD74FFD29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A3C8-E953-4682-8746-A6B1DE2C3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91960"/>
            <a:ext cx="6175440" cy="9763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378000" y="1500120"/>
            <a:ext cx="39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106   № 2, 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инутка  чистопис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умай, какое число пропуще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 9, 4, 5, 3, 8, 6, 7,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DC4-52E6-4047-A33A-EAFC8A9928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667-8306-491A-AFF6-B2CE8937C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s://docs.google.com/viewer?url=http%3A%2F%2Fnsportal.ru%2Fsites%2Fdefault%2Ffiles%2F2012%2F10%2Fcifry.docx&amp;docid=bab59190d380ef85da09d4eb7dae43e9&amp;a=bi&amp;pagenumber=2&amp;w=524"/>
          <p:cNvPicPr/>
          <p:nvPr/>
        </p:nvPicPr>
        <p:blipFill>
          <a:blip r:embed="rId1"/>
          <a:srcRect l="34355" t="6062" r="4104" b="7009"/>
          <a:stretch/>
        </p:blipFill>
        <p:spPr>
          <a:xfrm>
            <a:off x="3286080" y="328608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амый  ум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8F5F-39B3-47BA-AF4B-0ABB6627B5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CEF-080B-4A58-8CC6-041A1ABCE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480" y="1285920"/>
            <a:ext cx="83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дюк весит 12 кг. Сколько он будет весить, если встанет на одну ног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m6-tub-ru.yandex.net/i?id=524280300-59-72&amp;n=17"/>
          <p:cNvPicPr/>
          <p:nvPr/>
        </p:nvPicPr>
        <p:blipFill>
          <a:blip r:embed="rId1"/>
          <a:stretch/>
        </p:blipFill>
        <p:spPr>
          <a:xfrm>
            <a:off x="428760" y="1857240"/>
            <a:ext cx="1071360" cy="1100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2151000" y="2214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14200" y="29289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 обеду мама положила для детей на двух тарелках по одинаковому числу персиков. К вечеру на тарелках осталось: на одной – 3 персика, а на второй- восемь. С какой тарелки взято больше персиков и на скольк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11"/>
          <p:cNvGrpSpPr/>
          <p:nvPr/>
        </p:nvGrpSpPr>
        <p:grpSpPr>
          <a:xfrm>
            <a:off x="428760" y="4071960"/>
            <a:ext cx="2857320" cy="1071720"/>
            <a:chOff x="428760" y="4071960"/>
            <a:chExt cx="2857320" cy="1071720"/>
          </a:xfrm>
        </p:grpSpPr>
        <p:pic>
          <p:nvPicPr>
            <p:cNvPr id="60" name="Picture 4" descr="http://im8-tub-ru.yandex.net/i?id=127142813-17-72&amp;n=15"/>
            <p:cNvPicPr/>
            <p:nvPr/>
          </p:nvPicPr>
          <p:blipFill>
            <a:blip r:embed="rId2"/>
            <a:stretch/>
          </p:blipFill>
          <p:spPr>
            <a:xfrm>
              <a:off x="428760" y="4071960"/>
              <a:ext cx="13492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http://im8-tub-ru.yandex.net/i?id=127142813-17-72&amp;n=15"/>
            <p:cNvPicPr/>
            <p:nvPr/>
          </p:nvPicPr>
          <p:blipFill>
            <a:blip r:embed="rId3"/>
            <a:stretch/>
          </p:blipFill>
          <p:spPr>
            <a:xfrm>
              <a:off x="1936800" y="4071960"/>
              <a:ext cx="1349280" cy="10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10"/>
          <p:cNvSpPr/>
          <p:nvPr/>
        </p:nvSpPr>
        <p:spPr>
          <a:xfrm>
            <a:off x="3714840" y="4000680"/>
            <a:ext cx="51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й тарелке  осталось меньше, значит  с нее взяли персиков больше на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866560" y="52862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015-2F70-4D8F-8F25-1335E07B15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81C-90CF-4409-90BD-A1B72C93A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57120" y="71424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у кроликов  была закрыта, но в нижнее отверстие видно было 24 ноги, в верхнее – 12 кроличьих ушей. Так сколько же было в клетке крол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4-tub-ru.yandex.net/i?id=7398278-49-72&amp;n=21"/>
          <p:cNvPicPr/>
          <p:nvPr/>
        </p:nvPicPr>
        <p:blipFill>
          <a:blip r:embed="rId1"/>
          <a:stretch/>
        </p:blipFill>
        <p:spPr>
          <a:xfrm>
            <a:off x="500040" y="2214720"/>
            <a:ext cx="2357640" cy="1768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214440" y="25002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рол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795280" y="26431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48560" y="4143240"/>
            <a:ext cx="53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какие  цифры  пропущены         А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724800" y="421488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 5.  Б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723560" y="542916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A8D8-CD40-4EF9-BCD9-66ED9F98E1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8274-B3BD-4093-BA93-E65B61C48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00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бота 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14200" y="100008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выражения, найди их 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слагаемое – 27, второе слагаемое – 59, Чему равно сумма?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мое – 71, вычитание – 23, чему равна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множитель 6, второй множитель- 9. Чему равно произвед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ое – 36, делитель – 9. Чему равно част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FC8-7014-4311-AA2D-3FC74C5128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FA3-7F9C-46C7-891C-7A025BA99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00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14200" y="128592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вагоне было 72 пассажира, а во втором вагоне  - 7\8 части от пассажиров в первом вагоне. На сколько больше  пассажиров  было в первом   вагоне, чем во вт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714920" y="128592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было 32 ученика, а во втором классе  - 6\8 части от учеников в первом класс. Сколько всего учеников  было в двух  клас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ма 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458200" cy="19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Calibri"/>
              </a:rPr>
              <a:t>  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Calibri"/>
              </a:rPr>
              <a:t>Закладка</a:t>
            </a:r>
            <a:r>
              <a:rPr b="1" lang="ru-RU" sz="4800" spc="-1" strike="noStrike">
                <a:solidFill>
                  <a:srgbClr val="0000cc"/>
                </a:solidFill>
                <a:latin typeface="Calibri"/>
              </a:rPr>
              <a:t> 90 – х = 68 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Calibri"/>
              </a:rPr>
              <a:t>кла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Calibri"/>
              </a:rPr>
              <a:t>Треугольник</a:t>
            </a:r>
            <a:r>
              <a:rPr b="1" lang="ru-RU" sz="4800" spc="-1" strike="noStrike">
                <a:solidFill>
                  <a:srgbClr val="0000cc"/>
                </a:solidFill>
                <a:latin typeface="Calibri"/>
              </a:rPr>
              <a:t> х – 18 = 16 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51240" y="3071880"/>
            <a:ext cx="16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х = 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 90-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-22=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=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9"/>
          <p:cNvGrpSpPr/>
          <p:nvPr/>
        </p:nvGrpSpPr>
        <p:grpSpPr>
          <a:xfrm>
            <a:off x="714240" y="1143000"/>
            <a:ext cx="2500560" cy="714240"/>
            <a:chOff x="714240" y="1143000"/>
            <a:chExt cx="2500560" cy="714240"/>
          </a:xfrm>
        </p:grpSpPr>
        <p:sp>
          <p:nvSpPr>
            <p:cNvPr id="86" name="Прямая соединительная линия 5"/>
            <p:cNvSpPr/>
            <p:nvPr/>
          </p:nvSpPr>
          <p:spPr>
            <a:xfrm>
              <a:off x="714240" y="1214280"/>
              <a:ext cx="428400" cy="642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6"/>
            <p:cNvSpPr/>
            <p:nvPr/>
          </p:nvSpPr>
          <p:spPr>
            <a:xfrm>
              <a:off x="999720" y="1143000"/>
              <a:ext cx="428400" cy="642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7"/>
            <p:cNvSpPr/>
            <p:nvPr/>
          </p:nvSpPr>
          <p:spPr>
            <a:xfrm>
              <a:off x="2786400" y="1143000"/>
              <a:ext cx="428400" cy="642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8"/>
            <p:cNvSpPr/>
            <p:nvPr/>
          </p:nvSpPr>
          <p:spPr>
            <a:xfrm>
              <a:off x="2500560" y="1143000"/>
              <a:ext cx="428400" cy="642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оугольник 10"/>
          <p:cNvSpPr/>
          <p:nvPr/>
        </p:nvSpPr>
        <p:spPr>
          <a:xfrm>
            <a:off x="4151160" y="3143160"/>
            <a:ext cx="143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18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 16+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=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-18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8"/>
          <p:cNvGrpSpPr/>
          <p:nvPr/>
        </p:nvGrpSpPr>
        <p:grpSpPr>
          <a:xfrm>
            <a:off x="428760" y="2000160"/>
            <a:ext cx="3500280" cy="714600"/>
            <a:chOff x="428760" y="2000160"/>
            <a:chExt cx="3500280" cy="714600"/>
          </a:xfrm>
        </p:grpSpPr>
        <p:sp>
          <p:nvSpPr>
            <p:cNvPr id="92" name="Прямая соединительная линия 11"/>
            <p:cNvSpPr/>
            <p:nvPr/>
          </p:nvSpPr>
          <p:spPr>
            <a:xfrm>
              <a:off x="428760" y="200016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2"/>
            <p:cNvSpPr/>
            <p:nvPr/>
          </p:nvSpPr>
          <p:spPr>
            <a:xfrm>
              <a:off x="1000080" y="200016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13"/>
            <p:cNvSpPr/>
            <p:nvPr/>
          </p:nvSpPr>
          <p:spPr>
            <a:xfrm>
              <a:off x="714240" y="200016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14"/>
            <p:cNvSpPr/>
            <p:nvPr/>
          </p:nvSpPr>
          <p:spPr>
            <a:xfrm>
              <a:off x="2500560" y="200016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15"/>
            <p:cNvSpPr/>
            <p:nvPr/>
          </p:nvSpPr>
          <p:spPr>
            <a:xfrm>
              <a:off x="2786040" y="200016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16"/>
            <p:cNvSpPr/>
            <p:nvPr/>
          </p:nvSpPr>
          <p:spPr>
            <a:xfrm>
              <a:off x="3143520" y="207144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17"/>
            <p:cNvSpPr/>
            <p:nvPr/>
          </p:nvSpPr>
          <p:spPr>
            <a:xfrm>
              <a:off x="3500640" y="2071440"/>
              <a:ext cx="428400" cy="64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6FB-3A91-4EA5-8EBB-BA34334FD2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DE4B-DCF9-4628-82AD-04BE68C1C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1"/>
          <a:srcRect l="0" t="0" r="840" b="24173"/>
          <a:stretch/>
        </p:blipFill>
        <p:spPr>
          <a:xfrm>
            <a:off x="571680" y="500040"/>
            <a:ext cx="82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362320" y="571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Arial"/>
              </a:rPr>
              <a:t>Угол – э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 flipV="1">
            <a:off x="2743200" y="3429000"/>
            <a:ext cx="5638680" cy="1447920"/>
          </a:xfrm>
          <a:prstGeom prst="line">
            <a:avLst/>
          </a:prstGeom>
          <a:ln w="57240">
            <a:solidFill>
              <a:srgbClr val="e14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502280" y="786240"/>
            <a:ext cx="1310760" cy="4037400"/>
            <a:chOff x="1502280" y="786240"/>
            <a:chExt cx="1310760" cy="4037400"/>
          </a:xfrm>
        </p:grpSpPr>
        <p:sp>
          <p:nvSpPr>
            <p:cNvPr id="105" name="Text Box 5"/>
            <p:cNvSpPr/>
            <p:nvPr/>
          </p:nvSpPr>
          <p:spPr>
            <a:xfrm rot="19245000">
              <a:off x="1578600" y="9273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 flipH="1" flipV="1">
              <a:off x="2011680" y="952200"/>
              <a:ext cx="801360" cy="3871440"/>
            </a:xfrm>
            <a:prstGeom prst="line">
              <a:avLst/>
            </a:prstGeom>
            <a:ln w="57240">
              <a:solidFill>
                <a:srgbClr val="e14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7"/>
          <p:cNvSpPr/>
          <p:nvPr/>
        </p:nvSpPr>
        <p:spPr>
          <a:xfrm>
            <a:off x="2743200" y="4800600"/>
            <a:ext cx="76320" cy="7632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267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2590920" y="3429000"/>
            <a:ext cx="5943600" cy="1831320"/>
            <a:chOff x="2590920" y="3429000"/>
            <a:chExt cx="5943600" cy="1831320"/>
          </a:xfrm>
        </p:grpSpPr>
        <p:sp>
          <p:nvSpPr>
            <p:cNvPr id="109" name="Text Box 9"/>
            <p:cNvSpPr/>
            <p:nvPr/>
          </p:nvSpPr>
          <p:spPr>
            <a:xfrm>
              <a:off x="25909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81532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rc 11"/>
          <p:cNvSpPr/>
          <p:nvPr/>
        </p:nvSpPr>
        <p:spPr>
          <a:xfrm>
            <a:off x="2714760" y="4143240"/>
            <a:ext cx="790560" cy="505080"/>
          </a:xfrm>
          <a:prstGeom prst="pie">
            <a:avLst/>
          </a:prstGeom>
          <a:noFill/>
          <a:ln w="38160">
            <a:solidFill>
              <a:srgbClr val="2674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2268360" y="5791320"/>
                <a:ext cx="1322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Text Box 14"/>
          <p:cNvSpPr/>
          <p:nvPr/>
        </p:nvSpPr>
        <p:spPr>
          <a:xfrm>
            <a:off x="3809880" y="58672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7339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7"/>
              <p:cNvSpPr txBox="1"/>
              <p:nvPr/>
            </p:nvSpPr>
            <p:spPr>
              <a:xfrm>
                <a:off x="4724280" y="57150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5:49:19Z</dcterms:created>
  <dc:creator>Ира</dc:creator>
  <dc:description>http://aida.ucoz.ru</dc:description>
  <dc:language>en-US</dc:language>
  <cp:lastModifiedBy>Ира</cp:lastModifiedBy>
  <dcterms:modified xsi:type="dcterms:W3CDTF">2013-03-24T07:12:52Z</dcterms:modified>
  <cp:revision>9</cp:revision>
  <dc:subject/>
  <dc:title>Угол. Прямой угол</dc:title>
</cp:coreProperties>
</file>