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FE4-8D51-4415-8DC5-2E9AB449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F74-FDFE-4E12-89A6-6C39671D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D18-7261-4A1C-A272-B09FD83D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47B-16A3-40B3-9CFE-A0147BD0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638-9FA6-4E8E-9C11-1F565C1A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FB5-23DA-4F97-946D-6CF96030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119-676F-48EF-8D0A-92BCD386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7E7-B9A4-4385-A06B-8E5AD00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EB5-AD58-4E9C-A9B1-3739210A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B25-0282-4B95-8AC7-31A1B23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883-0BB3-4A50-8F24-BBD4667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10C-0671-4E26-8989-A30840EC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3A1-8317-4DB0-BFBF-58F39B316E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9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428480"/>
            <a:ext cx="5715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Артикуляционная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гимнастика    в   стихах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 с  картинка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191200" y="1785960"/>
            <a:ext cx="3289320" cy="42148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3429000" y="4857840"/>
            <a:ext cx="52862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714240" y="2428920"/>
            <a:ext cx="500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Тренируем яз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часть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мплекс   упражнений  к постановке  свистящих   звуков – С,З,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714760" y="2643120"/>
            <a:ext cx="2384280" cy="175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Евросеть\Desktop\АРТ\лопатка.jpg"/>
          <p:cNvPicPr/>
          <p:nvPr/>
        </p:nvPicPr>
        <p:blipFill>
          <a:blip r:embed="rId2"/>
          <a:stretch/>
        </p:blipFill>
        <p:spPr>
          <a:xfrm>
            <a:off x="5929200" y="164304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4" descr=""/>
          <p:cNvPicPr/>
          <p:nvPr/>
        </p:nvPicPr>
        <p:blipFill>
          <a:blip r:embed="rId3"/>
          <a:stretch/>
        </p:blipFill>
        <p:spPr>
          <a:xfrm>
            <a:off x="714240" y="4286160"/>
            <a:ext cx="1928880" cy="200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744560" cy="219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rcRect l="53447" t="22908" r="10934" b="3857"/>
          <a:stretch/>
        </p:blipFill>
        <p:spPr>
          <a:xfrm>
            <a:off x="7572240" y="3786120"/>
            <a:ext cx="1263960" cy="200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6"/>
          <a:srcRect l="0" t="21626" r="62401" b="38546"/>
          <a:stretch/>
        </p:blipFill>
        <p:spPr>
          <a:xfrm>
            <a:off x="5072040" y="4214880"/>
            <a:ext cx="21020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мплекс  упражнений  к постановке шипящих  звуков  Ш,Ж,Ч,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00840" y="1285920"/>
            <a:ext cx="16970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rcRect l="34963" t="41384" r="8648" b="6893"/>
          <a:stretch/>
        </p:blipFill>
        <p:spPr>
          <a:xfrm>
            <a:off x="428760" y="1214280"/>
            <a:ext cx="279540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rcRect l="58419" t="30158" r="11114" b="12698"/>
          <a:stretch/>
        </p:blipFill>
        <p:spPr>
          <a:xfrm>
            <a:off x="1500120" y="3286080"/>
            <a:ext cx="1500120" cy="160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rcRect l="0" t="18775" r="52143" b="13934"/>
          <a:stretch/>
        </p:blipFill>
        <p:spPr>
          <a:xfrm>
            <a:off x="6357960" y="4000680"/>
            <a:ext cx="2549520" cy="23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3786120" y="4857840"/>
            <a:ext cx="1714680" cy="170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>
            <a:off x="3929040" y="2571840"/>
            <a:ext cx="1357200" cy="121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7">
            <a:lum bright="10000"/>
          </a:blip>
          <a:srcRect l="8889" t="28577" r="47940" b="14288"/>
          <a:stretch/>
        </p:blipFill>
        <p:spPr>
          <a:xfrm>
            <a:off x="214200" y="5072040"/>
            <a:ext cx="15717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мплекс упражнений  к постановке звука  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2928960" cy="222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2500200" cy="22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rcRect l="21302" t="31644" r="13886" b="13927"/>
          <a:stretch/>
        </p:blipFill>
        <p:spPr>
          <a:xfrm>
            <a:off x="5429160" y="4143240"/>
            <a:ext cx="3452760" cy="2143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3286080" y="1214280"/>
            <a:ext cx="1643040" cy="2073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5"/>
          <a:srcRect l="52948" t="25472" r="10782" b="7858"/>
          <a:stretch/>
        </p:blipFill>
        <p:spPr>
          <a:xfrm>
            <a:off x="7143840" y="1000080"/>
            <a:ext cx="1571400" cy="2208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6"/>
          <a:srcRect l="17647" t="61377" r="51966" b="0"/>
          <a:stretch/>
        </p:blipFill>
        <p:spPr>
          <a:xfrm>
            <a:off x="5715000" y="1500120"/>
            <a:ext cx="1500120" cy="145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7"/>
          <a:srcRect l="58419" t="30158" r="11114" b="12698"/>
          <a:stretch/>
        </p:blipFill>
        <p:spPr>
          <a:xfrm>
            <a:off x="1785960" y="514368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8">
            <a:lum bright="10000"/>
          </a:blip>
          <a:srcRect l="8889" t="28577" r="47940" b="14288"/>
          <a:stretch/>
        </p:blipFill>
        <p:spPr>
          <a:xfrm>
            <a:off x="214200" y="5214960"/>
            <a:ext cx="1462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мплекс   упражнений  к  постановке звука  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0" t="19244" r="39962" b="0"/>
          <a:stretch/>
        </p:blipFill>
        <p:spPr>
          <a:xfrm>
            <a:off x="642960" y="1571760"/>
            <a:ext cx="2054160" cy="207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rcRect l="4717" t="32741" r="5662" b="8499"/>
          <a:stretch/>
        </p:blipFill>
        <p:spPr>
          <a:xfrm>
            <a:off x="6072120" y="1000080"/>
            <a:ext cx="2786040" cy="214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rcRect l="58419" t="30158" r="11114" b="12698"/>
          <a:stretch/>
        </p:blipFill>
        <p:spPr>
          <a:xfrm>
            <a:off x="4000680" y="2714760"/>
            <a:ext cx="1143000" cy="13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4"/>
          <a:srcRect l="0" t="17682" r="0" b="0"/>
          <a:stretch/>
        </p:blipFill>
        <p:spPr>
          <a:xfrm>
            <a:off x="5357880" y="4286160"/>
            <a:ext cx="3500280" cy="229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5"/>
          <a:stretch/>
        </p:blipFill>
        <p:spPr>
          <a:xfrm rot="15484800">
            <a:off x="1376280" y="909000"/>
            <a:ext cx="696600" cy="102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6"/>
          <a:srcRect l="6599" t="29730" r="56415" b="22122"/>
          <a:stretch/>
        </p:blipFill>
        <p:spPr>
          <a:xfrm>
            <a:off x="214200" y="435780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7">
            <a:lum bright="10000"/>
          </a:blip>
          <a:srcRect l="8889" t="28577" r="47940" b="14288"/>
          <a:stretch/>
        </p:blipFill>
        <p:spPr>
          <a:xfrm>
            <a:off x="4000680" y="1214280"/>
            <a:ext cx="1357200" cy="1325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8"/>
          <a:stretch/>
        </p:blipFill>
        <p:spPr>
          <a:xfrm>
            <a:off x="3000240" y="4429080"/>
            <a:ext cx="1470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екомендации по проведению упражнений артикуляционной гимнастики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4200" y="71388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оводить артикуляционную гимнастику нужно ежедневно, чтобы вырабатываемые у детей навыки закреплялись. Лучше выполнять упражнения  в день по 5-7-10 минут( в зависимости от возраста). Не следует предлагать детям более 5-7 упражнений за раз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Каждое упражнение выполняется по 5-7-10 раз.( в зависимости от возраста  и состояния мышц органов артикуляции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татические упражнения выполняются по 10-15 секунд -удержание    артикуляционной позы в одном положении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( слайды №2,3,4,5,7,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и отборе упражнений для артикуляционной гимнастики надо соблюдать определенную последовательность, идти от простых упражнений к более сложным. Проводить их лучше эмоционально, в игровой форме. 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1384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900" spc="-1" strike="noStrike">
                <a:solidFill>
                  <a:srgbClr val="0070c0"/>
                </a:solidFill>
                <a:latin typeface="Calibri"/>
              </a:rPr>
              <a:t>Если ребенок выполняет какое-то упражнение недостаточно хорошо, не следует вводить новые  упражнения,  лучше отрабатывать старый материал. Для его закрепления можно придумать новые игровые прием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alibri"/>
              </a:rPr>
              <a:t>6. Артикуляционную гимнастику выполняют сидя, так как в таком положении у ребенка прямая спина, тело не напряжено, руки и ноги находятся в спокойном положении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alibri"/>
              </a:rPr>
              <a:t>7. Ребенок должен хорошо видеть лицо взрослого, а также свое лицо, чтобы самостоятельно контролировать правильность выполнения упражнений. Поэтому ребенок и взрослый во время проведения артикуляционной гимнастики должны находиться перед настенным зеркалом. Также ребенок может воспользоваться небольшим ручным зеркалом (примерно 9х12 см), но тогда взрослый должен находиться напротив ребенка лицом к нему. 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alibri"/>
              </a:rPr>
              <a:t>8. Начинать   гимнастику   лучше  с   упражнений   для   губ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Calibri"/>
              </a:rPr>
              <a:t>( слайды №  2,4,5.6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alibri"/>
              </a:rPr>
              <a:t>9. Взрослый   показывает   выполнение    упражнения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1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Упражнение делает ребенок, а взрослый контролирует выполнение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Взрослый, проводящий артикуляционную гимнастику, должен следить за качеством выполняемых ребенком движений: точность движения, плавность, темп выполнения, устойчивость, переход от одного движения к другому. Также важно следить, чтобы движения каждого органа артикуляции выполнялись симметрично по отношению к правой и левой стороне лица. В противном случае артикуляционная гимнастика не достигает своей цели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1. Если у ребенка не получается какое-то движение, помогать ему (шпателем, ручкой чайной ложки или просто чистым пальцем)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2. Для того, чтобы ребенок нашел правильное положение языка, например, облизал верхнюю губу, намазать ее вареньем, шоколадом или чем-то еще, что любит ваш ребенок. Подходить к выполнению упражнений творчески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      Сначала при выполнении детьми упражнений наблюдается напряженность движений органов артикуляционного аппарата. Постепенно напряжение исчезает, движения становятся непринужденными и вместе с тем координирован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Система упражнений по развитию артикуляционной моторики должна включать как статические упражнения, так и упражнения, направленные на развитие динамической координации речевых движений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07T16:21:45Z</dcterms:modified>
  <cp:revision>75</cp:revision>
  <dc:subject/>
  <dc:title>ТРЕНИРУЕМ   ЯЗЫЧОК</dc:title>
</cp:coreProperties>
</file>