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5EF-5251-48C3-92DE-A68C7321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A27-6366-483A-BDA1-FA2492AD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0EC-BB0C-4ED4-A9F4-C6E833C6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0AE-19B0-4EE8-8DA3-C7C90385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FF2-1FCA-4538-8C0B-ECCDF0A0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56DC-A649-4AF1-ADF5-49694860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76D4-5B8C-4CAA-8D7A-252F382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218-CE11-4F08-8100-1D8F3AC4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37B-7C86-4675-B231-DD62334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9CE-C727-4515-90E3-AF0BF7CD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8EB2-18CE-43CD-81EC-A48BAC8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DCD-CCD6-4245-B3E4-2857D71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3A9F-3C6C-46E2-A9EC-CEE4538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F589-7E2B-4260-8647-02D5648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0BD5-7DC5-45DF-9C05-BBC9A7EF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5DB2-058B-43A9-B8F4-9D5CD164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5413-1AEF-45DC-B52C-97441B84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B87-701F-4AF6-8FC8-4007EA8A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78D-CDA2-410D-BB13-9BCA3AE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60E-9993-4192-99FD-408319D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8BD-EB5F-4888-B89E-7AD112F6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B63-BD7A-4BE4-9AD9-72CFF11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976-C5FB-4197-8540-C3E6319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F20-EF64-45D3-8F42-169DD07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F3CD-184A-472D-9813-4FF17298EC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326-0E38-4EE5-AB1B-6A69112FE0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Egypt.Giza.Sphinx.01.jpg?uselang=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Egyptian_glass_jar.jpg?uselang=r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480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T</a:t>
            </a: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he </a:t>
            </a: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</a:t>
            </a: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ncient Egyptian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Picture 5" descr="Egypt.Giza.Sphinx.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238480"/>
            <a:ext cx="4248000" cy="3187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580000" y="5445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resent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by Zhugel Il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В каких странах можно отдыхать круглый г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494680" y="717480"/>
            <a:ext cx="206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55640" y="1197000"/>
            <a:ext cx="779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ncient Egy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s been called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Black earth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 Ancient Egyptians are considered one of the most advanced ancient civilizations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ncient Egyptian civilization was born on the banks of the Nile river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n the territory of modern Egy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ruins of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Egyptian cul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still be s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Where Is The Libyan Desert On A Map Of Ancient Egypt"/>
          <p:cNvPicPr/>
          <p:nvPr/>
        </p:nvPicPr>
        <p:blipFill>
          <a:blip r:embed="rId1"/>
          <a:stretch/>
        </p:blipFill>
        <p:spPr>
          <a:xfrm>
            <a:off x="611280" y="333360"/>
            <a:ext cx="4141800" cy="575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yptian Priest, Seti I, Pharaoh Seti"/>
          <p:cNvPicPr/>
          <p:nvPr/>
        </p:nvPicPr>
        <p:blipFill>
          <a:blip r:embed="rId2"/>
          <a:stretch/>
        </p:blipFill>
        <p:spPr>
          <a:xfrm>
            <a:off x="5219640" y="333360"/>
            <a:ext cx="3398760" cy="5761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3239280" y="214920"/>
            <a:ext cx="27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cien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8074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In science, medicine and mathematics, Ancient Egypt reached a high for its time level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cient Egyptians invented the vitreous mater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The melting was a highly developed art 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cient Egyp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The ancient Egyptians invented the decimal syst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The 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owledge of astronomy gave the Egyptians the ability to set the map of the s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establish a special calendar. The Egyptian calendar year was divided into 12 months with 30 days ea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20px-Egyptian_glass_j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628640"/>
            <a:ext cx="2973240" cy="3961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Ancient Egyptian Art in Symmetry.jpg"/>
          <p:cNvPicPr/>
          <p:nvPr/>
        </p:nvPicPr>
        <p:blipFill>
          <a:blip r:embed="rId3"/>
          <a:stretch/>
        </p:blipFill>
        <p:spPr>
          <a:xfrm>
            <a:off x="539640" y="260280"/>
            <a:ext cx="4606920" cy="3008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8f2ae8642f190ad69b3c8861b8267188-31-144&amp;n=21"/>
          <p:cNvPicPr/>
          <p:nvPr/>
        </p:nvPicPr>
        <p:blipFill>
          <a:blip r:embed="rId4"/>
          <a:stretch/>
        </p:blipFill>
        <p:spPr>
          <a:xfrm>
            <a:off x="684360" y="3429000"/>
            <a:ext cx="4392360" cy="3166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5076720" y="668880"/>
            <a:ext cx="37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e ceiling paintings of the tombs of the no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771640" y="1969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elig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1108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Egypti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ities, beautiful temples and pyram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re built.Their religion was based on the nature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The main deity was RA - the sun G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7" descr="i?id=8558fcf5699ff8269c0fab895bddb3bf-133-144&amp;n=21"/>
          <p:cNvPicPr/>
          <p:nvPr/>
        </p:nvPicPr>
        <p:blipFill>
          <a:blip r:embed="rId1"/>
          <a:stretch/>
        </p:blipFill>
        <p:spPr>
          <a:xfrm>
            <a:off x="468360" y="2781360"/>
            <a:ext cx="2390760" cy="381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Egyptian Religion Gods"/>
          <p:cNvPicPr/>
          <p:nvPr/>
        </p:nvPicPr>
        <p:blipFill>
          <a:blip r:embed="rId2"/>
          <a:stretch/>
        </p:blipFill>
        <p:spPr>
          <a:xfrm>
            <a:off x="6300720" y="2852640"/>
            <a:ext cx="258300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ebba36898f196b1d6492e2266c48e125-79-144&amp;n=21"/>
          <p:cNvPicPr/>
          <p:nvPr/>
        </p:nvPicPr>
        <p:blipFill>
          <a:blip r:embed="rId3"/>
          <a:stretch/>
        </p:blipFill>
        <p:spPr>
          <a:xfrm>
            <a:off x="3132000" y="3627360"/>
            <a:ext cx="3024360" cy="1889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635280" y="260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rt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57120" y="1366200"/>
            <a:ext cx="835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e art of Ancient Egypt is monumental art, serving the purposes of a religious c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st of the works were created for the de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ncient Egyptian wizards were able to work with stone, metal, wood and g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The architecture of Ancient Egypt is known for the structu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of the tomb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of the pyramids of Giza, the temple and Palace complexes - Luxor temple, palaces Amarn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The sculpture was created and developed to represent the ancient Egyptian gods, pharaohs, kings and Queens in physical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340px-All_Gizah_Pyramids-3"/>
          <p:cNvPicPr/>
          <p:nvPr/>
        </p:nvPicPr>
        <p:blipFill>
          <a:blip r:embed="rId1"/>
          <a:stretch/>
        </p:blipFill>
        <p:spPr>
          <a:xfrm>
            <a:off x="179280" y="189000"/>
            <a:ext cx="475164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737280" y="328464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the pyramids of Gi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220px-Nofretete_Neues_Museum"/>
          <p:cNvPicPr/>
          <p:nvPr/>
        </p:nvPicPr>
        <p:blipFill>
          <a:blip r:embed="rId2"/>
          <a:stretch/>
        </p:blipFill>
        <p:spPr>
          <a:xfrm>
            <a:off x="6443640" y="189000"/>
            <a:ext cx="2095560" cy="3066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5166000" y="33566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The bust of Queen Neferti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9" descr="300px-Bookdead"/>
          <p:cNvPicPr/>
          <p:nvPr/>
        </p:nvPicPr>
        <p:blipFill>
          <a:blip r:embed="rId3"/>
          <a:stretch/>
        </p:blipFill>
        <p:spPr>
          <a:xfrm>
            <a:off x="2556000" y="4076640"/>
            <a:ext cx="451296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000" y="15804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e ancient Egyptian civilization has been preserved to our days. Оne of the seven wonders of the world-the pyramids of Giza and a small number of other architectural structu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Egy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Todays art is still prodused using ancient techniques and is now becoming famous all over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i?id=9b72745cd0c93a52342f15017f7bfb14-48-144&amp;n=21"/>
          <p:cNvPicPr/>
          <p:nvPr/>
        </p:nvPicPr>
        <p:blipFill>
          <a:blip r:embed="rId1"/>
          <a:stretch/>
        </p:blipFill>
        <p:spPr>
          <a:xfrm>
            <a:off x="3924360" y="3500280"/>
            <a:ext cx="4456080" cy="29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15:01:19Z</dcterms:created>
  <dc:creator>Toshik</dc:creator>
  <dc:description/>
  <dc:language>en-US</dc:language>
  <cp:lastModifiedBy>Логинова Ольга Анатольевна</cp:lastModifiedBy>
  <dcterms:modified xsi:type="dcterms:W3CDTF">2014-11-05T17:21:32Z</dcterms:modified>
  <cp:revision>9</cp:revision>
  <dc:subject/>
  <dc:title>The Ancient Egyptians</dc:title>
</cp:coreProperties>
</file>