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DE2-D2F3-4864-A84F-66E72A36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9F0-4B26-4833-89CA-C2E01BA8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12F-774D-44C9-BFF2-ACF65AD9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80B-B833-4240-85F9-BA84CAEB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431-07F6-418A-846A-042D612C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8A4-925E-4236-A4FB-E4A16F6C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D9C-0DB9-40A0-BBA4-A198AC3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689-0895-45B3-8300-2295126B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ED8-78C2-4774-A121-84D199FC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5FE-4AA9-42D6-9F8D-7C72F6E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952-A266-4E9A-8336-EA1F8E4F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2EE-983E-4A33-897A-7051EDE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CFFB0-ABB5-43F1-8E95-632458A2D7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717480"/>
            <a:ext cx="507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99284c"/>
                </a:solidFill>
                <a:uFillTx/>
                <a:latin typeface="Arial"/>
                <a:ea typeface="Arial"/>
              </a:rPr>
              <a:t>День защиты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2519280"/>
            <a:ext cx="907092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1 ию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MT"/>
                <a:ea typeface="ArialMT"/>
              </a:rPr>
              <a:t>После Второй мировой войны проблемы сохранения здоровья и благополучия детей были как никогда актуаль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ArialMT"/>
                <a:ea typeface="ArialMT"/>
              </a:rPr>
              <a:t>1949 году</a:t>
            </a:r>
            <a:r>
              <a:rPr b="1" lang="ru-RU" sz="2600" spc="-1" strike="noStrike">
                <a:solidFill>
                  <a:srgbClr val="ff0000"/>
                </a:solidFill>
                <a:latin typeface="ArialMT"/>
                <a:ea typeface="ArialMT"/>
              </a:rPr>
              <a:t> в Париже состоялся 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ArialMT"/>
                <a:ea typeface="ArialMT"/>
              </a:rPr>
              <a:t>конгресс женщин</a:t>
            </a:r>
            <a:r>
              <a:rPr b="1" lang="ru-RU" sz="2600" spc="-1" strike="noStrike">
                <a:solidFill>
                  <a:srgbClr val="ff0000"/>
                </a:solidFill>
                <a:latin typeface="ArialMT"/>
                <a:ea typeface="ArialMT"/>
              </a:rPr>
              <a:t>, на котором прозвучала клятва о безустанной борьбе за обеспечение прочного мира, как единственной гарантии счастья детей. Через год, в 1950 году 1 июня был проведен первый </a:t>
            </a:r>
            <a:r>
              <a:rPr b="1" i="1" lang="ru-RU" sz="2600" spc="-1" strike="noStrike">
                <a:solidFill>
                  <a:srgbClr val="ff0000"/>
                </a:solidFill>
                <a:latin typeface="ArialMT"/>
                <a:ea typeface="ArialMT"/>
              </a:rPr>
              <a:t>Международный день защиты детей,</a:t>
            </a:r>
            <a:r>
              <a:rPr b="1" lang="ru-RU" sz="2600" spc="-1" strike="noStrike">
                <a:solidFill>
                  <a:srgbClr val="ff0000"/>
                </a:solidFill>
                <a:latin typeface="ArialMT"/>
                <a:ea typeface="ArialMT"/>
              </a:rPr>
              <a:t> после чего этот праздник проводится ежегод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9640" y="539640"/>
            <a:ext cx="3200400" cy="22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99284c"/>
                </a:solidFill>
                <a:uFillTx/>
                <a:latin typeface="Arial"/>
              </a:rPr>
              <a:t>День защиты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5400360"/>
            <a:ext cx="9720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c2300"/>
                </a:solidFill>
                <a:latin typeface="Arial"/>
              </a:rPr>
              <a:t>- зелёный фон: гармония, рост, свеж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c2300"/>
                </a:solidFill>
                <a:latin typeface="ArialMT"/>
                <a:ea typeface="ArialMT"/>
              </a:rPr>
              <a:t>- разноцветные фигурки: разнообразие и терпи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c2300"/>
                </a:solidFill>
                <a:latin typeface="ArialMT"/>
                <a:ea typeface="ArialMT"/>
              </a:rPr>
              <a:t>- знак Земли в центре: символ нашего общего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720" y="1116000"/>
            <a:ext cx="5400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99284c"/>
                </a:solidFill>
                <a:uFillTx/>
                <a:latin typeface="Arial"/>
                <a:ea typeface="Arial"/>
              </a:rPr>
              <a:t>День защиты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3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55e00"/>
                </a:solidFill>
                <a:uFillTx/>
                <a:latin typeface="Verdana"/>
                <a:ea typeface="Verdana"/>
              </a:rPr>
              <a:t>1989 г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3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55e00"/>
                </a:solidFill>
                <a:latin typeface="Verdana"/>
                <a:ea typeface="Verdana"/>
              </a:rPr>
              <a:t>ООН подготовила Конвенцию о правах ребенка — главный документ, определяющий обязанности государств перед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60880" y="4859280"/>
            <a:ext cx="429876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729720"/>
            <a:ext cx="5435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99284c"/>
                </a:solidFill>
                <a:uFillTx/>
                <a:latin typeface="Arial"/>
                <a:ea typeface="Arial"/>
              </a:rPr>
              <a:t>День защиты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700360"/>
            <a:ext cx="63007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3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  <a:ea typeface="Verdana"/>
              </a:rPr>
              <a:t>Особое внимание уделяется помощ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3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  <a:ea typeface="Verdana"/>
              </a:rPr>
              <a:t>детским дома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3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  <a:ea typeface="Verdana"/>
              </a:rPr>
              <a:t>многодетным семья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3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  <a:ea typeface="Verdana"/>
              </a:rPr>
              <a:t>ребятишкам из неблагополучных семей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3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  <a:ea typeface="Verdana"/>
              </a:rPr>
              <a:t>детям, страдающим тяжелыми заболеван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39040" y="4376880"/>
            <a:ext cx="3360600" cy="2824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80000" y="539640"/>
            <a:ext cx="41403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1:03:56Z</dcterms:created>
  <dc:creator/>
  <dc:description/>
  <dc:language>en-US</dc:language>
  <cp:lastModifiedBy/>
  <cp:revision>1</cp:revision>
  <dc:subject/>
  <dc:title/>
</cp:coreProperties>
</file>