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410-82F8-492A-BB79-BF81D12F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7A6-9E6C-45AF-9280-07E8F5F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4B0-56D7-449C-8733-FE81E1E9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4FB-7076-4992-8370-1BE2C8B9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AB9-010C-407A-824C-7DA24D8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756-F81E-475B-B477-477F787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4FA-2A38-4133-BB32-A6B19C8F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687-090A-4DA0-8FBC-3E7B5DA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8A3-D74F-4367-A371-416EE95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A39-F9BA-4693-AFA8-46EC88D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83B-2350-4884-8A9B-ADA98CB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363-EB10-42EF-8DCE-447A11D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1928-9621-4A5D-AC00-C99FF969C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Киржеман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«Что значит жить по правила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: Логин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ие правила общения между людьми тебе известны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правила гостеприимства ты знаешь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кажи свое мнение о споре семиклассников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:правила мешают жить людям, потому что их часто нарушают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иса: Правила необходимы .Если бы не было правил , люди не знали бы как посту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ормы, регулирующие поведение люд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Текст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И. Семирадский .Похороны знатного муж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Текст 2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640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удожник перепутал правила этикета. Как нужно поступ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4360" y="1600200"/>
            <a:ext cx="8064360" cy="4997520"/>
            <a:chOff x="684360" y="1600200"/>
            <a:chExt cx="8064360" cy="499752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84360" y="1600200"/>
              <a:ext cx="8064360" cy="499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го не усвоил медвед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497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аставление к воспитанию внук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в предложение нужное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авила и нормы ______ поведение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авила и нормы служат _____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полнять правила 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ц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дом</cp:lastModifiedBy>
  <dcterms:modified xsi:type="dcterms:W3CDTF">2014-11-08T13:33:58Z</dcterms:modified>
  <cp:revision>17</cp:revision>
  <dc:subject/>
  <dc:title>Презентация PowerPoint</dc:title>
</cp:coreProperties>
</file>