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9.jpeg" ContentType="image/jpeg"/>
  <Override PartName="/ppt/media/image11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gif" ContentType="image/gif"/>
  <Override PartName="/ppt/media/image1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400-4AAF-4411-B77F-A210B95B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A1D-D823-4467-BAA0-03D9A8D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C9E-5A92-44C8-958B-D5795D4E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F03-A71C-43D9-82E2-2169C01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DAF6-551C-45E8-9BC1-DE5F904A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D600F-0D55-4CF3-9A66-8D872B1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902E-CCB3-430D-854C-E456D36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CBB63-4E27-4BF5-8FC0-A23AC5A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1299-23A5-4D88-B73A-B634112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FC3D-6130-48FD-B54B-51AFF12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520D-228C-4760-9E08-C1642F6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CFA-AADB-47EA-90FF-5A52AD3B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6678-9ED3-4B46-85CA-C6FEFEC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8614-AE1F-446C-9599-D8FA4D3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85D38-4DF0-4CB7-9BB9-4C843ED0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1722-B4FC-4293-9510-5F75A4EB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A9905-2328-4804-8252-C4034973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62A-DB65-41B9-97D5-17F50550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BEE-82D3-44B6-971B-5C5A129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E86-B9FA-48CD-AF84-E9367A2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636-E3DC-4C44-8C2C-9704E07C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4C1-FE85-4B50-B3DC-8182E5E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B86-D85E-4BAE-8017-BBF39D2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5B1-B97F-419B-83C3-C679042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75E-4E6D-474C-8C9D-2FEE984E2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E90-23B0-4196-9F30-216A20037D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wm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5.jpeg"/><Relationship Id="rId8" Type="http://schemas.openxmlformats.org/officeDocument/2006/relationships/image" Target="../media/image30.jpeg"/><Relationship Id="rId9" Type="http://schemas.openxmlformats.org/officeDocument/2006/relationships/image" Target="../media/image24.jpeg"/><Relationship Id="rId10" Type="http://schemas.openxmlformats.org/officeDocument/2006/relationships/image" Target="../media/image11.jpeg"/><Relationship Id="rId11" Type="http://schemas.openxmlformats.org/officeDocument/2006/relationships/image" Target="../media/image18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12.jpeg"/><Relationship Id="rId15" Type="http://schemas.openxmlformats.org/officeDocument/2006/relationships/image" Target="../media/image8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9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13.jpeg"/><Relationship Id="rId6" Type="http://schemas.openxmlformats.org/officeDocument/2006/relationships/image" Target="../media/image22.jpeg"/><Relationship Id="rId7" Type="http://schemas.openxmlformats.org/officeDocument/2006/relationships/image" Target="../media/image21.jpeg"/><Relationship Id="rId8" Type="http://schemas.openxmlformats.org/officeDocument/2006/relationships/image" Target="../media/image24.jpeg"/><Relationship Id="rId9" Type="http://schemas.openxmlformats.org/officeDocument/2006/relationships/image" Target="../media/image5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a50021"/>
                </a:solidFill>
                <a:latin typeface="Tahoma"/>
              </a:rPr>
              <a:t>Gesch</a:t>
            </a:r>
            <a:r>
              <a:rPr b="0" lang="de-DE" sz="4000" spc="-1" strike="noStrike">
                <a:solidFill>
                  <a:srgbClr val="a50021"/>
                </a:solidFill>
                <a:latin typeface="Tahoma"/>
                <a:ea typeface="Tahoma"/>
              </a:rPr>
              <a:t>äftsspiel “Zu Gast bei Sims”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487800">
            <a:off x="436320" y="1805040"/>
            <a:ext cx="2971800" cy="181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20200">
            <a:off x="167760" y="3712680"/>
            <a:ext cx="3041640" cy="202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20590800">
            <a:off x="6516720" y="3715920"/>
            <a:ext cx="2463840" cy="197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276720" y="1989000"/>
            <a:ext cx="3024000" cy="199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64000" y="4365720"/>
            <a:ext cx="295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ür den Deutschunterr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in der 9. Klasse der Sch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von Gerstenzweig V.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 rot="20555400">
            <a:off x="6084360" y="155700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2340000" cy="175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95640" y="4149720"/>
            <a:ext cx="2447640" cy="181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59640" y="4275000"/>
            <a:ext cx="2268360" cy="17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32720" y="2781360"/>
            <a:ext cx="2195280" cy="163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572000" y="1341360"/>
            <a:ext cx="2268360" cy="169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804000" y="1341360"/>
            <a:ext cx="2158920" cy="164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179280" y="2973240"/>
            <a:ext cx="2160720" cy="143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eute machen wir eine Reise in die wundersch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öne Welt des populären Computerspiels. Wir spielen selbst die Rollen der Simshelden und erleben viel Interessantes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500720" y="4255920"/>
            <a:ext cx="2266920" cy="171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572000" y="2924280"/>
            <a:ext cx="22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2340000" y="2781360"/>
            <a:ext cx="2232000" cy="164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2411280" y="134928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179280" y="133200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a50021"/>
                </a:solidFill>
                <a:latin typeface="Tahoma"/>
              </a:rPr>
              <a:t>Die Simshelden haben viele Aufgaben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sich zu bi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eine Reise zu ma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Gartenbau zu erler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ein Auto zu kauf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ein Fest zu veranstal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das eigene Business zu organisie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017800" cy="15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541656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321300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16720" y="5373720"/>
            <a:ext cx="2158920" cy="1427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924360" y="1125360"/>
            <a:ext cx="1441440" cy="139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564000" y="5445000"/>
            <a:ext cx="20876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r Gang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s Spiels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859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r Teilnehm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komm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eine Karte für 6 Aufkleber, auf dem ein farbig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ärtchen schon aufgeklebt i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Auf dieser Karte stehen 5  Aufgaben, die man erfüllen mu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Das farbig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ärtchen bestimmt das Geschäft des Menschen (z.B. die Autos, die Feste, die Reise us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3640" y="2997360"/>
          <a:ext cx="3822840" cy="1333080"/>
        </p:xfrm>
        <a:graphic>
          <a:graphicData uri="http://schemas.openxmlformats.org/drawingml/2006/table">
            <a:tbl>
              <a:tblPr/>
              <a:tblGrid>
                <a:gridCol w="1228680"/>
                <a:gridCol w="1428120"/>
                <a:gridCol w="1166040"/>
              </a:tblGrid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e Reise gemach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sich gut gebild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modernes Auto gekauf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en Gartendau erler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sc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önes Fest veranstalt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as eigene Blumenbusiness organisie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grayscl/>
          </a:blip>
          <a:stretch/>
        </p:blipFill>
        <p:spPr>
          <a:xfrm rot="21019800">
            <a:off x="7380360" y="155736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>
            <a:grayscl/>
          </a:blip>
          <a:stretch/>
        </p:blipFill>
        <p:spPr>
          <a:xfrm rot="19320600">
            <a:off x="7093080" y="765000"/>
            <a:ext cx="1547640" cy="114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grayscl/>
          </a:blip>
          <a:stretch/>
        </p:blipFill>
        <p:spPr>
          <a:xfrm rot="16953600">
            <a:off x="6228360" y="547920"/>
            <a:ext cx="16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>
            <a:grayscl/>
          </a:blip>
          <a:stretch/>
        </p:blipFill>
        <p:spPr>
          <a:xfrm rot="15734400">
            <a:off x="5488560" y="495360"/>
            <a:ext cx="1692360" cy="1221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>
            <a:grayscl/>
          </a:blip>
          <a:stretch/>
        </p:blipFill>
        <p:spPr>
          <a:xfrm rot="13674600">
            <a:off x="4917600" y="850320"/>
            <a:ext cx="1584360" cy="112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1510800">
            <a:off x="4788000" y="1413000"/>
            <a:ext cx="1619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003640" y="4941720"/>
          <a:ext cx="3889080" cy="1366560"/>
        </p:xfrm>
        <a:graphic>
          <a:graphicData uri="http://schemas.openxmlformats.org/drawingml/2006/table">
            <a:tbl>
              <a:tblPr/>
              <a:tblGrid>
                <a:gridCol w="1230840"/>
                <a:gridCol w="1431000"/>
                <a:gridCol w="12272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e Reise gemach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sich gut gebild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modernes Auto gekauf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en Gartendau erler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sc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önes Fest veranstalt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as eigene Blumenbusiness organisie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003640" y="4941720"/>
            <a:ext cx="122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r Gang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s Spiels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500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Dann sucht man den Partner. Das ist die Person, die das farbige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rtchen mit denselben Motiven 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Jedes Paar bekommt 10 schwarz-weiße  und 10 farbige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rtchen und eine große Karte für 12 Aufkleber. 2 schwarz-weiße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rtchen, die den farbigen Bildern der Besitzer entsprechen, sind schon aufgekleb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Die Besitzer  denken an den Namen, das Schild und die Werbung ihres Geschäf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48360" y="4292640"/>
          <a:ext cx="3609720" cy="1800000"/>
        </p:xfrm>
        <a:graphic>
          <a:graphicData uri="http://schemas.openxmlformats.org/drawingml/2006/table">
            <a:tbl>
              <a:tblPr/>
              <a:tblGrid>
                <a:gridCol w="898200"/>
                <a:gridCol w="951120"/>
                <a:gridCol w="958680"/>
                <a:gridCol w="80172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2820960" cy="187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16720" y="404640"/>
            <a:ext cx="2500200" cy="188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148360" y="4292640"/>
            <a:ext cx="1008000" cy="61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6084720" y="4292640"/>
            <a:ext cx="93672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r Gang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des Spiels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788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f den schwarz-wei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ßen</a:t>
            </a:r>
            <a:r>
              <a:rPr b="1" lang="de-DE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rtchen stehen die Fragen geschrieben. Die farbigen Bilder enthalten die Antwort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Die Schüler müssen die Frage , die auf dem schwarz-weiße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rtchen  steht, richtig beantworten und dann bekommen sie das farbige Bild und kleben es auf die eigene Karte au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Alle spielenden erfüllen sofort 2 Rollen. 1)Sie antworten auf die Fragen, um die eigene Karte auszufüllen.2)Sie arbeiten mit dem Partner und füllen die große Businesskarte a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859280" y="476280"/>
          <a:ext cx="3241800" cy="1512720"/>
        </p:xfrm>
        <a:graphic>
          <a:graphicData uri="http://schemas.openxmlformats.org/drawingml/2006/table">
            <a:tbl>
              <a:tblPr/>
              <a:tblGrid>
                <a:gridCol w="1041480"/>
                <a:gridCol w="1212840"/>
                <a:gridCol w="98748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e Reise gemach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sich gut gebild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modernes Auto gekauf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en Gartendau erler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sc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önes Fest veranstalt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as eigene Blumenbusiness organisie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788000" y="3860640"/>
          <a:ext cx="4038480" cy="2016360"/>
        </p:xfrm>
        <a:graphic>
          <a:graphicData uri="http://schemas.openxmlformats.org/drawingml/2006/table">
            <a:tbl>
              <a:tblPr/>
              <a:tblGrid>
                <a:gridCol w="1004760"/>
                <a:gridCol w="1063800"/>
                <a:gridCol w="1073160"/>
                <a:gridCol w="896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1152720" cy="76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88000" y="3860640"/>
            <a:ext cx="1079280" cy="6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796000" y="3860640"/>
            <a:ext cx="1081080" cy="677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093080" y="47628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948360" y="119700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5867280" y="476280"/>
            <a:ext cx="1225800" cy="80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4859280" y="1220760"/>
            <a:ext cx="1152720" cy="770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5867280" y="1197000"/>
            <a:ext cx="1225800" cy="80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7740720" y="3860640"/>
            <a:ext cx="1081080" cy="80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6877080" y="3860640"/>
            <a:ext cx="1079640" cy="800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>
            <a:grayscl/>
          </a:blip>
          <a:stretch/>
        </p:blipFill>
        <p:spPr>
          <a:xfrm>
            <a:off x="6877080" y="4653000"/>
            <a:ext cx="1006560" cy="75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>
            <a:grayscl/>
          </a:blip>
          <a:stretch/>
        </p:blipFill>
        <p:spPr>
          <a:xfrm>
            <a:off x="4788000" y="508464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>
            <a:grayscl/>
          </a:blip>
          <a:stretch/>
        </p:blipFill>
        <p:spPr>
          <a:xfrm>
            <a:off x="4788000" y="4508640"/>
            <a:ext cx="1008000" cy="76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>
            <a:grayscl/>
          </a:blip>
          <a:stretch/>
        </p:blipFill>
        <p:spPr>
          <a:xfrm>
            <a:off x="7885080" y="5229360"/>
            <a:ext cx="936720" cy="695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>
            <a:grayscl/>
          </a:blip>
          <a:stretch/>
        </p:blipFill>
        <p:spPr>
          <a:xfrm>
            <a:off x="7885080" y="4653000"/>
            <a:ext cx="9349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5867280" y="5157720"/>
            <a:ext cx="1009800" cy="74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>
            <a:grayscl/>
          </a:blip>
          <a:stretch/>
        </p:blipFill>
        <p:spPr>
          <a:xfrm>
            <a:off x="5796000" y="450864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9">
            <a:grayscl/>
          </a:blip>
          <a:stretch/>
        </p:blipFill>
        <p:spPr>
          <a:xfrm>
            <a:off x="6877080" y="5157720"/>
            <a:ext cx="10080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a50021"/>
                </a:solidFill>
                <a:latin typeface="Tahoma"/>
              </a:rPr>
              <a:t>Auswertung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42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enn d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Schül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die Frage falsch beantwortet, so bekommt er kein farbiges Bild. Und am Ende des Spiels muss man z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ählen, wer wie viel Aufgaben erfüllt hat. 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Dann werten die Kinder die Ergebnisse aus. Sie erzählen, was sie heute erfahren hab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ahoma"/>
              </a:rPr>
              <a:t>Die Schüler, die besten Ergebnisse haben, bekommen gute Noten und belegen den ersten, zweiten oder dritten Platz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48320" y="1905120"/>
          <a:ext cx="4038120" cy="1980720"/>
        </p:xfrm>
        <a:graphic>
          <a:graphicData uri="http://schemas.openxmlformats.org/drawingml/2006/table">
            <a:tbl>
              <a:tblPr/>
              <a:tblGrid>
                <a:gridCol w="1277280"/>
                <a:gridCol w="1486800"/>
                <a:gridCol w="1274040"/>
              </a:tblGrid>
              <a:tr h="94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e Reise gemach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sich gut gebild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modernes Auto gekauf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en Gartendau erler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sc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önes Fest veranstalt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as eigene Blumenbusiness organisie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1168200" cy="142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626240" y="189000"/>
            <a:ext cx="1324080" cy="16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114300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643280" y="1916280"/>
            <a:ext cx="129708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4648320" y="4038480"/>
          <a:ext cx="4038120" cy="1981080"/>
        </p:xfrm>
        <a:graphic>
          <a:graphicData uri="http://schemas.openxmlformats.org/drawingml/2006/table">
            <a:tbl>
              <a:tblPr/>
              <a:tblGrid>
                <a:gridCol w="1278000"/>
                <a:gridCol w="1486800"/>
                <a:gridCol w="1273320"/>
              </a:tblGrid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e Reise gemach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sich gut gebild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modernes Auto gekauf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en Gartendau erler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ein sc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önes Fest veranstalt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e haben das eigene Blumenbusiness organisie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7380360" y="495468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80360" y="1916280"/>
            <a:ext cx="1297080" cy="97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940360" y="2852640"/>
            <a:ext cx="1511280" cy="10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940360" y="4005360"/>
            <a:ext cx="1511280" cy="99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4643280" y="4941720"/>
            <a:ext cx="12970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52:53Z</dcterms:created>
  <dc:creator>123</dc:creator>
  <dc:description/>
  <dc:language>en-US</dc:language>
  <cp:lastModifiedBy>123</cp:lastModifiedBy>
  <dcterms:modified xsi:type="dcterms:W3CDTF">2009-11-24T08:35:27Z</dcterms:modified>
  <cp:revision>7</cp:revision>
  <dc:subject/>
  <dc:title>Слайд 1</dc:title>
</cp:coreProperties>
</file>