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6E1-8156-489E-8127-85125304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4B7-8C4B-4D17-9825-B2B1F334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BB8-1959-4CDB-A5CB-5807646F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B2A-F0AC-4243-BEDB-DDEC665E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DF5-8A6F-4E52-826F-8988AC7C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EFE-F6D4-4F83-AA8A-D8C8772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AC3-1096-4710-A650-E3F1B20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325-0702-4D43-B2C0-64981EB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524-737A-4D4F-8443-FFDA7C0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9BE-A212-48CF-9E94-DAE7F5F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322-B561-45F6-9135-56F74DF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CFB-6DD0-4A6B-8ABE-7862D66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C49C-8B6C-4F38-A0B4-C1017CB633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62028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«ИННОВАЦИОННЫЕ ТЕХНОЛОГИИ В ОБУЧЕ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Панарина С.Г.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учитель истории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обществозн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ГБОУ Школа № 13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ДО города Москв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604980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1680" y="189000"/>
            <a:ext cx="84470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Информационно - аналитическое обеспечение учебного процесса и управление качеством образования школьни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нение такой инновационной технологии, как информационно - аналитическая методика управления качеством обучения позволяет объективно, беспристрастно проследить развитие во времени каждого ребенка в отдельности, класса, параллели, школы в целом. При некоторой модификации может стать незаменимым средством при подготовке классно - обобщающего контроля, изучении состояния преподавания любого предмета учебного плана, изучения системы работы отдельно взятого педагога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  Мониторинг интеллектуального развития. Анализ и диагностика качества обучения каждого учащегося при помощи тестирования и построения графиков динамики успеваемости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Воспитательные технологии как ведущий механизм формирования современного ученика. Является неотъемлемым фактором в современных условиях обучения. Реализуется в виде вовлечения учащихся в дополнительные формы развития личности: участие в культурно-массовых мероприятиях по национальным традициям, театре, центрах детского творчества и др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Дидактические технологии как условие развития учебного процесса ОУ. Это - самостоятельная работа с помощью учебной книги, игра, оформление и защита проектов, обучение с помощью аудиовизуальных технических средств, система «консультант», групповые, дифференцированные способы обучения  - система «малых групп»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Психолого-педагогическое сопровождение внедрения инновационных технологий в учебно-воспитательный процесс школы. Предполагается научно-педагогическое обоснование использования тех или иных инноваций. Их анализ на методических советах, семинарах, консультации с ведущими специалистами в этой об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им образом, опыт современной российской школы располагает широчайшим арсеналом применения педагогических инноваций в процессе обучения. Эффективность их применения зависит от сложившихся традиций в общеобразовательном учреждении, способности педагогического коллектива воспринимать эти инновации, материально-технической базы учрежд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Инновационные технологии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на уроке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онные технологии сегодня завоевывают все большее признание и применяются в преподавании различных предметов в школе. Педагоги внедряют в практику такие инновационные технологии, как технологии дифференциации и индивидуализации, технологии проблемного обучения, проектные технологии, интерактивные и информационные технологии.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онные технологии включают в себя применение компьютера. Урок с применением ИКТ и мультимедийных технологий – это качественно новый тип уро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ычно учебные презентации, интерактивные рисунки, видеофильмы, анимации, компьютерные тесты позволяют учащимся быстро и непринужденно усвоить материал. Применение информационных и коммуникационных технологий обеспечивает: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строту получения необходимой информации;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ие качественно нового, динамичного и информативного, типа урока;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ирокий спектр наглядных пособий;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интереса к предмету;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чественную проверку знаний при помощи тренажеров;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корение учебного процесса благодаря более тесному взаимодействию педагога с учащимися.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годня появилось большое количество новых цифровых образовательных ресурсов, применение которых позволяет сэкономить время подготовки к уроку, выбрать тот материал, который позволит учащимся в полной мере усвоить новые знания, разнообразить проверку и закрепление усвоенного материала. Цифровые образовательные ресурсы предоставляют возможность показать те процессы и явления, которые отдалены от нас во времени и пространстве.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 объекты могут быть скомпонованы в различные презентации к урокам в зависимости от типа урока, задач, поставленных педагогом, уровня подготовки школьников. Также цифровые образовательные ресурсы позволяют подготовить материал для самостоятельных и лабораторных работ, отобрать информационные объекты в нужной последовательности.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онные технологии в обучении – это принципиально новые способы и методы взаимодействия учителей и школьников, обеспечивающие эффективное достижение результата педагогической деятель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в школе инновационные образовательные технологии и методики преподавания позволяют значительно повысить эффективность обучения, инициативность и успешность всех участников образовательного процесса.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пространению современных инновационных технологий в учебном процессе мешает ряд значимых факторов, таких как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достаточная оснащенность учебных заведений компьютерными и электронными средствами обу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равило, отсутствие выхода учебных заведений в Internet и другие международные информационные се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хватка научно-методической базы (электронных пособий, лаборатор­ных и контрольных работ, тестов и т.д.) для проведения учебных занят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достаточная квалификация преподавателей в области современной компьютерной техники, незнание ими как программного обеспечения, так и технологии препода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как следствие этого, недостаточные знания учащихся в области обращения с компьютерами, с материалом, представленным в электронном вид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сутствие должного внимания руководителей учебных заведений этой методике обуч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ю этих вопросов может способствовать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квалификация учителей для освоения новых инновационных технологий обу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ощрение разработки учителями новых методических мультимедийных пособ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ие on-line конференций, лекций, семинаров и других учебных мероприятий по сети Internet и другим информационным сет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е сети мультимедийных классов, лабораторий и библиотек в учебных заведен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4000" y="333360"/>
            <a:ext cx="85406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еличение количества академических часов обучения работе на компьютере, в Internet, с электронными обучающими средств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ие научно-просветительской работы среди учащихся по современным информационным технолог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ие средства позволили бы не только улучшить качество образования, но и донести знания до большего количества челов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 эффективным способом введения новых инновационных технологий в образовании является разработка и внедрение дистанционного обучения через локальные и глобальные мировые сети. Таким образом, дистанционно можно сдавать экзамены, получать консультации учителей, тестироваться на знание предметов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онные технологии в обучении позволяют не только донести образование в массы, повысить его качество и ускорить процесс приобретения знаний, но и сделать образование более доступным в материальном плане, что не мало­важно в настоящее время. За новыми компьютерными и информационными технологиями наше будуще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, способный и готовый к осуществлению инновационной деятельности в школе, может состояться лишь тогда, когда осознает себя как профессионал, имеет установку на творческое восприятие инновационного опыта и его необходимое преобразование.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14836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второго тысячелетия ознаменовался переходом от индустриального к информационному обществу, в котором знания становятся основными производительными силами. В информационном обществе существенным образом изменяется стратегия образования, причем важнейшей его чертой является открытость. Открытое образование является наиболее передовой, современной формой получения образования, основанной на современных технологиях обуч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числу этих технологий относятся сетевые, информационные, дистанционные и инновационные образовательные технологии. Информационные ресурсы стали по существу новой экономической категорией, определяющей очередной взлет научно-технического прогресс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и в образовательной деятельности – это использование новых знаний, приёмов, подходов, технологий для получения результата в виде образовательных услуг, отличающихся социальной и рыночной востребованностью. Изучение инновационного опыта показывает, что большинство нововведений посвящены разработке технолог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оследние десятилетия в педагогической практике начали широко применяться различные образовательные технологии, хотя мысль о технологизации процесса обучения высказывал ещё Я.А. Коменский почти 400 лет назад. Он призывал сделать обучение «техническим», т.е. таким, чтобы всё, чему учат, имело успе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рубежом, прежде всего в США, интерес к образовательным технологиям возник в середине XX в., когда появились первые программы аудиовизуального обучения, т.е. обучения с помощью технических средств. Термин «образовательные технологии», появившийся в 1960-х гг., означает построение педагогического процесса с гарантированным результа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агогика давно искала пути достижения если не абсолютного, то хотя бы высокого результата в работе с воспитанниками и постоянно совершенствовала свои средства, методы и фор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астоящее время в России идет становление новой системы образования, ориентированного на вхождение в мировое образовательное пространство. Этот процесс сопровождается существенными изменениями в педагогической теории и практике учебно-воспитательного процесса. Происходит модернизация образовательной системы - предлагаются иное содержание, подходы, поведение, педагогический менталит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им образом, происходит переориентация на гуманистический подход в обучении. Внедряются инновационные педагогические технологии, предусматривающие учет и развитие индивидуальных особенностей учащихся. Современные образовательные технологии можно рассматривать как ключевое условие повышения качества образования, снижения нагрузки учащихся, более эффективного использования учебного вре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ецифика образования в начале третьего тысячелетия предъявляет особые требования к использованию разнообразных технологий, поскольку их продукт направлен на живых людей, а степень формализации и алгоритмизации технологических образовательных операций вряд ли когда-либо будет сопоставима с промышленным производством. В связи с этим наряду с технологизацией образовательной деятельности столь же неизбежен процесс ее гуманизации, что сейчас находит все более широкое распространение в рамках личностно-деятельностного подхода. Глубинные процессы, происходящие в системе образования и в нашей стране, и за рубежом, ведут к формированию новой идеологии и методологии образования как идеологии и методологии инновационного образования. Инновационные технологии обучения следует рассматривать как инструмент, с помощью которого новая образовательная парадигма может быть претворена в жизн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Инновационная образовательная 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765000"/>
            <a:ext cx="86630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я, нововведение – это внедрённое новшество, обеспечивающее качественный рост эффективности процессов или конечных результатов.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новация является конечным продуктом интеллектуальной деятельности человека, его фантазии, творческого процесса, изобретений и рационализации. Под инновацией следует понимать не всякое новшество или нововведение, а только то, которое серьёзно повышает эффективность действующей системы. Технологический аспект инноваций предполагает использование  различных технических средств и оборудования в обучении (компьютерные технологии, сеть Интернет 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классу инновационных технологий относятся ИКТ (информационно-коммуникационные технологии), которые одновременно выполняют функции инструментов и объектов познания. Инновационные технологии в образовании характеризуются достижением следующих эффект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воение за минимальный промежуток времени максимального объема информа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творческой активности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владением широким спектром практических навыков и ум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же такое «инновационная образовательная технология»? Это комплекс из трех взаимосвязанных составляющи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Современное содержание, которое передается обучающимся, предполагает не столько освоение предметных знаний, сколько развитие компетенций, адекватных современной бизнес-практике. Это содержание должно быть хорошо структурированным и представленным в виде мультимедийных учебных материалов, которые передаются с помощью современных средств коммуник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Современные методы обучения – активные методы формирования компетенций, основанные на взаимодействии обучающихся и их вовлечении в учебный процесс, а не только на пассивном восприятии материал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Современная инфраструктура обучения, которая включает информационную, технологическую, организационную и коммуникационную составляющие, позволяющие эффективно использовать преимущества дистанционных форм обуч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цели современных образовательных технологий заключаются в следующем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ставление фундаментального образования, получив которое, учащийся способен самостоятельно работать, учиться и переучиватьс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у учащихся креативности, умения работать в команде, проектного мышления и аналитических способностей, коммуникативных компетенций, толерантности и способности к самообучению, что обеспечит успешность личностного, профессионального и карьерного роста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Новые информационные технологии в обуч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е информационные технологии обучения (НИТО) определяются как совокупность внедряемых систем управления образования и систем обучения, новых методов обработки данных, представляющих собой целостные обучающие системы и отображение информационного продукта с наименьшими затратами и в соответствии с закономерностями той среды, в которой они развивают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информационно-коммуникационных технологий – это программные, программно-аппаратные и технические средства и устройства, функционирующие на базе микропроцессорной, вычислительной техники, а также современных средств и систем транслирования информации, информационного обмена, обеспечивающие операции по сбору, продуцированию, накоплению, хранению, обработке, передаче информации и возможность доступа к информационным ресурсам локальных и глобальных компьютерных с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наиболее часто используемым в учебном процессе средствам новых информационных технологий относятся: электронные учебники и пособия, демонстрируемые с помощью компьютера и мультимедийного проектора, электронные энциклопедии и справочники, тренажеры и программы тестирования, образовательные ресурсы Интернета, DVD и CD диски с картинами и иллюстрациями, видео и аудиотехника, научно-исследовательские работы и проекты; интерактивная доска и д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выделяют несколько классификаций средств ИК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ответствии с первой классификацией, все средства ИКТ, применяемые в системе образования, можно разделить на два типа: аппаратные (компьютер, принтер, сканер, фотоаппарат, видеокамера, аудио- и видеомагнитофон и др.) и программные (электронные учебники, тренажеры, тестовые среды, информационные сайты, поисковые системы Интернета и т.д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20000" cy="5185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75200" y="6307920"/>
            <a:ext cx="80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ификация средств ИКТ по области методического назна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рыв в области ИКТ, происходящий в настоящее время, заставляет пересматривать вопросы организации информационного обеспечения познавательной деятельности. Таким образом, классификация средств ИКТ позволяет рассмотреть возможности использования информационных технологий в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численные средства ИКТ создают благоприятные возможности на уроках для организации самостоятельной работы обучающихся. Они могут использовать компьютерные технологии как для изучения отдельных тем, так и для самоконтроля полученных зна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ставляющими новых информационных технологий обучения являются средства НИТО и методы их использования в учебном процесс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й целью новых информационных технологий обучения является подготовка учащихся к полноценной жизнедеятельности в условиях информационного общ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агогические задачи НИТ обуч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информационной культуры уча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е творческого потенциала обучаемого: развитие способностей к коммуникативным действиям; развитие умений экспериментально-исследовательской деятельности; развитие культуры учебно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тенсификация всех уровней учебно-воспитательного процесса, повышение его эффективности и качест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социального заказа, обусловленного информатизацией современного общества (подготовка специалистов в области информатики и вычислительной техники; подготовка пользователя средствами новых информационных технологий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рименение инновационных технологий в обуче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764640"/>
            <a:ext cx="86630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астоящий момент в школьном образовании применяют самые различные педагогические инновации. Это зависит, прежде всего, от традиций и статусности учреждения. Тем не менее, можно выделить  следующие наиболее характерные инновационные технологии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Информационно-коммуникационные технологии (ИКТ) в предметном обучении. Опыт применения ИКТ в школах показал, чт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онная среда школы открытого типа, включающая различные формы дистанционного образования, существенно повышает мотивацию учеников к изучению предметных дисциплин, особенно с использованием метода проект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тизация обучения привлекательна для ученика в том, что снимается психологическое напряжение школьного общения путем перехода от субъективных отношений "учитель-ученик” к наиболее объективным отношениям "ученик-компьютер-учитель”, повышается эффективность ученического труда, увеличивается доля творческих работ, расширяется возможность в получении дополнительного образования по предмету в стенах школы, а в будущем осознается целенаправленный выбор вуза, престижной работы;                                                   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тизация преподавания привлекательна для учителя тем, что позволяет повысить производительность его труда, повышает общую информационную культуру учи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Личностно - ориентированные технологии в преподавании предмета – эти технологии ставят в центр всей школьной образовательной системы личность ребенка, обеспечение комфортных, бесконфликтных и безопасных условий ее развития, реализации ее природных потенциалов. Личность ребенка в этой технологии не только субъект, но и субъект приоритетный; она является целью образовательной системы, а не средством достижения какой-либо отвлеченной цели. Проявляется в освоении учащимися индивидуальных образовательных программ в соответствии с их возможностями и потребност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3:03:48Z</dcterms:created>
  <dc:creator>user</dc:creator>
  <dc:description/>
  <dc:language>en-US</dc:language>
  <cp:lastModifiedBy>P</cp:lastModifiedBy>
  <dcterms:modified xsi:type="dcterms:W3CDTF">2014-11-08T07:33:26Z</dcterms:modified>
  <cp:revision>274</cp:revision>
  <dc:subject/>
  <dc:title>Оценка персонала и ее применение в практике управления  (на примере ОАО «ВымпелКом»)</dc:title>
</cp:coreProperties>
</file>