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117-CE7C-4570-8BB9-8A7EC48C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03E-F9DA-4F60-B324-9AD5BB42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554-22C3-4067-8EB4-F1E2E41B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F64-CE95-49F0-8ACB-A976C74D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B3C-895E-4C6F-AC89-12CD45A8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EDA5-C8CC-412E-A27C-8F9486B5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F177-407A-4075-A2D7-A892FC8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1B76-1A1F-4A44-9628-28DBAA8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5882-E7FC-491A-BFDF-2C77304C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0121-70A3-43A2-A841-0A238A6B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6B80-0ABA-4818-AEFF-6D52D62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637-EE39-4A24-891D-2D831D11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016A-4CB3-488A-B6E6-4103F41D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C789-FBA2-4B51-A5B7-E6C7FDE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8FF3-3F6E-4056-8133-85DDDB92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B911-7908-446D-84E9-098B7C1E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6269-FE57-42F2-942F-924EA043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877-553B-401D-8214-38E3234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F97-0CD0-42E6-8730-DE8DB2DC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FC1-214D-46C8-AF6A-371D87D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142-2CE9-4FAC-BE92-DA1C58C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B2C-A15B-44B8-8D82-7C40308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A6E-98F4-444E-8FEE-0D8D166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234-C4ED-4D26-88B8-D4CA80E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75D-8C65-4BD0-94B9-5FCAB55F70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71A4-4814-4B7D-8921-81E47DA4E2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6633"/>
                </a:solidFill>
                <a:latin typeface="Garamond"/>
              </a:rPr>
              <a:t>Презентация по геометрии </a:t>
            </a:r>
            <a:br>
              <a:rPr sz="4600"/>
            </a:br>
            <a:r>
              <a:rPr b="0" i="1" lang="ru-RU" sz="4600" spc="-1" strike="noStrike">
                <a:solidFill>
                  <a:srgbClr val="006633"/>
                </a:solidFill>
                <a:latin typeface="Garamond"/>
              </a:rPr>
              <a:t>на тему: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4600" spc="-1" strike="noStrike">
                <a:solidFill>
                  <a:srgbClr val="ff0000"/>
                </a:solidFill>
                <a:latin typeface="Garamond"/>
              </a:rPr>
              <a:t>«Цилиндр»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4508280"/>
            <a:ext cx="482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ница 11 «Б» класс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БОУ СОШ ЗАТО Звёз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ева 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лощадь поверхности цилиндр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904000" cy="7767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780000" y="1989000"/>
            <a:ext cx="41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с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о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ость, параллельная плоскости основания цилиндра, пересекает его боковую поверхность по окружности, равной окружности основан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α – плоскость, параллельная плоскости основания цилиндра. Параллельный перенос в направлении оси цилиндра, совмещает плоскость α с плоскостью основания цилиндра, совмещает сечение боковой поверхности плоскостью α с окружностью основания. Теорема доказ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e4eniecilindrploskosty1"/>
          <p:cNvPicPr/>
          <p:nvPr/>
        </p:nvPicPr>
        <p:blipFill>
          <a:blip r:embed="rId1"/>
          <a:stretch/>
        </p:blipFill>
        <p:spPr>
          <a:xfrm>
            <a:off x="5508720" y="1773360"/>
            <a:ext cx="3166920" cy="2919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Теор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33"/>
                </a:solidFill>
                <a:latin typeface="Garamond"/>
              </a:rPr>
              <a:t>Задача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4" descr="12"/>
          <p:cNvPicPr/>
          <p:nvPr/>
        </p:nvPicPr>
        <p:blipFill>
          <a:blip r:embed="rId1"/>
          <a:stretch/>
        </p:blipFill>
        <p:spPr>
          <a:xfrm>
            <a:off x="611280" y="890640"/>
            <a:ext cx="7956360" cy="5967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Задача для С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/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ощадь осевого сечения цилиндра равна 10 м.кв., а площадь основания – 5 м.к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те высоту цилинд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8"/>
          <p:cNvSpPr txBox="1"/>
          <p:nvPr/>
        </p:nvSpPr>
        <p:spPr>
          <a:xfrm>
            <a:off x="1042920" y="2205000"/>
            <a:ext cx="741672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b812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3b812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Круговой цилиндр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3141720"/>
            <a:ext cx="448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ания цилинд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резки, соединяющие  соответствующие точки окружностей круг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зующие цилиндр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, Х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34000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304020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5"/>
          <p:cNvGrpSpPr/>
          <p:nvPr/>
        </p:nvGrpSpPr>
        <p:grpSpPr>
          <a:xfrm>
            <a:off x="4716360" y="2421000"/>
            <a:ext cx="4038840" cy="3744720"/>
            <a:chOff x="4716360" y="2421000"/>
            <a:chExt cx="4038840" cy="3744720"/>
          </a:xfrm>
        </p:grpSpPr>
        <p:pic>
          <p:nvPicPr>
            <p:cNvPr id="93" name="Picture 8" descr="47"/>
            <p:cNvPicPr/>
            <p:nvPr/>
          </p:nvPicPr>
          <p:blipFill>
            <a:blip r:embed="rId1"/>
            <a:stretch/>
          </p:blipFill>
          <p:spPr>
            <a:xfrm>
              <a:off x="4716360" y="2421000"/>
              <a:ext cx="403884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0"/>
            <p:cNvSpPr/>
            <p:nvPr/>
          </p:nvSpPr>
          <p:spPr>
            <a:xfrm>
              <a:off x="572652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5869080" y="5157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AutoShape 16"/>
            <p:cNvCxnSpPr>
              <a:stCxn id="97" idx="7"/>
              <a:endCxn id="98" idx="5"/>
            </p:cNvCxnSpPr>
            <p:nvPr/>
          </p:nvCxnSpPr>
          <p:spPr>
            <a:xfrm flipH="1">
              <a:off x="5893920" y="3485880"/>
              <a:ext cx="38880" cy="190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" name="Oval 17"/>
            <p:cNvSpPr/>
            <p:nvPr/>
          </p:nvSpPr>
          <p:spPr>
            <a:xfrm>
              <a:off x="5834160" y="5326200"/>
              <a:ext cx="712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AutoShape 18"/>
            <p:cNvCxnSpPr>
              <a:stCxn id="100" idx="3"/>
            </p:cNvCxnSpPr>
            <p:nvPr/>
          </p:nvCxnSpPr>
          <p:spPr>
            <a:xfrm flipH="1">
              <a:off x="7019280" y="3529080"/>
              <a:ext cx="37080" cy="187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" name="Text Box 19"/>
            <p:cNvSpPr/>
            <p:nvPr/>
          </p:nvSpPr>
          <p:spPr>
            <a:xfrm>
              <a:off x="7002720" y="3087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7073640" y="50324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1"/>
            <p:cNvSpPr/>
            <p:nvPr/>
          </p:nvSpPr>
          <p:spPr>
            <a:xfrm>
              <a:off x="7045200" y="346716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981840" y="530532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5872320" y="347508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7"/>
          <p:cNvSpPr/>
          <p:nvPr/>
        </p:nvSpPr>
        <p:spPr>
          <a:xfrm>
            <a:off x="684360" y="1268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круго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"/>
          <p:cNvGrpSpPr/>
          <p:nvPr/>
        </p:nvGrpSpPr>
        <p:grpSpPr>
          <a:xfrm>
            <a:off x="4853160" y="1268280"/>
            <a:ext cx="4290480" cy="4321080"/>
            <a:chOff x="4853160" y="1268280"/>
            <a:chExt cx="4290480" cy="4321080"/>
          </a:xfrm>
        </p:grpSpPr>
        <p:pic>
          <p:nvPicPr>
            <p:cNvPr id="106" name="Picture 6" descr="47"/>
            <p:cNvPicPr/>
            <p:nvPr/>
          </p:nvPicPr>
          <p:blipFill>
            <a:blip r:embed="rId1"/>
            <a:stretch/>
          </p:blipFill>
          <p:spPr>
            <a:xfrm>
              <a:off x="4853160" y="1268280"/>
              <a:ext cx="429048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7"/>
            <p:cNvSpPr/>
            <p:nvPr/>
          </p:nvSpPr>
          <p:spPr>
            <a:xfrm>
              <a:off x="5925960" y="2015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6077160" y="442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9"/>
            <p:cNvCxnSpPr>
              <a:stCxn id="110" idx="7"/>
              <a:endCxn id="111" idx="5"/>
            </p:cNvCxnSpPr>
            <p:nvPr/>
          </p:nvCxnSpPr>
          <p:spPr>
            <a:xfrm flipH="1">
              <a:off x="6104520" y="2497320"/>
              <a:ext cx="40680" cy="219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1" name="Oval 10"/>
            <p:cNvSpPr/>
            <p:nvPr/>
          </p:nvSpPr>
          <p:spPr>
            <a:xfrm>
              <a:off x="6040440" y="4620600"/>
              <a:ext cx="75600" cy="8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AutoShape 11"/>
            <p:cNvCxnSpPr>
              <a:stCxn id="113" idx="3"/>
            </p:cNvCxnSpPr>
            <p:nvPr/>
          </p:nvCxnSpPr>
          <p:spPr>
            <a:xfrm flipH="1">
              <a:off x="7299720" y="2546280"/>
              <a:ext cx="39240" cy="21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4" name="Text Box 12"/>
            <p:cNvSpPr/>
            <p:nvPr/>
          </p:nvSpPr>
          <p:spPr>
            <a:xfrm>
              <a:off x="7282080" y="2037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7357680" y="4281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7327080" y="247536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5"/>
            <p:cNvSpPr/>
            <p:nvPr/>
          </p:nvSpPr>
          <p:spPr>
            <a:xfrm>
              <a:off x="7259760" y="4596480"/>
              <a:ext cx="7560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6081120" y="2484360"/>
              <a:ext cx="7560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540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.к. параллельный перенос есть движение, то </a:t>
            </a: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основания цилиндра равн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.к. при параллельном переносе плоскость переходит в параллельную плоскость, то </a:t>
            </a: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у цилиндра основания лежат в параллельных плоскост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.к. при параллельном переносе точки смещаются по параллельным прямым на одно и то же расстояние, то </a:t>
            </a: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у цилиндра образующие параллельны и равн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Прямой цилинд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03640" y="1916280"/>
            <a:ext cx="5940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илиндр называется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прямы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если его образующие перпендикулярны плоскостям осн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ямой цилиндр можно получить вращением прямоугольника вокруг прямой, содержащей любую его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179280" y="1413000"/>
            <a:ext cx="6697800" cy="4103640"/>
            <a:chOff x="179280" y="1413000"/>
            <a:chExt cx="6697800" cy="4103640"/>
          </a:xfrm>
        </p:grpSpPr>
        <p:pic>
          <p:nvPicPr>
            <p:cNvPr id="121" name="Picture 8" descr=""/>
            <p:cNvPicPr/>
            <p:nvPr/>
          </p:nvPicPr>
          <p:blipFill>
            <a:blip r:embed="rId1"/>
            <a:stretch/>
          </p:blipFill>
          <p:spPr>
            <a:xfrm>
              <a:off x="179280" y="1413000"/>
              <a:ext cx="66978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9"/>
            <p:cNvSpPr/>
            <p:nvPr/>
          </p:nvSpPr>
          <p:spPr>
            <a:xfrm>
              <a:off x="1403280" y="4076640"/>
              <a:ext cx="289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348000" y="549360"/>
            <a:ext cx="5338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Радиусом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цилиндра называется радиус его основания.( АВ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Высотой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цилиндра называется расстояние между плоскостями его оснований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сью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цилиндра называется прямая, проходящая через центры оснований.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179280" y="1413000"/>
            <a:ext cx="6697800" cy="4103640"/>
            <a:chOff x="179280" y="1413000"/>
            <a:chExt cx="6697800" cy="4103640"/>
          </a:xfrm>
        </p:grpSpPr>
        <p:pic>
          <p:nvPicPr>
            <p:cNvPr id="125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1413000"/>
              <a:ext cx="66978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1403280" y="4076640"/>
              <a:ext cx="289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Сечения цилинд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5846760" cy="842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4030560" y="2492280"/>
            <a:ext cx="5113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секущая плоскость перпендикулярна оси цилиндра, то сечением цилиндра является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у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Сечение цилинд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5256360" cy="6970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572000" y="256536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секущая плоскость параллельна оси цилиндра, то сечением являетс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Сечение цилинд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056360" cy="864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3780000" y="2060640"/>
            <a:ext cx="50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секущая плоскость проходит через ось цилиндра, т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ч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е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Касательная плоск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896000" cy="508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4067280" y="1628640"/>
            <a:ext cx="50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лоскость имеет с боковой поверхностью общую прямую, то эта плоскость называ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сательн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инией касан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является образующая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42:00Z</dcterms:created>
  <dc:creator>1</dc:creator>
  <dc:description/>
  <dc:language>en-US</dc:language>
  <cp:lastModifiedBy>рпсм</cp:lastModifiedBy>
  <dcterms:modified xsi:type="dcterms:W3CDTF">2014-11-08T07:30:18Z</dcterms:modified>
  <cp:revision>13</cp:revision>
  <dc:subject/>
  <dc:title>Слайд 1</dc:title>
</cp:coreProperties>
</file>