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DE87-1B7B-4A43-818B-47CB60481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4F07-3A47-45A8-8976-AE5850328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4ED7-DC9C-45AC-B89F-465BF7406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603A-5382-44BB-989B-033343C25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26C49-649D-417C-A76F-FDC0D2317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6556D-72D5-4789-990B-084AEFF3D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20531-4EB1-42EC-8544-90A19B5E7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0189A-C66B-48B3-A0AD-4D8E426DE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9258F-BAD9-4F33-94DF-195D24B56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167D9-8CB6-4D17-BD63-04F73FE9B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90E78-84DB-4F06-AFD7-4674D076B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2CF5-90D5-481C-B571-DF33888EA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22E04-EE13-42A6-A78F-D8BF56F3C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F0B68-B000-4046-85E1-DBBE24861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8C1A6-5119-42A6-8B23-689DEBB74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6466E-483A-4C2C-AE35-C5630AEB1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661D1-8BD6-465B-9398-5251E52F9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093AE-0265-487E-B823-661A9F3B2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8587B-AFE8-499A-85D6-852427C45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CB660-C5E9-4981-95E2-87ADFC860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8E61E-6209-4868-9E45-F6F5E1867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92E3B-8F4B-4D47-8437-B40278567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D531-EA5D-4349-B813-48A752751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4058D-DC9A-4E2E-91AC-38F60FB7D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80932-DE63-49F7-AF6A-2AD4894BC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39BA3-7E3A-4AC4-BE3A-DC6B8FE5D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27DFB-7FA1-4A95-B089-EE9C72965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80BB7-1FC5-48F9-9DCA-417DC232B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3C6CE-448F-4DA8-978C-2C599BCA4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B9162-B286-463F-A9DF-1EC8F7EE2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96A27-D8E8-4AE4-8123-87A08A2AF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80A8C-DA23-4584-8CC7-624E0D7C1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41276-04F4-467E-B902-FFF95DAF2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040A-3EE9-4CB5-B192-D960080F1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7F1EE-8F56-48A6-B307-D2198DB99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70867-1E8A-4C37-A404-7708F6111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D3190-B4E9-4FB6-B0AD-DAEA77688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98C74-374D-45FF-B416-5DBE4AF99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E4321-696B-49E1-B0FF-3FDA406F3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7263A-2364-4DE6-8FCD-DA0F0DA86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5ADAD7-334B-418E-9F9E-934B33E97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025B79-F09B-439B-ADE9-DFB65F4DF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E88080-05D7-425F-9A34-FE0527040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CE775A-96AD-44DC-A248-FEC44CC64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BFA4-A48E-43ED-874A-48050873B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0D3CC4-FF5D-4480-B4C7-BE9AE33E6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6FE825-1BB5-4CEB-A3DE-1B7677E06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800E56-F346-448E-86FD-61EC5CBBC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5559E5-0ECC-4150-9036-7DCBEE4BE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5614D4-FED3-47A0-BB91-FEC7F5659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C4DC1D-2ADA-43EE-A76C-A7D12FB6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A636FD-D232-4ECE-BCD0-AEF4E0734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52CED9-4212-4AB5-A2F9-23C1C3C5D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4E8D18-C136-439C-9546-28DADF991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CFC966-1881-4361-9566-BEC056559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1AC0-B00D-44B3-BCF6-0250E3E4F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BC6D94-5167-4ED3-9DCE-A75546EFF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6599BF-78AA-4391-B713-607078EFE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C25AE7-FA81-4886-A5A7-886F11F36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EBDEA2-1E6A-4820-A67E-B4BEB3917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76D0F2-80E3-4AD4-91D6-FF2712681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2D13F0-7592-432E-A114-C62D0F696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3BAD1D-980B-43A0-9EBA-716F4D03A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A9D8A8-6A8D-4547-A415-F4B0E3A0E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1B91B0-6E32-4288-8745-039D5461C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9A9068-9414-4F51-BB77-4BC9C86CA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2ADC-8166-4C1B-8331-60170301C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057F62-254B-43C3-B7C1-1D395233E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A18991-30B6-4B92-9490-62CF53669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34A714-46CD-4A4A-A1A1-A77D2C7E2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4D64A4-16DB-40FB-936B-E5CC15CC0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238C21-5C86-4802-AB88-C98DBACB2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FDFCD4-445E-46A2-9D34-03012176F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A20C82-720E-42F7-B81B-C9B2C9BBC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8DE0D8-FFED-495B-8952-2937BD8C1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941C79-5E1E-4033-BA7B-ED20F3DB9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059974-3AE9-43E7-9F63-310402BB4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EF82-76E7-4428-B1ED-7F78AD355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FC7882-B330-429E-80C8-64311DD5A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EF3001-E191-4C44-AE47-B08110F58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9D9F71-B831-4877-90EC-CBF1DE92F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26193F-CF54-4D55-97BB-EF2B4B869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488F03-5C57-4970-AC48-7A8376AA6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04D2-B6FC-4D85-887F-E9A5D9F6E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49.xml"/><Relationship Id="rId35" Type="http://schemas.openxmlformats.org/officeDocument/2006/relationships/slideLayout" Target="../slideLayouts/slideLayout50.xml"/><Relationship Id="rId36" Type="http://schemas.openxmlformats.org/officeDocument/2006/relationships/slideLayout" Target="../slideLayouts/slideLayout51.xml"/><Relationship Id="rId37" Type="http://schemas.openxmlformats.org/officeDocument/2006/relationships/slideLayout" Target="../slideLayouts/slideLayout52.xml"/><Relationship Id="rId38" Type="http://schemas.openxmlformats.org/officeDocument/2006/relationships/slideLayout" Target="../slideLayouts/slideLayout53.xml"/><Relationship Id="rId39" Type="http://schemas.openxmlformats.org/officeDocument/2006/relationships/slideLayout" Target="../slideLayouts/slideLayout54.xml"/><Relationship Id="rId40" Type="http://schemas.openxmlformats.org/officeDocument/2006/relationships/slideLayout" Target="../slideLayouts/slideLayout55.xml"/><Relationship Id="rId41" Type="http://schemas.openxmlformats.org/officeDocument/2006/relationships/slideLayout" Target="../slideLayouts/slideLayout56.xml"/><Relationship Id="rId42" Type="http://schemas.openxmlformats.org/officeDocument/2006/relationships/slideLayout" Target="../slideLayouts/slideLayout57.xml"/><Relationship Id="rId43" Type="http://schemas.openxmlformats.org/officeDocument/2006/relationships/slideLayout" Target="../slideLayouts/slideLayout58.xml"/><Relationship Id="rId44" Type="http://schemas.openxmlformats.org/officeDocument/2006/relationships/slideLayout" Target="../slideLayouts/slideLayout59.xml"/><Relationship Id="rId4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44F63-2F00-4259-B35F-F7AED52E95F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97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0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1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2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3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4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62122-8377-41CB-BF4B-37BA46C80D4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AA722-1AF2-42D3-9BE8-DF5951B8DB2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3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4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5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6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7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8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9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60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61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62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63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64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65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66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67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68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69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70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71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72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73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74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75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76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77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78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79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0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1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2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3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801DA-C291-400F-B966-AEDE4CE331D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262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3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4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265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266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267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268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269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71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77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8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9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0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1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2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3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4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85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86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7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8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9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0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1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2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3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4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5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6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7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8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9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0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1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2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3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4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305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06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07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08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09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10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11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12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13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14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15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13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14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15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165A4-62A2-44FA-A469-AB8DF162135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4"/>
    <p:sldLayoutId id="2147483702" r:id="rId35"/>
    <p:sldLayoutId id="2147483703" r:id="rId36"/>
    <p:sldLayoutId id="2147483704" r:id="rId37"/>
    <p:sldLayoutId id="2147483705" r:id="rId38"/>
    <p:sldLayoutId id="2147483706" r:id="rId39"/>
    <p:sldLayoutId id="2147483707" r:id="rId40"/>
    <p:sldLayoutId id="2147483708" r:id="rId41"/>
    <p:sldLayoutId id="2147483709" r:id="rId42"/>
    <p:sldLayoutId id="2147483710" r:id="rId43"/>
    <p:sldLayoutId id="2147483711" r:id="rId44"/>
    <p:sldLayoutId id="2147483712" r:id="rId4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358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59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60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61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62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63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16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17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22593-FD9A-4A7E-AC8D-34575425C37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406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407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8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9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0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1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2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3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4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5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6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7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8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9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20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21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22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23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24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25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26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27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28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29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30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31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32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33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34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35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36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37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438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C4AA0-57E6-4952-8E15-E9FBD2ADE33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Урок русского языка в 5             классе.                                                                         Тема: «Как определять лексическое значение     слова»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1752480" y="396252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                                    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ыполнила:                        Виноградова Юлия Васильевна, учитель МОУ СОШ №1 п. Селижарово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Цели урока: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1. Дать понятие лексического значения слова, научить способам словотолкования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2. Сформировать умение и желание пользоваться толковым словарём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3. Показать, что лексика занимает центральное место в системе образных средств языка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ЛЕКСИКА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(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от греч. лексис – «слово, выражение»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инонимы – слова одной и той же части речи, у которых лексические значения полностью или в большей своей части совпадаю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нтонимы – слова одной и той же части речи, имеющие противоположные лексические знач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Дидактические игры и упражнен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разговорчивый            бесплодны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престанный                  безуспешны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внимательный             беспрерывны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нормальный                 буйны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истовый                        ошибочны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плодородный               рассеянны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удачный                       молчаливы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сложный                      просто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серьёзный                   легкомысленны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правильный                безумны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80520" y="990360"/>
            <a:ext cx="7543800" cy="144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Напишите синонимы, состоящие из такого же количества букв, что и соответствующие им слова.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80520" y="2971440"/>
            <a:ext cx="73868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лес          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гор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ороз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хоте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тём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одберите синонимы с удвоенными согласным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354636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учение животных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орый поезд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сфальтированная дорога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большая комнатка в квартире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пулярная игра на льду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мещение в школе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чная пристройка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ин из самых главных предметов в школе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51920" y="152280"/>
            <a:ext cx="74329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 нас смотрит симпатичное, ……….. лицо девушки. Её лукавая, ………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лыбка, смеющиеся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…………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лаза заставляют и нас улыбнуться и порадоваться её счастью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Жизнерадостное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…………..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строение передаётся нам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и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верное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поэтому так приятно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………..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смотреть на эту девушку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любоваться её одеждой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латье девушки из прозрачного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…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атериал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Оно подчёркивает нежность и молодость Арсеньевой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её изысканный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………...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кус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Ощущение радости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……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стаётся от этой картины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Подберите к словам антонимы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широкий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вёрдый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тарый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–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учный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–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есполезный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–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еряшливый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–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46784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тог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76960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шинство слов имеет лексическое значе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 есть тот главный смыс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 котором мы думае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гда произносим слов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ществует несколько способов объяснения лексического значения сло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аткое толкование слова используется в толковых словаря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бор синонимо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могает уточнить значение сло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бор однокоренных слов помогает понят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чему именно так назван предме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сунок объясняет лексическое значение сло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иман</cp:lastModifiedBy>
  <dcterms:modified xsi:type="dcterms:W3CDTF">2014-11-08T20:09:54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