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28.png" ContentType="image/pn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B046-F6D6-415C-9054-1BB227F373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710C-9E58-460C-A48A-86BA2F1F3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5CB-BC03-4593-A494-D92704A3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330-3D90-4B78-A173-1D025BFC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86CB-5069-4F0C-BBC2-1FF0E8A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9D982-634C-428D-AF48-734CE77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8F85E-7A73-434B-8F59-0607071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9CBF-0DE8-4C48-9FCB-B3F2B35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B4FF9-2DFE-4E70-B06C-3E6A9A7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13F91-5F5D-423F-801A-16ADAC5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D868B-0425-405B-A1B7-A12CBA9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DB565-77FC-4687-9AE3-7FE5E19B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7F881-C240-4864-8924-62F974C7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674-65F0-4BB9-84A3-A0AC8191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CE6-A5F8-4351-84A5-FB301868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91BB-CB6E-45DA-8B5D-05E37415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9AB0-E781-4335-B9EB-AE23BC8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105-B02E-4853-B233-3341FFF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D0D8-A34A-4B64-917D-6077527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A20A-4243-4DE8-8B34-444305B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D87F-2C32-4C4D-B091-2D17B94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EDA-49AC-49E9-8C4F-BD54EA3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10C-218A-4E5E-AAF0-F209B87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155A-F46E-407F-801C-3599E64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9C3-ADA7-458F-84D4-71C7CC9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975-FFFA-4DCC-8BE9-A9FF647C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CBA5-CF26-44B3-BBA4-FB4D0D26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6FA2-9805-437A-A53E-F5C0ABC7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ABF7-13F2-4261-B276-43CF5EC2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4593-CEE3-465D-A7DD-BF677B5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AF99-8155-4F83-AD12-0DF60954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4164-C3CB-4B67-8416-5F088165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18D3-563C-4FF3-83F8-6D985D2A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DC0-E9A7-46BD-9B19-4FBAF0D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E022-3710-49F0-A6A9-49C8646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72E6-7BA8-4643-AE4F-B2D531A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E2BE-D08C-4288-8EE0-D549AC6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6424-4A4E-4F0B-BA7F-97CA456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5540-E75D-495D-8BF2-5CF0ABB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B4F3-61AB-4380-9D4B-7C6EA7F8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891E-FDE0-4494-B14D-1972972E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7867-036F-495C-AC4F-630836DF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BB54-CD25-47AA-9AB4-4621A5F5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C917-4759-410D-B78C-0FD3E8D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1B0-227A-4EF1-938D-181189F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5F7B-D8F4-4DF3-9473-5E44A75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E331-22B9-4C40-A906-E4447C5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EEF8-16A4-47F7-B482-F3D5209A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183F-A238-410E-AAAD-DBA8EAA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0FEB-75D4-4C73-921D-0BFC531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3AA2-1832-4102-8DD6-E29EAF6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BF72-78D4-4ED3-8306-E8734B6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A018B-BDBD-46DA-8B89-B53E8872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B80A-2ECE-4279-A8A4-610F08E8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D73B-56C3-48BA-9E1D-20D5B111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2E9-87EB-400B-A3B9-D451D64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B209-17AD-4B26-8D91-0F9E184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24B0-1166-49CE-AFE5-B2A6F95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0694-F65F-4C78-BDD5-03E31E6F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B651-0748-4071-B28C-241B3B9B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E261-D7B8-445E-BB24-CD7B601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20DD-6E95-4D73-862A-3DF2EFB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0DAD-D5BA-45E0-BF83-45749FC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AA0D-6D8F-4DD7-AE41-C821D97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FDBF-884B-4BDB-964C-A8F69AF3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79ED5-43D8-4B81-A320-A59FE590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1B8-A3C1-4F7E-8655-B8C3D7EE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62CC-6B76-42BB-919D-27388C1D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CD34-AA8D-40A7-AB5A-A50D3BC8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57E5-B1EC-4FBA-AFA2-BC1AFFF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310F-09C6-40E5-BF65-82389A9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C0EE-3CB5-42BA-8A16-9734ECF3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07A0-C4BC-4E09-A0B1-B104186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2DDA-13A7-4AD5-A4F7-5832D2AD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4E60-B226-4954-BCE4-EB38EA31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ECA4-9D1B-461D-8D8F-CEF764E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1D3F-C564-47BA-A66B-3B0B4AE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BA6-1534-41C5-987D-BB70633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0ED3-F4B7-45B9-BC31-666FAB8E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E72B-7CBE-4A86-9092-4BB2E86D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BC19-55DD-4A09-8CE9-73B3D9F1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2E63-C5CF-4A90-AEE0-A2973A12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B807-DD14-4CFC-9D69-3B30984A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C320-754E-43FB-B1B5-C21EAD4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4EE1D-D716-45B6-915A-3725369D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17EC-9C01-4B4F-9B3F-AADB33BC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C421-D033-4EF5-A43F-4A87CD2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CA1F-84C2-4052-874C-B145F44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FC3-9CA2-4CDA-B54A-272A871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1D6F5-325D-4B22-BE29-D8584CA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00A3-C6DD-4F48-89AD-BAF1145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8304-31C1-4008-A4F0-94E906A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FF82A-9BB0-4A23-A9CD-99F8CF45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CD5F8-9C87-4A26-8B4B-7EB580EF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3AB7-0FDC-4470-85A7-53E46DF7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024A-9D8A-49FC-9E7C-C2440EB9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0F88-2BF7-41CE-9669-BA7BF4AC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E3CC6-4090-494C-AAC6-B41E91E7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209D-7EFA-4AF2-8A08-18DA7A9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5C5-51CD-4FBD-B06C-B2CFD99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6730-72BE-474D-8015-265490EC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2484A-06F5-4BD9-B318-6F33522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7DE0-8DC0-4C47-AE5E-9BFB27A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CE881-F12A-4AFD-A835-1EE57D5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54FB-7753-4094-9015-65C4F133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02537-EA80-454E-938E-D1638441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2A205-4B26-4E20-8A4F-4D90403F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85249-A486-4F79-B233-887285CA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1175A-9CB2-41D5-9060-7126A3B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7916-2F48-416B-A416-D59AD61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FDFC-FCCC-4572-9D40-0B41432D23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C0F-96A3-4B3D-856A-46EEF34D1D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743-9530-42CD-B6D0-2512576875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F4D-9D55-4C6E-944D-0E2BBFAD2C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45E-AD40-4356-84AC-835D9DB5CD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CB2-1DD1-4E3A-B093-20D0CFC56B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C4F7-CC59-43A9-8BAD-66AF801EF39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00C-191D-4A07-BE1F-BA0EB61C9C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FF9-278E-413D-9D6D-D61000498C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71680" y="100008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ивая Липецк с городами мира…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Picture 10" descr="http://t3.gstatic.com/images?q=tbn:ANd9GcQg94O5CiapEVG1kblrVz-SEckqQGpcHd1bshnpyi_ZNr8HZe_V"/>
          <p:cNvPicPr/>
          <p:nvPr/>
        </p:nvPicPr>
        <p:blipFill>
          <a:blip r:embed="rId2"/>
          <a:stretch/>
        </p:blipFill>
        <p:spPr>
          <a:xfrm>
            <a:off x="4857840" y="3857760"/>
            <a:ext cx="3000240" cy="24620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20" descr="http://t1.gstatic.com/images?q=tbn:ANd9GcTo122ZaRY3zOmQ93HLTJIasCwXnQhsQmbsTJQXNGWljMf0h9GGAQ"/>
          <p:cNvPicPr/>
          <p:nvPr/>
        </p:nvPicPr>
        <p:blipFill>
          <a:blip r:embed="rId3"/>
          <a:stretch/>
        </p:blipFill>
        <p:spPr>
          <a:xfrm>
            <a:off x="1143000" y="3857760"/>
            <a:ext cx="2714760" cy="2412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Сделаем наш город чищ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Мнение жителей Липецка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1.Чаще вывозить мусор из жилых зон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2.Каждые выходные проводить субботни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3.Ставить больше контейнеров для мусор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4.Использовать больше уборочных машин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5.Повысить штраф за загрязнение парков, лесов, улиц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6.Менять баки с мусором во двора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7.Ставить больше урн в общественных мест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214200" y="557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0" y="4714920"/>
            <a:ext cx="450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143000" y="1071720"/>
            <a:ext cx="60008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авнить Липецк с другими городами мира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( Сбор материала к проекту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"/>
          <p:cNvSpPr/>
          <p:nvPr/>
        </p:nvSpPr>
        <p:spPr>
          <a:xfrm>
            <a:off x="1973160" y="3246480"/>
            <a:ext cx="51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ова Людмила Никола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http://t1.gstatic.com/images?q=tbn:ANd9GcRV45mQZ9ImxdKLl262qmnPF9qtLaNHEkurJa96ttLw3pSryhI-"/>
          <p:cNvPicPr/>
          <p:nvPr/>
        </p:nvPicPr>
        <p:blipFill>
          <a:blip r:embed="rId3"/>
          <a:stretch/>
        </p:blipFill>
        <p:spPr>
          <a:xfrm>
            <a:off x="357120" y="1357200"/>
            <a:ext cx="3124440" cy="207180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10" descr="http://t3.gstatic.com/images?q=tbn:ANd9GcQ6vGZEkUdOjAp8i4UjFv0jnPqL5lJ9Mw9S4fmWDj0Bbu0wz3dnSA"/>
          <p:cNvPicPr/>
          <p:nvPr/>
        </p:nvPicPr>
        <p:blipFill>
          <a:blip r:embed="rId4"/>
          <a:stretch/>
        </p:blipFill>
        <p:spPr>
          <a:xfrm>
            <a:off x="500040" y="3500280"/>
            <a:ext cx="2500200" cy="3040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http://t0.gstatic.com/images?q=tbn:ANd9GcSNgklxl1ps4o0bdSeq3XF3I-m8xXVPI8aGi9w-T_GNVjicZMuZ0A"/>
          <p:cNvPicPr/>
          <p:nvPr/>
        </p:nvPicPr>
        <p:blipFill>
          <a:blip r:embed="rId5"/>
          <a:stretch/>
        </p:blipFill>
        <p:spPr>
          <a:xfrm>
            <a:off x="4857840" y="1428840"/>
            <a:ext cx="3004920" cy="2000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" descr="http://t3.gstatic.com/images?q=tbn:ANd9GcTQAeI66jwFD6mnOCAjMdJKxITTZIsxb1AncvnaQU0rLYy-BzHnqA"/>
          <p:cNvPicPr/>
          <p:nvPr/>
        </p:nvPicPr>
        <p:blipFill>
          <a:blip r:embed="rId6"/>
          <a:stretch/>
        </p:blipFill>
        <p:spPr>
          <a:xfrm>
            <a:off x="4857840" y="385776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t0.gstatic.com/images?q=tbn:ANd9GcQXcjVHonYBRpq8pchkzzN_0jhuHFzSFZBBrOMKQEuBxJ4xmhMoTw"/>
          <p:cNvPicPr/>
          <p:nvPr/>
        </p:nvPicPr>
        <p:blipFill>
          <a:blip r:embed="rId3"/>
          <a:stretch/>
        </p:blipFill>
        <p:spPr>
          <a:xfrm>
            <a:off x="5357880" y="1643040"/>
            <a:ext cx="3328920" cy="23576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13" descr="C:\Users\Данил\Desktop\загруженное.jpg"/>
          <p:cNvPicPr/>
          <p:nvPr/>
        </p:nvPicPr>
        <p:blipFill>
          <a:blip r:embed="rId4"/>
          <a:stretch/>
        </p:blipFill>
        <p:spPr>
          <a:xfrm>
            <a:off x="4714920" y="4143240"/>
            <a:ext cx="3786120" cy="2519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http://t1.gstatic.com/images?q=tbn:ANd9GcSrTCfp7gPEcBBteAOuSAHIv2vKr2Zsr8GTXBqN8IuYOO5ehniY"/>
          <p:cNvPicPr/>
          <p:nvPr/>
        </p:nvPicPr>
        <p:blipFill>
          <a:blip r:embed="rId5"/>
          <a:stretch/>
        </p:blipFill>
        <p:spPr>
          <a:xfrm>
            <a:off x="857160" y="1643040"/>
            <a:ext cx="2444760" cy="2571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7" descr="http://t2.gstatic.com/images?q=tbn:ANd9GcR1mfMng8jqEnhD4D389vPsT--KpkFIgmij9iQ9kcZLYb_C4Z74NQ"/>
          <p:cNvPicPr/>
          <p:nvPr/>
        </p:nvPicPr>
        <p:blipFill>
          <a:blip r:embed="rId6"/>
          <a:stretch/>
        </p:blipFill>
        <p:spPr>
          <a:xfrm>
            <a:off x="357120" y="4286160"/>
            <a:ext cx="3141720" cy="2109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t3.gstatic.com/images?q=tbn:ANd9GcTZxYmLc07CxSpqb-eXmz4UKEPxXrLJpcDuybs0KOtoeMtXMfVEug"/>
          <p:cNvPicPr/>
          <p:nvPr/>
        </p:nvPicPr>
        <p:blipFill>
          <a:blip r:embed="rId3"/>
          <a:stretch/>
        </p:blipFill>
        <p:spPr>
          <a:xfrm>
            <a:off x="642960" y="1500120"/>
            <a:ext cx="2643120" cy="2067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t2.gstatic.com/images?q=tbn:ANd9GcSZ5yxrVFYQwRlI6E-1XjYZ7Y1hK1rblonn0gIDZabEyPGfLXGeng"/>
          <p:cNvPicPr/>
          <p:nvPr/>
        </p:nvPicPr>
        <p:blipFill>
          <a:blip r:embed="rId4"/>
          <a:stretch/>
        </p:blipFill>
        <p:spPr>
          <a:xfrm>
            <a:off x="5214960" y="1500120"/>
            <a:ext cx="2566800" cy="2214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t1.gstatic.com/images?q=tbn:ANd9GcQc4Jymqo48YNXXBTSZmGyqb81cYR9pyrLrklQsTQHEy6pSUEm9"/>
          <p:cNvPicPr/>
          <p:nvPr/>
        </p:nvPicPr>
        <p:blipFill>
          <a:blip r:embed="rId5"/>
          <a:stretch/>
        </p:blipFill>
        <p:spPr>
          <a:xfrm>
            <a:off x="5143680" y="4214880"/>
            <a:ext cx="2752560" cy="2062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http://t2.gstatic.com/images?q=tbn:ANd9GcQPxyjFvrTsfIQdFD-9rwP_Xcyfr6p7hS033doUZsCYm5pfAeGH9A"/>
          <p:cNvPicPr/>
          <p:nvPr/>
        </p:nvPicPr>
        <p:blipFill>
          <a:blip r:embed="rId6"/>
          <a:stretch/>
        </p:blipFill>
        <p:spPr>
          <a:xfrm>
            <a:off x="428760" y="4071960"/>
            <a:ext cx="2857320" cy="190188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9" name="Picture 7" descr="C:\Users\Данил\Desktop\загруженное (1).jpg"/>
          <p:cNvPicPr/>
          <p:nvPr/>
        </p:nvPicPr>
        <p:blipFill>
          <a:blip r:embed="rId3"/>
          <a:stretch/>
        </p:blipFill>
        <p:spPr>
          <a:xfrm>
            <a:off x="5000760" y="1357200"/>
            <a:ext cx="3051000" cy="22860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1" name="Picture 10" descr="C:\Users\Данил\Desktop\загруженное (2).jpg"/>
          <p:cNvPicPr/>
          <p:nvPr/>
        </p:nvPicPr>
        <p:blipFill>
          <a:blip r:embed="rId4"/>
          <a:stretch/>
        </p:blipFill>
        <p:spPr>
          <a:xfrm>
            <a:off x="4929120" y="4071960"/>
            <a:ext cx="3227400" cy="214776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3" name="Picture 13" descr="C:\Users\Данил\Desktop\загруженное (3).jpg"/>
          <p:cNvPicPr/>
          <p:nvPr/>
        </p:nvPicPr>
        <p:blipFill>
          <a:blip r:embed="rId5"/>
          <a:stretch/>
        </p:blipFill>
        <p:spPr>
          <a:xfrm>
            <a:off x="500040" y="1428840"/>
            <a:ext cx="3297240" cy="22143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5" name="Picture 16" descr="C:\Users\Данил\Desktop\загруженное (4).jpg"/>
          <p:cNvPicPr/>
          <p:nvPr/>
        </p:nvPicPr>
        <p:blipFill>
          <a:blip r:embed="rId6"/>
          <a:stretch/>
        </p:blipFill>
        <p:spPr>
          <a:xfrm>
            <a:off x="428760" y="4071960"/>
            <a:ext cx="3286080" cy="2255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3840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3" descr="C:\Users\Данил\Desktop\загруженное (5).jpg"/>
          <p:cNvPicPr/>
          <p:nvPr/>
        </p:nvPicPr>
        <p:blipFill>
          <a:blip r:embed="rId3"/>
          <a:stretch/>
        </p:blipFill>
        <p:spPr>
          <a:xfrm>
            <a:off x="4842000" y="1571760"/>
            <a:ext cx="3359160" cy="2214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http://t2.gstatic.com/images?q=tbn:ANd9GcSocHSGJENmIo_Ux3Oh_CL5pTFn9fddeYUOIVGiVX2uvLj_6uUK4g"/>
          <p:cNvPicPr/>
          <p:nvPr/>
        </p:nvPicPr>
        <p:blipFill>
          <a:blip r:embed="rId4"/>
          <a:stretch/>
        </p:blipFill>
        <p:spPr>
          <a:xfrm>
            <a:off x="4862520" y="4195800"/>
            <a:ext cx="3352680" cy="2114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http://t2.gstatic.com/images?q=tbn:ANd9GcS8iJUULUiBQb51xPP9XXNWMATgoUzjC3GVKeBwUihvbHQbUuB5VQ"/>
          <p:cNvPicPr/>
          <p:nvPr/>
        </p:nvPicPr>
        <p:blipFill>
          <a:blip r:embed="rId5"/>
          <a:stretch/>
        </p:blipFill>
        <p:spPr>
          <a:xfrm>
            <a:off x="357120" y="1500120"/>
            <a:ext cx="3648240" cy="2286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http://t3.gstatic.com/images?q=tbn:ANd9GcQH9_Znt5iOyS_-wW-LSgTTyQ7LLOtHAE6tsZbkcgh9M3KY-tUD2A"/>
          <p:cNvPicPr/>
          <p:nvPr/>
        </p:nvPicPr>
        <p:blipFill>
          <a:blip r:embed="rId6"/>
          <a:stretch/>
        </p:blipFill>
        <p:spPr>
          <a:xfrm>
            <a:off x="357120" y="4000680"/>
            <a:ext cx="3643560" cy="2462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http://t0.gstatic.com/images?q=tbn:ANd9GcTmsdpemEkNS7k6r3UcLtMZKadGJaSLXZCcO0MHVjGWYqfdIEY6lw"/>
          <p:cNvPicPr/>
          <p:nvPr/>
        </p:nvPicPr>
        <p:blipFill>
          <a:blip r:embed="rId3"/>
          <a:stretch/>
        </p:blipFill>
        <p:spPr>
          <a:xfrm>
            <a:off x="285840" y="1571760"/>
            <a:ext cx="3220920" cy="2143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ttp://t1.gstatic.com/images?q=tbn:ANd9GcSWytDOnZA2bAHeDpUoA7YcYJsFmnLEUUxizjHeoZCjW-e6_xwf"/>
          <p:cNvPicPr/>
          <p:nvPr/>
        </p:nvPicPr>
        <p:blipFill>
          <a:blip r:embed="rId4"/>
          <a:stretch/>
        </p:blipFill>
        <p:spPr>
          <a:xfrm>
            <a:off x="285840" y="4000680"/>
            <a:ext cx="3286080" cy="2462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http://t1.gstatic.com/images?q=tbn:ANd9GcQ6I6WoK_xx5GvqjMG34-1gZhcbdps6--47g_AuXAbtwsI-s7K_"/>
          <p:cNvPicPr/>
          <p:nvPr/>
        </p:nvPicPr>
        <p:blipFill>
          <a:blip r:embed="rId5"/>
          <a:stretch/>
        </p:blipFill>
        <p:spPr>
          <a:xfrm>
            <a:off x="5070600" y="1373040"/>
            <a:ext cx="3073320" cy="248472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9" name="Picture 11" descr="C:\Users\Данил\Desktop\загруженное (6).jpg"/>
          <p:cNvPicPr/>
          <p:nvPr/>
        </p:nvPicPr>
        <p:blipFill>
          <a:blip r:embed="rId6"/>
          <a:stretch/>
        </p:blipFill>
        <p:spPr>
          <a:xfrm>
            <a:off x="5072040" y="4000680"/>
            <a:ext cx="3166920" cy="2373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0:43:32Z</dcterms:created>
  <dc:creator>Данил</dc:creator>
  <dc:description/>
  <dc:language>en-US</dc:language>
  <cp:lastModifiedBy>Ma</cp:lastModifiedBy>
  <dcterms:modified xsi:type="dcterms:W3CDTF">2014-11-08T17:54:51Z</dcterms:modified>
  <cp:revision>13</cp:revision>
  <dc:subject/>
  <dc:title>Выполнил: Данил Ильчук.</dc:title>
</cp:coreProperties>
</file>