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721-8A68-42C5-A1BF-A12A3EF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9C7-8A30-467B-A726-9443F825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06F-EB83-400A-8A8A-2514A3C4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6E8-06B6-4AD9-B34B-EB222DF9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9DA-E376-4A60-AD2C-DFBB6FA7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C4E-81F6-4EEE-B05B-5C7DA38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A4A5-A8E7-4191-95AB-19E5B0A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0D8-169E-4D36-A311-7875B6B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491C-AC6A-4C46-8117-52F0FB4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E9AD-98AB-4F29-8F54-4C600D6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6D90-EBD6-4D85-BFD9-9DC4CF6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4F3-2C90-4F02-BC21-1FDB501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F482-64BF-4102-B7A4-6958719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EE4-B2B4-4805-B3B3-4F4BE5F5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F1BF-5ADA-472C-A8BF-4471DD03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F67-80A0-4A46-9FEF-B85BF702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6586-FB97-481C-8674-BE703145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3FC8-B7F9-4C16-938A-F44EBA34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F426-410D-4375-93BC-C1DE817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4728-5059-4F00-826C-BEE9B8E7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42EF-803A-4C3E-94F3-7B54D65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E048-84D6-4A77-9AE2-ADD03C4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0D4-874D-4695-A692-B595D32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24DE-3DAE-4F6D-9622-CEEC60CC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80CB-E389-4858-BE62-800B526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D752-29EF-4680-8F57-7F8CF66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01C6-D3A3-42EE-BF61-AD6C2CC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49BB-D926-41F6-895F-3E957E5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F83C-A2EB-4869-B99E-9FC2571C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7DED-FB4A-417E-AB30-38E2A60D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F13E-AE79-48B0-B557-19E8B43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C671-AE73-4975-8D79-2A0FD7A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F1DB-0C70-4E84-A065-695DFD2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51D-6E7C-42AD-B52E-FDAFFC5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2563-24A3-43E5-BBA8-BC2D6B0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8267-F67D-4691-AE1E-DD70D30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F093-4273-45AD-A3EE-181A35CA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08DF-D049-411F-9223-E623AF5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E174-661C-43F4-A452-D7CD621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3297-F896-4AFD-9734-F299BF7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C268-DC9D-422F-94A5-1B27C28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C371-F290-4BB8-AD74-479557F0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FAB1-C3A3-43D3-A95C-4BD68CE1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A1C-C4EA-4367-AEC4-75710EE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B62-7528-467E-8B99-32A21943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5B4-D26C-4ED0-9660-08C08B27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45-8382-4C0F-84B0-4EC73FD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6D5-F0A8-4450-8B47-B24A82E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FCC-67DB-4F46-A43F-F404DF5BCD8B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3B6C-8E07-474C-95DE-320404570289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D741-8671-4A37-BF36-6FDBB8A115BC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3029-8E12-4017-A880-E6C8CBD09AD6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3633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4240" y="47149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523800" y="731880"/>
            <a:ext cx="7809120" cy="2017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43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нализ предыдущей воспитательной рабо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Цели и задачи воспитательной рабо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новные направления рабо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ндивидуальная работа с учащими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абота с родите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учение эффективности воспитательной рабо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38120" y="822240"/>
            <a:ext cx="7888320" cy="841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71680" y="1714320"/>
            <a:ext cx="7772400" cy="50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о О.С. Газман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14240" y="2357280"/>
          <a:ext cx="7572600" cy="3500640"/>
        </p:xfrm>
        <a:graphic>
          <a:graphicData uri="http://schemas.openxmlformats.org/drawingml/2006/table">
            <a:tbl>
              <a:tblPr/>
              <a:tblGrid>
                <a:gridCol w="1857600"/>
                <a:gridCol w="1171440"/>
                <a:gridCol w="1514520"/>
                <a:gridCol w="1514520"/>
                <a:gridCol w="1514520"/>
              </a:tblGrid>
              <a:tr h="44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лев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С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12640" y="609480"/>
            <a:ext cx="7888320" cy="84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14240" y="157176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еятельностный подход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28760" y="2214720"/>
          <a:ext cx="8001000" cy="4397040"/>
        </p:xfrm>
        <a:graphic>
          <a:graphicData uri="http://schemas.openxmlformats.org/drawingml/2006/table">
            <a:tbl>
              <a:tblPr/>
              <a:tblGrid>
                <a:gridCol w="2714400"/>
                <a:gridCol w="1428840"/>
                <a:gridCol w="1357200"/>
                <a:gridCol w="1357560"/>
                <a:gridCol w="1143000"/>
              </a:tblGrid>
              <a:tr h="43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-я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ностно-ориентиров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уд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удожественно-твор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культу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ммуник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р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69800" y="785880"/>
            <a:ext cx="7888320" cy="841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0280" y="1857240"/>
            <a:ext cx="7772400" cy="442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marL="438840" indent="-43884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ние гражданственности, патриотизма, уважения к правам, свободам и обязанностям человек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43884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ние нравственных чувств и этического сознан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43884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ние трудолюбия, творческого отношения к образованию, труду, жиз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43884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ние ценностного отношения к природе, окружающей среде (экологическое воспитани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438840">
              <a:spcBef>
                <a:spcPts val="550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ние ценностного отношения к прекрасному, формирование представлений об эстетических идеалах и ценностях (эстетическое воспитани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23800" y="890640"/>
            <a:ext cx="778500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428760" y="2643120"/>
          <a:ext cx="8001000" cy="2119320"/>
        </p:xfrm>
        <a:graphic>
          <a:graphicData uri="http://schemas.openxmlformats.org/drawingml/2006/table">
            <a:tbl>
              <a:tblPr/>
              <a:tblGrid>
                <a:gridCol w="1285920"/>
                <a:gridCol w="1714320"/>
                <a:gridCol w="1714680"/>
                <a:gridCol w="1685880"/>
                <a:gridCol w="16002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О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тересы и увле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личностные дост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вные проблемы в разви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ы и способы педагогической под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66640" y="920880"/>
            <a:ext cx="7785360" cy="8888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35692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зучение семь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едагогическое просвещ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ключение родителей в подготовку и проведение КТ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ндивидуальная работа с родителя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нформирование родителей о результатах обучения, воспитания и развития учащих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93560" y="542880"/>
            <a:ext cx="77853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428840" y="2928960"/>
          <a:ext cx="6095880" cy="273672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285920"/>
                <a:gridCol w="1309680"/>
              </a:tblGrid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мет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ы и прием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оки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убъект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ч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ирование колл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чность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0:49:35Z</dcterms:created>
  <dc:creator>Аня</dc:creator>
  <dc:description/>
  <dc:language>en-US</dc:language>
  <cp:lastModifiedBy>Аня</cp:lastModifiedBy>
  <dcterms:modified xsi:type="dcterms:W3CDTF">2014-02-26T12:01:43Z</dcterms:modified>
  <cp:revision>8</cp:revision>
  <dc:subject/>
  <dc:title>Планирование воспитательной работы</dc:title>
</cp:coreProperties>
</file>