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64B-CA18-4DDD-AB0A-62058C17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56F-1BAA-4AE3-9A67-93A4E524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24E-EBCD-4ACA-ACD0-DD7FD71F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163-8983-4B67-97BA-514393AF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ADE-513A-4467-AA8E-E3BA6DC2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951-D54E-4A54-9B8B-E93C6706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53A-E278-4E50-AC63-B3D3CF69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D47-B6EE-4B4E-8E32-AAE5D9FA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304-4A11-4B72-B5FC-2ECAF0FF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954-0174-4751-8319-902D2AFC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CCB-B6E4-4C53-8F2F-7927B68E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2C6-5B08-4BBF-A557-A890D33C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C580-E475-4448-B3B9-7F15776D8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960" y="552600"/>
            <a:ext cx="8128080" cy="575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очетные граждане Санкт-Петербур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5640" y="4221000"/>
            <a:ext cx="325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тасова Ольг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лицей № 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БАСИЛАШВИЛИ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 Олег Валериан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етский и российский актер театра и кино. Народный артист ССС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672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04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Звание "Почетный гражданин Санкт-Петербурга" присваивается гражданам Российской Федерации, гражданам других государств, а также лицам без гражданства, внесшим выдающийся вкла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 развитие Санкт-Петербурга, повышение его роли и авторитета в России и на международной аре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 укрепление демократии и защиты прав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 науку, искусство, духовное и нравственное развитие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АЛФЕРОВ Жорес Иван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50920" y="1267920"/>
            <a:ext cx="4824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ский и российский физик, российский лауреат Нобелевской премии по физике 2000 года за разработку полупроводниковых гетероструктур и создание быстрых опто- и микроэлектронных компонентов. Принцип, с помощью которого созданы лазерные носители информации. Вот у вас в компе процессор многоядерный - это его засл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0574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БЕХТЕРЕВА 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Наталья Пет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31640" y="1600200"/>
            <a:ext cx="576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ветский и российский нейрофизиолог. Научный руководитель Института мозга человека РАН (Санкт-Петербург). Она изучала мозг здорового и больного человека, мозговые коды психической деятельности человека, гипноз, амнезию, воздействие на мозг наркотиков и психотропных веществ. Наталье Бехтеревой принадлежат открытия в области механизмов мышления, памяти, эмоций и организации головного мозга чело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04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РОДСКИЙ Иосиф Александ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35280" y="1196640"/>
            <a:ext cx="5051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сский и американский поэт, драматург, переводчик, лауреат Нобелевской премии по литературе 1987 года,  Стихи писал преимущественно на русском языке. Один из крупнейших русских поэтов XX 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079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ПЕТРОВ</a:t>
            </a: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 Андрей Павл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етский и российский композитор. Его сочинения: скрипичный концерт,  симфония «Мастер и Маргарита», Фортепианный концерт, песни, эстрадные пьесы, киномузыка: звучащие фрагменты из фильмов «Служебный роман», «Осенний марафон», «Жестокий романс», «О бедном гусаре замолвите слов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006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МАЗУРЕНКО Алексей Ефим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51280" y="981000"/>
            <a:ext cx="48355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етский лётчик, дважды Герой Советского Союза, генерал-майор авиации. В Великой Отечественной войне 1941—1945 участвовал с первых дней и совершил около 300 успешных боевых вылетов, лично потопил 8 и в составе группы — 22 корабля против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1399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КРИКАЛЕВ 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Сергей Константин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етский и российский авиационный спортсмен и космонавт, рекордсмен Земли по суммарному времени пребывания в космосе (803 дня за шесть стартов — по состоянию на 11 октября 2005). Герой Советского Союза и Герой России (один из 4 человек, удостоенных обоих званий). Чемпион Мира по пилотажу на планё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&amp;Kcy;&amp;ocy;&amp;scy;&amp;mcy;&amp;ocy;&amp;ncy;&amp;acy;&amp;vcy;&amp;tcy;"/>
          <p:cNvPicPr/>
          <p:nvPr/>
        </p:nvPicPr>
        <p:blipFill>
          <a:blip r:embed="rId1"/>
          <a:stretch/>
        </p:blipFill>
        <p:spPr>
          <a:xfrm>
            <a:off x="539640" y="1773360"/>
            <a:ext cx="28591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Дик АДВОК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дерландский футболист (полузащитник) и футбольный тренер, бывший тренер сборных Нидерландов, Южной Кореи, Бельгии, России, а также петербургского «Зенит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8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9T18:46:14Z</dcterms:created>
  <dc:creator>связной</dc:creator>
  <dc:description/>
  <dc:language>en-US</dc:language>
  <cp:lastModifiedBy>связной</cp:lastModifiedBy>
  <dcterms:modified xsi:type="dcterms:W3CDTF">2014-10-12T19:22:21Z</dcterms:modified>
  <cp:revision>6</cp:revision>
  <dc:subject/>
  <dc:title>Слайд 1</dc:title>
</cp:coreProperties>
</file>