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8.jpeg" ContentType="image/jpeg"/>
  <Override PartName="/ppt/media/image6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4.jpeg" ContentType="image/jpeg"/>
  <Override PartName="/ppt/media/image5.png" ContentType="image/png"/>
  <Override PartName="/ppt/media/image35.png" ContentType="image/png"/>
  <Override PartName="/ppt/media/image11.jpeg" ContentType="image/jpe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B129-DDC5-48F1-B076-EAD2D85D1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82F3-4AC7-427A-993F-D077D8450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FE0-865D-4143-9783-A275C3C1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A97-9544-4CDC-AECF-641E4310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C4B-C433-4E2D-A3A1-93A902ED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B67-8123-4367-89E4-1BB1CDBF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5EF8-477F-4497-8703-9E1285EA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4860-EF53-4962-86C5-030D77F1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2FD4-EBF4-4910-AF9D-C5BDA7B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74C3-F81C-4943-97A0-78D766DC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AD29-9B64-4985-80E1-ECBBC8C6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BE51-BC83-4F37-B9E8-9BA57901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8206-BD9B-455E-9C71-E142C5D9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79C-D18D-4423-8FF5-C84BB561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75B6-4D2C-46F4-AF5F-3E569362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5EFC-3B53-49DD-8053-0E47D0F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283E-6B5C-4B42-889D-C9EFAF8B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9F3D-6363-4A5E-9F5F-C840711E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A4D6-16AC-4442-8C45-9252B680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F76-44A1-4993-B611-B7253246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B70-7630-4B5D-AB05-75F58653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61C-C795-4608-8DA7-556DDD34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979-FBD7-46FA-9E3B-2A2AD15F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B10-2FE0-4D6B-9A6A-0A6CEB2A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AF6-AE73-4431-B13B-BA42B56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10A-287F-44BE-A638-C3A00C2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4230-CD54-43A3-A027-8C61ADA0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5680"/>
            <a:ext cx="7696080" cy="1117800"/>
            <a:chOff x="0" y="175680"/>
            <a:chExt cx="7696080" cy="111780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200600"/>
              <a:ext cx="7696080" cy="91440"/>
              <a:chOff x="0" y="1200600"/>
              <a:chExt cx="7696080" cy="9144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200600"/>
                <a:ext cx="769608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2680" y="-2601360"/>
                <a:ext cx="87480" cy="76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0" y="175680"/>
              <a:ext cx="6865920" cy="1117800"/>
              <a:chOff x="0" y="175680"/>
              <a:chExt cx="6865920" cy="111780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0" y="175680"/>
                <a:ext cx="5855040" cy="261720"/>
                <a:chOff x="0" y="175680"/>
                <a:chExt cx="5855040" cy="26172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76040"/>
                  <a:ext cx="585432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796120" y="-2620440"/>
                  <a:ext cx="261720" cy="58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8E63-3079-4A9A-9DB3-745B77EE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6.wmf"/><Relationship Id="rId5" Type="http://schemas.openxmlformats.org/officeDocument/2006/relationships/image" Target="../media/image28.png"/><Relationship Id="rId6" Type="http://schemas.openxmlformats.org/officeDocument/2006/relationships/image" Target="../media/image26.wmf"/><Relationship Id="rId7" Type="http://schemas.openxmlformats.org/officeDocument/2006/relationships/image" Target="../media/image25.png"/><Relationship Id="rId8" Type="http://schemas.openxmlformats.org/officeDocument/2006/relationships/image" Target="../media/image26.wmf"/><Relationship Id="rId9" Type="http://schemas.openxmlformats.org/officeDocument/2006/relationships/image" Target="../media/image29.png"/><Relationship Id="rId10" Type="http://schemas.openxmlformats.org/officeDocument/2006/relationships/image" Target="../media/image26.wmf"/><Relationship Id="rId11" Type="http://schemas.openxmlformats.org/officeDocument/2006/relationships/image" Target="../media/image30.png"/><Relationship Id="rId12" Type="http://schemas.openxmlformats.org/officeDocument/2006/relationships/image" Target="../media/image26.wmf"/><Relationship Id="rId13" Type="http://schemas.openxmlformats.org/officeDocument/2006/relationships/image" Target="../media/image31.png"/><Relationship Id="rId14" Type="http://schemas.openxmlformats.org/officeDocument/2006/relationships/image" Target="../media/image26.wmf"/><Relationship Id="rId15" Type="http://schemas.openxmlformats.org/officeDocument/2006/relationships/image" Target="../media/image32.png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6.wmf"/><Relationship Id="rId3" Type="http://schemas.openxmlformats.org/officeDocument/2006/relationships/image" Target="../media/image33.png"/><Relationship Id="rId4" Type="http://schemas.openxmlformats.org/officeDocument/2006/relationships/image" Target="../media/image26.wmf"/><Relationship Id="rId5" Type="http://schemas.openxmlformats.org/officeDocument/2006/relationships/image" Target="../media/image33.png"/><Relationship Id="rId6" Type="http://schemas.openxmlformats.org/officeDocument/2006/relationships/image" Target="../media/image26.wmf"/><Relationship Id="rId7" Type="http://schemas.openxmlformats.org/officeDocument/2006/relationships/image" Target="../media/image33.png"/><Relationship Id="rId8" Type="http://schemas.openxmlformats.org/officeDocument/2006/relationships/image" Target="../media/image26.wmf"/><Relationship Id="rId9" Type="http://schemas.openxmlformats.org/officeDocument/2006/relationships/image" Target="../media/image33.png"/><Relationship Id="rId10" Type="http://schemas.openxmlformats.org/officeDocument/2006/relationships/image" Target="../media/image26.wmf"/><Relationship Id="rId11" Type="http://schemas.openxmlformats.org/officeDocument/2006/relationships/image" Target="../media/image33.png"/><Relationship Id="rId12" Type="http://schemas.openxmlformats.org/officeDocument/2006/relationships/image" Target="../media/image26.wmf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http://victori.wellnet.me/attachments/Image/________________/bisnes/1247110_7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yandex.ru/yandsearch?ed=1&amp;text=&#1089;&#1077;&#1084;&#1100;&#1103;%20&#1080;%20&#1096;&#1082;&#1086;&#1083;&#1072;&amp;img_url=img15.nnm.ru%2F4%2F7%2F2%2Ff%2F9%2F8ffce675a8076441b935c93bd5c_prev.jpg&amp;rpt=simage&amp;p=325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://images.yandex.ru/yandsearch?ed=1&amp;text=&#1089;&#1077;&#1084;&#1100;&#1103;%20&#1080;%20&#1096;&#1082;&#1086;&#1083;&#1072;&amp;img_url=marishacozlova.ucoz.ru%2FC41-17_.jpg&amp;rpt=simage&amp;p=102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nourost.ru/big_photo/1251832745.jpg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362800" cy="30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Garamond"/>
              </a:rPr>
              <a:t>Повышение уровня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Garamond"/>
              </a:rPr>
              <a:t> родительской компетентности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Garamond"/>
              </a:rPr>
              <a:t> через различные формы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Garamond"/>
              </a:rPr>
              <a:t> взаимодействия семьи и школ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4508640"/>
            <a:ext cx="8893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втор 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Мицук Елена Юрьевна,  МБУ лицей №6 г. о. Тольят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учитель русского языка и литера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3419640" y="2060640"/>
            <a:ext cx="2587320" cy="2736720"/>
          </a:xfrm>
          <a:custGeom>
            <a:avLst/>
            <a:gdLst>
              <a:gd name="textAreaLeft" fmla="*/ 34920 w 2587320"/>
              <a:gd name="textAreaRight" fmla="*/ 2552400 w 2587320"/>
              <a:gd name="textAreaTop" fmla="*/ 34920 h 2736720"/>
              <a:gd name="textAreaBottom" fmla="*/ 2701800 h 2736720"/>
            </a:gdLst>
            <a:ahLst/>
            <a:rect l="textAreaLeft" t="textAreaTop" r="textAreaRight" b="textAreaBottom"/>
            <a:pathLst>
              <a:path w="21600" h="22847">
                <a:moveTo>
                  <a:pt x="1002" y="0"/>
                </a:moveTo>
                <a:arcTo wR="1002" hR="1002" stAng="16200000" swAng="-5400000"/>
                <a:lnTo>
                  <a:pt x="0" y="21845"/>
                </a:lnTo>
                <a:arcTo wR="1002" hR="1002" stAng="10800000" swAng="-5400000"/>
                <a:lnTo>
                  <a:pt x="20598" y="22847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6300720" y="2060640"/>
            <a:ext cx="2587680" cy="2736720"/>
          </a:xfrm>
          <a:custGeom>
            <a:avLst/>
            <a:gdLst>
              <a:gd name="textAreaLeft" fmla="*/ 34920 w 2587680"/>
              <a:gd name="textAreaRight" fmla="*/ 2552760 w 2587680"/>
              <a:gd name="textAreaTop" fmla="*/ 34920 h 2736720"/>
              <a:gd name="textAreaBottom" fmla="*/ 2701800 h 2736720"/>
            </a:gdLst>
            <a:ahLst/>
            <a:rect l="textAreaLeft" t="textAreaTop" r="textAreaRight" b="textAreaBottom"/>
            <a:pathLst>
              <a:path w="21600" h="22844">
                <a:moveTo>
                  <a:pt x="1002" y="0"/>
                </a:moveTo>
                <a:arcTo wR="1002" hR="1002" stAng="16200000" swAng="-5400000"/>
                <a:lnTo>
                  <a:pt x="0" y="21842"/>
                </a:lnTo>
                <a:arcTo wR="1002" hR="1002" stAng="10800000" swAng="-5400000"/>
                <a:lnTo>
                  <a:pt x="20598" y="22844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6227640" y="1557360"/>
            <a:ext cx="2736720" cy="788760"/>
            <a:chOff x="6227640" y="1557360"/>
            <a:chExt cx="2736720" cy="788760"/>
          </a:xfrm>
        </p:grpSpPr>
        <p:sp>
          <p:nvSpPr>
            <p:cNvPr id="271" name="AutoShape 5"/>
            <p:cNvSpPr/>
            <p:nvPr/>
          </p:nvSpPr>
          <p:spPr>
            <a:xfrm>
              <a:off x="6227640" y="1557360"/>
              <a:ext cx="2736720" cy="78876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6"/>
            <p:cNvSpPr/>
            <p:nvPr/>
          </p:nvSpPr>
          <p:spPr>
            <a:xfrm>
              <a:off x="6270120" y="1604880"/>
              <a:ext cx="2640600" cy="3204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7"/>
          <p:cNvSpPr/>
          <p:nvPr/>
        </p:nvSpPr>
        <p:spPr>
          <a:xfrm>
            <a:off x="6156360" y="1557360"/>
            <a:ext cx="28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aramond"/>
              </a:rPr>
              <a:t>3. Коммуник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3348000" y="1557360"/>
            <a:ext cx="2736360" cy="790200"/>
            <a:chOff x="3348000" y="1557360"/>
            <a:chExt cx="2736360" cy="790200"/>
          </a:xfrm>
        </p:grpSpPr>
        <p:sp>
          <p:nvSpPr>
            <p:cNvPr id="275" name="AutoShape 9"/>
            <p:cNvSpPr/>
            <p:nvPr/>
          </p:nvSpPr>
          <p:spPr>
            <a:xfrm>
              <a:off x="3348000" y="1557360"/>
              <a:ext cx="2736360" cy="79020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3390120" y="1604880"/>
              <a:ext cx="2640600" cy="320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1"/>
          <p:cNvSpPr/>
          <p:nvPr/>
        </p:nvSpPr>
        <p:spPr>
          <a:xfrm>
            <a:off x="3348000" y="1557360"/>
            <a:ext cx="269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Консульт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2"/>
          <p:cNvSpPr/>
          <p:nvPr/>
        </p:nvSpPr>
        <p:spPr>
          <a:xfrm>
            <a:off x="468360" y="2060640"/>
            <a:ext cx="2587680" cy="2736720"/>
          </a:xfrm>
          <a:custGeom>
            <a:avLst/>
            <a:gdLst>
              <a:gd name="textAreaLeft" fmla="*/ 34920 w 2587680"/>
              <a:gd name="textAreaRight" fmla="*/ 2552760 w 2587680"/>
              <a:gd name="textAreaTop" fmla="*/ 34920 h 2736720"/>
              <a:gd name="textAreaBottom" fmla="*/ 2701800 h 2736720"/>
            </a:gdLst>
            <a:ahLst/>
            <a:rect l="textAreaLeft" t="textAreaTop" r="textAreaRight" b="textAreaBottom"/>
            <a:pathLst>
              <a:path w="21600" h="22844">
                <a:moveTo>
                  <a:pt x="1002" y="0"/>
                </a:moveTo>
                <a:arcTo wR="1002" hR="1002" stAng="16200000" swAng="-5400000"/>
                <a:lnTo>
                  <a:pt x="0" y="21842"/>
                </a:lnTo>
                <a:arcTo wR="1002" hR="1002" stAng="10800000" swAng="-5400000"/>
                <a:lnTo>
                  <a:pt x="20598" y="22844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800000"/>
                </a:solidFill>
                <a:latin typeface="Georgia"/>
              </a:rPr>
              <a:t>Задачи педагогов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324000" y="1557360"/>
            <a:ext cx="2879280" cy="791640"/>
            <a:chOff x="324000" y="1557360"/>
            <a:chExt cx="2879280" cy="791640"/>
          </a:xfrm>
        </p:grpSpPr>
        <p:sp>
          <p:nvSpPr>
            <p:cNvPr id="281" name="AutoShape 15"/>
            <p:cNvSpPr/>
            <p:nvPr/>
          </p:nvSpPr>
          <p:spPr>
            <a:xfrm>
              <a:off x="324000" y="1557360"/>
              <a:ext cx="2879280" cy="79164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6"/>
            <p:cNvSpPr/>
            <p:nvPr/>
          </p:nvSpPr>
          <p:spPr>
            <a:xfrm>
              <a:off x="368640" y="1605240"/>
              <a:ext cx="2778120" cy="3214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7"/>
          <p:cNvSpPr/>
          <p:nvPr/>
        </p:nvSpPr>
        <p:spPr>
          <a:xfrm>
            <a:off x="395280" y="1557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1. Просветитель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324000" y="2421000"/>
            <a:ext cx="273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аучить родителей видеть и понимать изменения, происходящие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419640" y="2349360"/>
            <a:ext cx="25063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овместный поиск психолого-педагогических методов эффективного воздействия на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6300720" y="2349360"/>
            <a:ext cx="266400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богащение семейной жизни эмоциональными впечатлениями, опытом культуры взаимодействия ребенка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-main-pic" descr="Картинка 1361 из 39775"/>
          <p:cNvPicPr/>
          <p:nvPr/>
        </p:nvPicPr>
        <p:blipFill>
          <a:blip r:embed="rId1"/>
          <a:stretch/>
        </p:blipFill>
        <p:spPr>
          <a:xfrm>
            <a:off x="468360" y="494172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288" name="i-main-pic" descr="Картинка 86 из 64000"/>
          <p:cNvPicPr/>
          <p:nvPr/>
        </p:nvPicPr>
        <p:blipFill>
          <a:blip r:embed="rId2"/>
          <a:stretch/>
        </p:blipFill>
        <p:spPr>
          <a:xfrm>
            <a:off x="3419640" y="4869000"/>
            <a:ext cx="2665080" cy="1873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5" descr="i?id=118322915-02"/>
          <p:cNvPicPr/>
          <p:nvPr/>
        </p:nvPicPr>
        <p:blipFill>
          <a:blip r:embed="rId3"/>
          <a:stretch/>
        </p:blipFill>
        <p:spPr>
          <a:xfrm>
            <a:off x="6300720" y="4869000"/>
            <a:ext cx="2592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58840"/>
            <a:ext cx="8964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Практические советы для работы с родителям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2440080" y="2014560"/>
            <a:ext cx="3787560" cy="3935520"/>
          </a:xfrm>
          <a:custGeom>
            <a:avLst/>
            <a:gdLst>
              <a:gd name="textAreaLeft" fmla="*/ 554400 w 3787560"/>
              <a:gd name="textAreaRight" fmla="*/ 3233160 w 3787560"/>
              <a:gd name="textAreaTop" fmla="*/ 576000 h 3935520"/>
              <a:gd name="textAreaBottom" fmla="*/ 3359520 h 393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08" y="10800"/>
                </a:moveTo>
                <a:cubicBezTo>
                  <a:pt x="608" y="16429"/>
                  <a:pt x="5171" y="20992"/>
                  <a:pt x="10800" y="20992"/>
                </a:cubicBezTo>
                <a:cubicBezTo>
                  <a:pt x="16429" y="20992"/>
                  <a:pt x="20992" y="16429"/>
                  <a:pt x="20992" y="10800"/>
                </a:cubicBezTo>
                <a:cubicBezTo>
                  <a:pt x="20992" y="5171"/>
                  <a:pt x="16429" y="608"/>
                  <a:pt x="10800" y="608"/>
                </a:cubicBezTo>
                <a:cubicBezTo>
                  <a:pt x="5171" y="608"/>
                  <a:pt x="608" y="5171"/>
                  <a:pt x="608" y="10800"/>
                </a:cubicBezTo>
                <a:close/>
              </a:path>
            </a:pathLst>
          </a:cu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2776680" y="2349360"/>
            <a:ext cx="3163320" cy="3220560"/>
            <a:chOff x="2776680" y="2349360"/>
            <a:chExt cx="3163320" cy="3220560"/>
          </a:xfrm>
        </p:grpSpPr>
        <p:sp>
          <p:nvSpPr>
            <p:cNvPr id="293" name="AutoShape 5"/>
            <p:cNvSpPr/>
            <p:nvPr/>
          </p:nvSpPr>
          <p:spPr>
            <a:xfrm flipV="1">
              <a:off x="2776680" y="2422440"/>
              <a:ext cx="3157200" cy="3146760"/>
            </a:xfrm>
            <a:custGeom>
              <a:avLst/>
              <a:gdLst>
                <a:gd name="textAreaLeft" fmla="*/ 0 w 3157200"/>
                <a:gd name="textAreaRight" fmla="*/ 3157560 w 3157200"/>
                <a:gd name="textAreaTop" fmla="*/ -360 h 3146760"/>
                <a:gd name="textAreaBottom" fmla="*/ 1122840 h 31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>
              <a:off x="2782800" y="2349360"/>
              <a:ext cx="3157200" cy="3146760"/>
            </a:xfrm>
            <a:custGeom>
              <a:avLst/>
              <a:gdLst>
                <a:gd name="textAreaLeft" fmla="*/ 0 w 3157200"/>
                <a:gd name="textAreaRight" fmla="*/ 3157560 w 3157200"/>
                <a:gd name="textAreaTop" fmla="*/ 0 h 3146760"/>
                <a:gd name="textAreaBottom" fmla="*/ 1123200 h 31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7"/>
          <p:cNvGrpSpPr/>
          <p:nvPr/>
        </p:nvGrpSpPr>
        <p:grpSpPr>
          <a:xfrm>
            <a:off x="3827520" y="1577880"/>
            <a:ext cx="1074600" cy="1051200"/>
            <a:chOff x="3827520" y="1577880"/>
            <a:chExt cx="1074600" cy="1051200"/>
          </a:xfrm>
        </p:grpSpPr>
        <p:grpSp>
          <p:nvGrpSpPr>
            <p:cNvPr id="296" name="Group 8"/>
            <p:cNvGrpSpPr/>
            <p:nvPr/>
          </p:nvGrpSpPr>
          <p:grpSpPr>
            <a:xfrm>
              <a:off x="3827520" y="1577880"/>
              <a:ext cx="1074600" cy="1051200"/>
              <a:chOff x="3827520" y="1577880"/>
              <a:chExt cx="1074600" cy="1051200"/>
            </a:xfrm>
          </p:grpSpPr>
          <p:pic>
            <p:nvPicPr>
              <p:cNvPr id="297" name="Picture 9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827520" y="1577880"/>
                <a:ext cx="1074600" cy="10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Oval 10"/>
              <p:cNvSpPr/>
              <p:nvPr/>
            </p:nvSpPr>
            <p:spPr>
              <a:xfrm>
                <a:off x="3827520" y="1577880"/>
                <a:ext cx="1067400" cy="1051200"/>
              </a:xfrm>
              <a:prstGeom prst="ellipse">
                <a:avLst/>
              </a:prstGeom>
              <a:gradFill rotWithShape="0">
                <a:gsLst>
                  <a:gs pos="0">
                    <a:srgbClr val="4ba5ef">
                      <a:alpha val="55294"/>
                    </a:srgbClr>
                  </a:gs>
                  <a:gs pos="50000">
                    <a:srgbClr val="234c6f">
                      <a:alpha val="90196"/>
                    </a:srgbClr>
                  </a:gs>
                  <a:gs pos="100000">
                    <a:srgbClr val="4ba5e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9" name="Picture 11" descr="Picture2"/>
            <p:cNvPicPr/>
            <p:nvPr/>
          </p:nvPicPr>
          <p:blipFill>
            <a:blip r:embed="rId2"/>
            <a:stretch/>
          </p:blipFill>
          <p:spPr>
            <a:xfrm>
              <a:off x="3934440" y="1587960"/>
              <a:ext cx="84852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Text Box 12"/>
          <p:cNvSpPr/>
          <p:nvPr/>
        </p:nvSpPr>
        <p:spPr>
          <a:xfrm>
            <a:off x="3708360" y="1844640"/>
            <a:ext cx="12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важайте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3"/>
          <p:cNvGrpSpPr/>
          <p:nvPr/>
        </p:nvGrpSpPr>
        <p:grpSpPr>
          <a:xfrm>
            <a:off x="1979640" y="3357720"/>
            <a:ext cx="1146240" cy="1122120"/>
            <a:chOff x="1979640" y="3357720"/>
            <a:chExt cx="1146240" cy="1122120"/>
          </a:xfrm>
        </p:grpSpPr>
        <p:grpSp>
          <p:nvGrpSpPr>
            <p:cNvPr id="302" name="Group 14"/>
            <p:cNvGrpSpPr/>
            <p:nvPr/>
          </p:nvGrpSpPr>
          <p:grpSpPr>
            <a:xfrm>
              <a:off x="1979640" y="3357720"/>
              <a:ext cx="1146240" cy="1122120"/>
              <a:chOff x="1979640" y="3357720"/>
              <a:chExt cx="1146240" cy="1122120"/>
            </a:xfrm>
          </p:grpSpPr>
          <p:pic>
            <p:nvPicPr>
              <p:cNvPr id="303" name="Picture 15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79640" y="3357720"/>
                <a:ext cx="114624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Oval 16"/>
              <p:cNvSpPr/>
              <p:nvPr/>
            </p:nvSpPr>
            <p:spPr>
              <a:xfrm>
                <a:off x="1979640" y="3357720"/>
                <a:ext cx="1138320" cy="1122120"/>
              </a:xfrm>
              <a:prstGeom prst="ellipse">
                <a:avLst/>
              </a:prstGeom>
              <a:gradFill rotWithShape="0">
                <a:gsLst>
                  <a:gs pos="0">
                    <a:srgbClr val="80e05a">
                      <a:alpha val="55294"/>
                    </a:srgbClr>
                  </a:gs>
                  <a:gs pos="50000">
                    <a:srgbClr val="3b682a">
                      <a:alpha val="90196"/>
                    </a:srgbClr>
                  </a:gs>
                  <a:gs pos="100000">
                    <a:srgbClr val="80e05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5" name="Picture 17" descr="Picture2"/>
            <p:cNvPicPr/>
            <p:nvPr/>
          </p:nvPicPr>
          <p:blipFill>
            <a:blip r:embed="rId4"/>
            <a:stretch/>
          </p:blipFill>
          <p:spPr>
            <a:xfrm>
              <a:off x="2093760" y="3368520"/>
              <a:ext cx="905040" cy="3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Text Box 18"/>
          <p:cNvSpPr/>
          <p:nvPr/>
        </p:nvSpPr>
        <p:spPr>
          <a:xfrm>
            <a:off x="1835280" y="371628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Garamond"/>
              </a:rPr>
              <a:t>Объясняйте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5586480" y="3406680"/>
            <a:ext cx="1146240" cy="1101960"/>
            <a:chOff x="5586480" y="3406680"/>
            <a:chExt cx="1146240" cy="1101960"/>
          </a:xfrm>
        </p:grpSpPr>
        <p:grpSp>
          <p:nvGrpSpPr>
            <p:cNvPr id="308" name="Group 20"/>
            <p:cNvGrpSpPr/>
            <p:nvPr/>
          </p:nvGrpSpPr>
          <p:grpSpPr>
            <a:xfrm>
              <a:off x="5586480" y="3406680"/>
              <a:ext cx="1146240" cy="1101960"/>
              <a:chOff x="5586480" y="3406680"/>
              <a:chExt cx="1146240" cy="1101960"/>
            </a:xfrm>
          </p:grpSpPr>
          <p:pic>
            <p:nvPicPr>
              <p:cNvPr id="309" name="Picture 2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5586480" y="3406680"/>
                <a:ext cx="1146240" cy="109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Oval 22"/>
              <p:cNvSpPr/>
              <p:nvPr/>
            </p:nvSpPr>
            <p:spPr>
              <a:xfrm>
                <a:off x="5586480" y="3406680"/>
                <a:ext cx="1138320" cy="1101960"/>
              </a:xfrm>
              <a:prstGeom prst="ellipse">
                <a:avLst/>
              </a:prstGeom>
              <a:gradFill rotWithShape="0">
                <a:gsLst>
                  <a:gs pos="0">
                    <a:srgbClr val="e1595c">
                      <a:alpha val="55294"/>
                    </a:srgbClr>
                  </a:gs>
                  <a:gs pos="50000">
                    <a:srgbClr val="68292b">
                      <a:alpha val="90196"/>
                    </a:srgbClr>
                  </a:gs>
                  <a:gs pos="100000">
                    <a:srgbClr val="e1595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1" name="Picture 23" descr="Picture2"/>
            <p:cNvPicPr/>
            <p:nvPr/>
          </p:nvPicPr>
          <p:blipFill>
            <a:blip r:embed="rId6"/>
            <a:stretch/>
          </p:blipFill>
          <p:spPr>
            <a:xfrm>
              <a:off x="5700600" y="3417120"/>
              <a:ext cx="905040" cy="3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24"/>
          <p:cNvSpPr/>
          <p:nvPr/>
        </p:nvSpPr>
        <p:spPr>
          <a:xfrm>
            <a:off x="5508720" y="3789360"/>
            <a:ext cx="129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Garamond"/>
              </a:rPr>
              <a:t>Доверяйт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5"/>
          <p:cNvGrpSpPr/>
          <p:nvPr/>
        </p:nvGrpSpPr>
        <p:grpSpPr>
          <a:xfrm>
            <a:off x="3827520" y="5229360"/>
            <a:ext cx="1074600" cy="1050840"/>
            <a:chOff x="3827520" y="5229360"/>
            <a:chExt cx="1074600" cy="1050840"/>
          </a:xfrm>
        </p:grpSpPr>
        <p:grpSp>
          <p:nvGrpSpPr>
            <p:cNvPr id="314" name="Group 26"/>
            <p:cNvGrpSpPr/>
            <p:nvPr/>
          </p:nvGrpSpPr>
          <p:grpSpPr>
            <a:xfrm>
              <a:off x="3827520" y="5229360"/>
              <a:ext cx="1074600" cy="1050840"/>
              <a:chOff x="3827520" y="5229360"/>
              <a:chExt cx="1074600" cy="1050840"/>
            </a:xfrm>
          </p:grpSpPr>
          <p:pic>
            <p:nvPicPr>
              <p:cNvPr id="315" name="Picture 2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27520" y="5229360"/>
                <a:ext cx="1074600" cy="10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Oval 28"/>
              <p:cNvSpPr/>
              <p:nvPr/>
            </p:nvSpPr>
            <p:spPr>
              <a:xfrm>
                <a:off x="3827520" y="5229360"/>
                <a:ext cx="1067400" cy="1050840"/>
              </a:xfrm>
              <a:prstGeom prst="ellipse">
                <a:avLst/>
              </a:prstGeom>
              <a:gradFill rotWithShape="0">
                <a:gsLst>
                  <a:gs pos="0">
                    <a:srgbClr val="fca304">
                      <a:alpha val="55294"/>
                    </a:srgbClr>
                  </a:gs>
                  <a:gs pos="50000">
                    <a:srgbClr val="754b02">
                      <a:alpha val="90196"/>
                    </a:srgbClr>
                  </a:gs>
                  <a:gs pos="100000">
                    <a:srgbClr val="fca304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29" descr="Picture2"/>
            <p:cNvPicPr/>
            <p:nvPr/>
          </p:nvPicPr>
          <p:blipFill>
            <a:blip r:embed="rId8"/>
            <a:stretch/>
          </p:blipFill>
          <p:spPr>
            <a:xfrm>
              <a:off x="3934440" y="5239440"/>
              <a:ext cx="84852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Text Box 30"/>
          <p:cNvSpPr/>
          <p:nvPr/>
        </p:nvSpPr>
        <p:spPr>
          <a:xfrm>
            <a:off x="3851280" y="5589720"/>
            <a:ext cx="111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читес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3132000" y="2852640"/>
            <a:ext cx="2519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Garamond"/>
              </a:rPr>
              <a:t>Мы вместе против проблемы, а не друг против др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179280" y="1700280"/>
            <a:ext cx="220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Не стремитесь во чтобы ни стало отстоять собственную позиц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6588000" y="1773360"/>
            <a:ext cx="220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суждайте проблему, а не личные качества уче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4"/>
          <p:cNvSpPr/>
          <p:nvPr/>
        </p:nvSpPr>
        <p:spPr>
          <a:xfrm>
            <a:off x="250920" y="4869000"/>
            <a:ext cx="220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Не верьте генетике (её влияние огромно, но не безгранич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6443640" y="5229360"/>
            <a:ext cx="22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Учитывайте личные интересы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36"/>
          <p:cNvGrpSpPr/>
          <p:nvPr/>
        </p:nvGrpSpPr>
        <p:grpSpPr>
          <a:xfrm>
            <a:off x="5219640" y="4724280"/>
            <a:ext cx="1224000" cy="1152720"/>
            <a:chOff x="5219640" y="4724280"/>
            <a:chExt cx="1224000" cy="1152720"/>
          </a:xfrm>
        </p:grpSpPr>
        <p:grpSp>
          <p:nvGrpSpPr>
            <p:cNvPr id="325" name="Group 37"/>
            <p:cNvGrpSpPr/>
            <p:nvPr/>
          </p:nvGrpSpPr>
          <p:grpSpPr>
            <a:xfrm>
              <a:off x="5219640" y="4724280"/>
              <a:ext cx="1224000" cy="1152720"/>
              <a:chOff x="5219640" y="4724280"/>
              <a:chExt cx="1224000" cy="1152720"/>
            </a:xfrm>
          </p:grpSpPr>
          <p:pic>
            <p:nvPicPr>
              <p:cNvPr id="326" name="Picture 38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19640" y="4724280"/>
                <a:ext cx="1224000" cy="114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Oval 39"/>
              <p:cNvSpPr/>
              <p:nvPr/>
            </p:nvSpPr>
            <p:spPr>
              <a:xfrm>
                <a:off x="5219640" y="4724280"/>
                <a:ext cx="1215720" cy="1152720"/>
              </a:xfrm>
              <a:prstGeom prst="ellipse">
                <a:avLst/>
              </a:prstGeom>
              <a:gradFill rotWithShape="0">
                <a:gsLst>
                  <a:gs pos="0">
                    <a:srgbClr val="4ba5ef">
                      <a:alpha val="55294"/>
                    </a:srgbClr>
                  </a:gs>
                  <a:gs pos="50000">
                    <a:srgbClr val="234c6f">
                      <a:alpha val="90196"/>
                    </a:srgbClr>
                  </a:gs>
                  <a:gs pos="100000">
                    <a:srgbClr val="4ba5e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8" name="Picture 40" descr="Picture2"/>
            <p:cNvPicPr/>
            <p:nvPr/>
          </p:nvPicPr>
          <p:blipFill>
            <a:blip r:embed="rId10"/>
            <a:stretch/>
          </p:blipFill>
          <p:spPr>
            <a:xfrm>
              <a:off x="5341320" y="4735440"/>
              <a:ext cx="966600" cy="40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Group 41"/>
          <p:cNvGrpSpPr/>
          <p:nvPr/>
        </p:nvGrpSpPr>
        <p:grpSpPr>
          <a:xfrm>
            <a:off x="2268360" y="4724280"/>
            <a:ext cx="1217880" cy="1152720"/>
            <a:chOff x="2268360" y="4724280"/>
            <a:chExt cx="1217880" cy="1152720"/>
          </a:xfrm>
        </p:grpSpPr>
        <p:grpSp>
          <p:nvGrpSpPr>
            <p:cNvPr id="330" name="Group 42"/>
            <p:cNvGrpSpPr/>
            <p:nvPr/>
          </p:nvGrpSpPr>
          <p:grpSpPr>
            <a:xfrm>
              <a:off x="2268360" y="4724280"/>
              <a:ext cx="1217880" cy="1152720"/>
              <a:chOff x="2268360" y="4724280"/>
              <a:chExt cx="1217880" cy="1152720"/>
            </a:xfrm>
          </p:grpSpPr>
          <p:pic>
            <p:nvPicPr>
              <p:cNvPr id="331" name="Picture 4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4724280"/>
                <a:ext cx="1217880" cy="114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Oval 44"/>
              <p:cNvSpPr/>
              <p:nvPr/>
            </p:nvSpPr>
            <p:spPr>
              <a:xfrm>
                <a:off x="2268360" y="4724280"/>
                <a:ext cx="1209600" cy="1152720"/>
              </a:xfrm>
              <a:prstGeom prst="ellipse">
                <a:avLst/>
              </a:prstGeom>
              <a:gradFill rotWithShape="0">
                <a:gsLst>
                  <a:gs pos="0">
                    <a:srgbClr val="e1595c">
                      <a:alpha val="55294"/>
                    </a:srgbClr>
                  </a:gs>
                  <a:gs pos="50000">
                    <a:srgbClr val="68292b">
                      <a:alpha val="90196"/>
                    </a:srgbClr>
                  </a:gs>
                  <a:gs pos="100000">
                    <a:srgbClr val="e1595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45" descr="Picture2"/>
            <p:cNvPicPr/>
            <p:nvPr/>
          </p:nvPicPr>
          <p:blipFill>
            <a:blip r:embed="rId12"/>
            <a:stretch/>
          </p:blipFill>
          <p:spPr>
            <a:xfrm>
              <a:off x="2389680" y="4735440"/>
              <a:ext cx="961920" cy="40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46"/>
          <p:cNvGrpSpPr/>
          <p:nvPr/>
        </p:nvGrpSpPr>
        <p:grpSpPr>
          <a:xfrm>
            <a:off x="5219640" y="1916280"/>
            <a:ext cx="1224000" cy="1195200"/>
            <a:chOff x="5219640" y="1916280"/>
            <a:chExt cx="1224000" cy="1195200"/>
          </a:xfrm>
        </p:grpSpPr>
        <p:grpSp>
          <p:nvGrpSpPr>
            <p:cNvPr id="335" name="Group 47"/>
            <p:cNvGrpSpPr/>
            <p:nvPr/>
          </p:nvGrpSpPr>
          <p:grpSpPr>
            <a:xfrm>
              <a:off x="5219640" y="1916280"/>
              <a:ext cx="1224000" cy="1195200"/>
              <a:chOff x="5219640" y="1916280"/>
              <a:chExt cx="1224000" cy="1195200"/>
            </a:xfrm>
          </p:grpSpPr>
          <p:pic>
            <p:nvPicPr>
              <p:cNvPr id="336" name="Picture 48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5219640" y="1916280"/>
                <a:ext cx="1224000" cy="119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Oval 49"/>
              <p:cNvSpPr/>
              <p:nvPr/>
            </p:nvSpPr>
            <p:spPr>
              <a:xfrm>
                <a:off x="5219640" y="1916280"/>
                <a:ext cx="1215720" cy="1195200"/>
              </a:xfrm>
              <a:prstGeom prst="ellipse">
                <a:avLst/>
              </a:prstGeom>
              <a:gradFill rotWithShape="0">
                <a:gsLst>
                  <a:gs pos="0">
                    <a:srgbClr val="80e05a">
                      <a:alpha val="55294"/>
                    </a:srgbClr>
                  </a:gs>
                  <a:gs pos="50000">
                    <a:srgbClr val="3b682a">
                      <a:alpha val="90196"/>
                    </a:srgbClr>
                  </a:gs>
                  <a:gs pos="100000">
                    <a:srgbClr val="80e05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8" name="Picture 50" descr="Picture2"/>
            <p:cNvPicPr/>
            <p:nvPr/>
          </p:nvPicPr>
          <p:blipFill>
            <a:blip r:embed="rId14"/>
            <a:stretch/>
          </p:blipFill>
          <p:spPr>
            <a:xfrm>
              <a:off x="5341320" y="1927800"/>
              <a:ext cx="966600" cy="42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51"/>
          <p:cNvGrpSpPr/>
          <p:nvPr/>
        </p:nvGrpSpPr>
        <p:grpSpPr>
          <a:xfrm>
            <a:off x="2340000" y="1916280"/>
            <a:ext cx="1219320" cy="1195200"/>
            <a:chOff x="2340000" y="1916280"/>
            <a:chExt cx="1219320" cy="1195200"/>
          </a:xfrm>
        </p:grpSpPr>
        <p:grpSp>
          <p:nvGrpSpPr>
            <p:cNvPr id="340" name="Group 52"/>
            <p:cNvGrpSpPr/>
            <p:nvPr/>
          </p:nvGrpSpPr>
          <p:grpSpPr>
            <a:xfrm>
              <a:off x="2340000" y="1916280"/>
              <a:ext cx="1219320" cy="1195200"/>
              <a:chOff x="2340000" y="1916280"/>
              <a:chExt cx="1219320" cy="1195200"/>
            </a:xfrm>
          </p:grpSpPr>
          <p:pic>
            <p:nvPicPr>
              <p:cNvPr id="341" name="Picture 53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2340000" y="1916280"/>
                <a:ext cx="1219320" cy="119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Oval 54"/>
              <p:cNvSpPr/>
              <p:nvPr/>
            </p:nvSpPr>
            <p:spPr>
              <a:xfrm>
                <a:off x="2340000" y="1916280"/>
                <a:ext cx="1211040" cy="1195200"/>
              </a:xfrm>
              <a:prstGeom prst="ellipse">
                <a:avLst/>
              </a:prstGeom>
              <a:gradFill rotWithShape="0">
                <a:gsLst>
                  <a:gs pos="0">
                    <a:srgbClr val="fca304">
                      <a:alpha val="55294"/>
                    </a:srgbClr>
                  </a:gs>
                  <a:gs pos="50000">
                    <a:srgbClr val="754b02">
                      <a:alpha val="90196"/>
                    </a:srgbClr>
                  </a:gs>
                  <a:gs pos="100000">
                    <a:srgbClr val="fca304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Picture 55" descr="Picture2"/>
            <p:cNvPicPr/>
            <p:nvPr/>
          </p:nvPicPr>
          <p:blipFill>
            <a:blip r:embed="rId16"/>
            <a:stretch/>
          </p:blipFill>
          <p:spPr>
            <a:xfrm>
              <a:off x="2461320" y="1927800"/>
              <a:ext cx="96300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Text Box 56"/>
          <p:cNvSpPr/>
          <p:nvPr/>
        </p:nvSpPr>
        <p:spPr>
          <a:xfrm>
            <a:off x="5219640" y="2276640"/>
            <a:ext cx="12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могайте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5003640" y="515772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Garamond"/>
              </a:rPr>
              <a:t>Интересуйтесь</a:t>
            </a:r>
            <a:r>
              <a:rPr b="1" lang="ru-RU" sz="1600" spc="-1" strike="noStrike">
                <a:solidFill>
                  <a:srgbClr val="f8f8f8"/>
                </a:solidFill>
                <a:latin typeface="Garamond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195640" y="2349360"/>
            <a:ext cx="151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прашивайте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9"/>
          <p:cNvSpPr/>
          <p:nvPr/>
        </p:nvSpPr>
        <p:spPr>
          <a:xfrm>
            <a:off x="2195640" y="5084640"/>
            <a:ext cx="140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лагодарит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"/>
          <p:cNvSpPr/>
          <p:nvPr/>
        </p:nvSpPr>
        <p:spPr>
          <a:xfrm>
            <a:off x="5315040" y="1981080"/>
            <a:ext cx="2867040" cy="2968920"/>
          </a:xfrm>
          <a:prstGeom prst="ellipse">
            <a:avLst/>
          </a:prstGeom>
          <a:noFill/>
          <a:ln w="5724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Взаимосвязь классного руководителя с семьями учащихс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932040" y="1981080"/>
            <a:ext cx="2866680" cy="2968920"/>
          </a:xfrm>
          <a:prstGeom prst="ellipse">
            <a:avLst/>
          </a:prstGeom>
          <a:noFill/>
          <a:ln w="5724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5"/>
          <p:cNvGrpSpPr/>
          <p:nvPr/>
        </p:nvGrpSpPr>
        <p:grpSpPr>
          <a:xfrm>
            <a:off x="2627280" y="2852640"/>
            <a:ext cx="1792080" cy="1266480"/>
            <a:chOff x="2627280" y="2852640"/>
            <a:chExt cx="1792080" cy="1266480"/>
          </a:xfrm>
        </p:grpSpPr>
        <p:sp>
          <p:nvSpPr>
            <p:cNvPr id="352" name="AutoShape 6"/>
            <p:cNvSpPr/>
            <p:nvPr/>
          </p:nvSpPr>
          <p:spPr>
            <a:xfrm>
              <a:off x="2627280" y="2852640"/>
              <a:ext cx="179208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ba5ef"/>
                </a:gs>
                <a:gs pos="100000">
                  <a:srgbClr val="3778ae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2694240" y="2915640"/>
              <a:ext cx="891720" cy="6321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2c9f5"/>
                </a:gs>
                <a:gs pos="50000">
                  <a:srgbClr val="4ba5ef">
                    <a:alpha val="0"/>
                  </a:srgbClr>
                </a:gs>
                <a:gs pos="100000">
                  <a:srgbClr val="92c9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8"/>
          <p:cNvSpPr/>
          <p:nvPr/>
        </p:nvSpPr>
        <p:spPr>
          <a:xfrm>
            <a:off x="2627280" y="3068640"/>
            <a:ext cx="179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Направлен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3841920" y="2286000"/>
            <a:ext cx="1333440" cy="471600"/>
          </a:xfrm>
          <a:custGeom>
            <a:avLst/>
            <a:gdLst>
              <a:gd name="textAreaLeft" fmla="*/ 258480 w 1333440"/>
              <a:gd name="textAreaRight" fmla="*/ 941400 w 1333440"/>
              <a:gd name="textAreaTop" fmla="*/ 63000 h 471600"/>
              <a:gd name="textAreaBottom" fmla="*/ 408600 h 4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83" hR="21600" stAng="10800000" swAng="5400000"/>
                <a:lnTo>
                  <a:pt x="11057" y="0"/>
                </a:lnTo>
                <a:arcTo wR="8383" hR="21600" stAng="-5400000" swAng="1835256"/>
                <a:lnTo>
                  <a:pt x="20225" y="9745"/>
                </a:lnTo>
                <a:lnTo>
                  <a:pt x="18103" y="21600"/>
                </a:lnTo>
                <a:lnTo>
                  <a:pt x="13231" y="9745"/>
                </a:lnTo>
                <a:lnTo>
                  <a:pt x="15391" y="9745"/>
                </a:lnTo>
                <a:arcTo wR="8383" hR="21600" stAng="-3564744" swAng="-1619989"/>
                <a:lnTo>
                  <a:pt x="9720" y="276"/>
                </a:lnTo>
                <a:arcTo wR="8383" hR="21600" stAng="-5615267" swAng="-5184733"/>
                <a:close/>
              </a:path>
              <a:path fill="darkenLess" w="21600" h="21600">
                <a:moveTo>
                  <a:pt x="0" y="21600"/>
                </a:moveTo>
                <a:arcTo wR="8383" hR="21600" stAng="10800000" swAng="5400000"/>
                <a:lnTo>
                  <a:pt x="8383" y="0"/>
                </a:lnTo>
                <a:arcTo wR="8383" hR="21600" stAng="-5400000" swAng="215267"/>
                <a:lnTo>
                  <a:pt x="9720" y="276"/>
                </a:lnTo>
                <a:arcTo wR="8383" hR="21600" stAng="-5615267" swAng="-5184733"/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4572000" y="2852640"/>
            <a:ext cx="1801440" cy="1266480"/>
            <a:chOff x="4572000" y="2852640"/>
            <a:chExt cx="1801440" cy="1266480"/>
          </a:xfrm>
        </p:grpSpPr>
        <p:sp>
          <p:nvSpPr>
            <p:cNvPr id="357" name="AutoShape 12"/>
            <p:cNvSpPr/>
            <p:nvPr/>
          </p:nvSpPr>
          <p:spPr>
            <a:xfrm>
              <a:off x="4572000" y="2852640"/>
              <a:ext cx="180144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95c"/>
                </a:gs>
                <a:gs pos="100000">
                  <a:srgbClr val="a4414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"/>
            <p:cNvSpPr/>
            <p:nvPr/>
          </p:nvSpPr>
          <p:spPr>
            <a:xfrm>
              <a:off x="4639320" y="2915640"/>
              <a:ext cx="896400" cy="6321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9b9d"/>
                </a:gs>
                <a:gs pos="50000">
                  <a:srgbClr val="e1595c">
                    <a:alpha val="0"/>
                  </a:srgbClr>
                </a:gs>
                <a:gs pos="100000">
                  <a:srgbClr val="ed9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Text Box 14"/>
          <p:cNvSpPr/>
          <p:nvPr/>
        </p:nvSpPr>
        <p:spPr>
          <a:xfrm>
            <a:off x="4572000" y="306864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Направлен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5"/>
          <p:cNvGrpSpPr/>
          <p:nvPr/>
        </p:nvGrpSpPr>
        <p:grpSpPr>
          <a:xfrm>
            <a:off x="755640" y="1557360"/>
            <a:ext cx="1870920" cy="1171440"/>
            <a:chOff x="755640" y="1557360"/>
            <a:chExt cx="1870920" cy="1171440"/>
          </a:xfrm>
        </p:grpSpPr>
        <p:grpSp>
          <p:nvGrpSpPr>
            <p:cNvPr id="361" name="Group 16"/>
            <p:cNvGrpSpPr/>
            <p:nvPr/>
          </p:nvGrpSpPr>
          <p:grpSpPr>
            <a:xfrm>
              <a:off x="755640" y="1557360"/>
              <a:ext cx="1870920" cy="1171440"/>
              <a:chOff x="755640" y="1557360"/>
              <a:chExt cx="1870920" cy="1171440"/>
            </a:xfrm>
          </p:grpSpPr>
          <p:pic>
            <p:nvPicPr>
              <p:cNvPr id="36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755640" y="1557360"/>
                <a:ext cx="187092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Oval 18"/>
              <p:cNvSpPr/>
              <p:nvPr/>
            </p:nvSpPr>
            <p:spPr>
              <a:xfrm>
                <a:off x="755640" y="1557360"/>
                <a:ext cx="1858320" cy="1171440"/>
              </a:xfrm>
              <a:prstGeom prst="ellipse">
                <a:avLst/>
              </a:prstGeom>
              <a:gradFill rotWithShape="0">
                <a:gsLst>
                  <a:gs pos="0">
                    <a:srgbClr val="4ba5ef">
                      <a:alpha val="55294"/>
                    </a:srgbClr>
                  </a:gs>
                  <a:gs pos="50000">
                    <a:srgbClr val="234c6f">
                      <a:alpha val="90196"/>
                    </a:srgbClr>
                  </a:gs>
                  <a:gs pos="100000">
                    <a:srgbClr val="4ba5e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942120" y="1568520"/>
              <a:ext cx="147780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Group 20"/>
          <p:cNvGrpSpPr/>
          <p:nvPr/>
        </p:nvGrpSpPr>
        <p:grpSpPr>
          <a:xfrm>
            <a:off x="0" y="2895480"/>
            <a:ext cx="1762920" cy="1171800"/>
            <a:chOff x="0" y="2895480"/>
            <a:chExt cx="1762920" cy="1171800"/>
          </a:xfrm>
        </p:grpSpPr>
        <p:grpSp>
          <p:nvGrpSpPr>
            <p:cNvPr id="366" name="Group 21"/>
            <p:cNvGrpSpPr/>
            <p:nvPr/>
          </p:nvGrpSpPr>
          <p:grpSpPr>
            <a:xfrm>
              <a:off x="0" y="2895480"/>
              <a:ext cx="1762920" cy="1171800"/>
              <a:chOff x="0" y="2895480"/>
              <a:chExt cx="1762920" cy="1171800"/>
            </a:xfrm>
          </p:grpSpPr>
          <p:pic>
            <p:nvPicPr>
              <p:cNvPr id="36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0" y="2895480"/>
                <a:ext cx="176292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Oval 23"/>
              <p:cNvSpPr/>
              <p:nvPr/>
            </p:nvSpPr>
            <p:spPr>
              <a:xfrm>
                <a:off x="0" y="2895480"/>
                <a:ext cx="1751040" cy="1171800"/>
              </a:xfrm>
              <a:prstGeom prst="ellipse">
                <a:avLst/>
              </a:prstGeom>
              <a:gradFill rotWithShape="0">
                <a:gsLst>
                  <a:gs pos="0">
                    <a:srgbClr val="4ba5ef">
                      <a:alpha val="55294"/>
                    </a:srgbClr>
                  </a:gs>
                  <a:gs pos="50000">
                    <a:srgbClr val="234c6f">
                      <a:alpha val="90196"/>
                    </a:srgbClr>
                  </a:gs>
                  <a:gs pos="100000">
                    <a:srgbClr val="4ba5e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75680" y="2906640"/>
              <a:ext cx="139284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Group 25"/>
          <p:cNvGrpSpPr/>
          <p:nvPr/>
        </p:nvGrpSpPr>
        <p:grpSpPr>
          <a:xfrm>
            <a:off x="755640" y="4292640"/>
            <a:ext cx="1870920" cy="1224000"/>
            <a:chOff x="755640" y="4292640"/>
            <a:chExt cx="1870920" cy="1224000"/>
          </a:xfrm>
        </p:grpSpPr>
        <p:grpSp>
          <p:nvGrpSpPr>
            <p:cNvPr id="371" name="Group 26"/>
            <p:cNvGrpSpPr/>
            <p:nvPr/>
          </p:nvGrpSpPr>
          <p:grpSpPr>
            <a:xfrm>
              <a:off x="755640" y="4292640"/>
              <a:ext cx="1870920" cy="1224000"/>
              <a:chOff x="755640" y="4292640"/>
              <a:chExt cx="1870920" cy="1224000"/>
            </a:xfrm>
          </p:grpSpPr>
          <p:pic>
            <p:nvPicPr>
              <p:cNvPr id="372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755640" y="4292640"/>
                <a:ext cx="1870920" cy="12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Oval 28"/>
              <p:cNvSpPr/>
              <p:nvPr/>
            </p:nvSpPr>
            <p:spPr>
              <a:xfrm>
                <a:off x="755640" y="4292640"/>
                <a:ext cx="1858320" cy="1224000"/>
              </a:xfrm>
              <a:prstGeom prst="ellipse">
                <a:avLst/>
              </a:prstGeom>
              <a:gradFill rotWithShape="0">
                <a:gsLst>
                  <a:gs pos="0">
                    <a:srgbClr val="4ba5ef">
                      <a:alpha val="55294"/>
                    </a:srgbClr>
                  </a:gs>
                  <a:gs pos="50000">
                    <a:srgbClr val="234c6f">
                      <a:alpha val="90196"/>
                    </a:srgbClr>
                  </a:gs>
                  <a:gs pos="100000">
                    <a:srgbClr val="4ba5e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4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942120" y="4304520"/>
              <a:ext cx="1477800" cy="43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Text Box 30"/>
          <p:cNvSpPr/>
          <p:nvPr/>
        </p:nvSpPr>
        <p:spPr>
          <a:xfrm>
            <a:off x="971640" y="1628640"/>
            <a:ext cx="144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зучение семь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1"/>
          <p:cNvSpPr/>
          <p:nvPr/>
        </p:nvSpPr>
        <p:spPr>
          <a:xfrm>
            <a:off x="0" y="3141720"/>
            <a:ext cx="18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свещение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2"/>
          <p:cNvSpPr/>
          <p:nvPr/>
        </p:nvSpPr>
        <p:spPr>
          <a:xfrm>
            <a:off x="900000" y="4365720"/>
            <a:ext cx="165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влечение родителей в дел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3"/>
          <p:cNvGrpSpPr/>
          <p:nvPr/>
        </p:nvGrpSpPr>
        <p:grpSpPr>
          <a:xfrm>
            <a:off x="6678720" y="1523880"/>
            <a:ext cx="1996200" cy="1171800"/>
            <a:chOff x="6678720" y="1523880"/>
            <a:chExt cx="1996200" cy="1171800"/>
          </a:xfrm>
        </p:grpSpPr>
        <p:grpSp>
          <p:nvGrpSpPr>
            <p:cNvPr id="379" name="Group 34"/>
            <p:cNvGrpSpPr/>
            <p:nvPr/>
          </p:nvGrpSpPr>
          <p:grpSpPr>
            <a:xfrm>
              <a:off x="6678720" y="1523880"/>
              <a:ext cx="1996200" cy="1171800"/>
              <a:chOff x="6678720" y="1523880"/>
              <a:chExt cx="1996200" cy="1171800"/>
            </a:xfrm>
          </p:grpSpPr>
          <p:pic>
            <p:nvPicPr>
              <p:cNvPr id="380" name="Picture 3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678720" y="1523880"/>
                <a:ext cx="19962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Oval 36"/>
              <p:cNvSpPr/>
              <p:nvPr/>
            </p:nvSpPr>
            <p:spPr>
              <a:xfrm>
                <a:off x="6678720" y="1523880"/>
                <a:ext cx="1982880" cy="1171800"/>
              </a:xfrm>
              <a:prstGeom prst="ellipse">
                <a:avLst/>
              </a:prstGeom>
              <a:gradFill rotWithShape="0">
                <a:gsLst>
                  <a:gs pos="0">
                    <a:srgbClr val="e1595c">
                      <a:alpha val="55294"/>
                    </a:srgbClr>
                  </a:gs>
                  <a:gs pos="50000">
                    <a:srgbClr val="953b3d">
                      <a:alpha val="90196"/>
                    </a:srgbClr>
                  </a:gs>
                  <a:gs pos="100000">
                    <a:srgbClr val="e1595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2" name="Picture 37" descr="Picture2"/>
            <p:cNvPicPr/>
            <p:nvPr/>
          </p:nvPicPr>
          <p:blipFill>
            <a:blip r:embed="rId8"/>
            <a:stretch/>
          </p:blipFill>
          <p:spPr>
            <a:xfrm>
              <a:off x="6877440" y="1535040"/>
              <a:ext cx="157680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 Box 38"/>
          <p:cNvSpPr/>
          <p:nvPr/>
        </p:nvSpPr>
        <p:spPr>
          <a:xfrm>
            <a:off x="6588000" y="1773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дивидуа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9"/>
          <p:cNvGrpSpPr/>
          <p:nvPr/>
        </p:nvGrpSpPr>
        <p:grpSpPr>
          <a:xfrm>
            <a:off x="6877080" y="2852640"/>
            <a:ext cx="2266200" cy="1297080"/>
            <a:chOff x="6877080" y="2852640"/>
            <a:chExt cx="2266200" cy="1297080"/>
          </a:xfrm>
        </p:grpSpPr>
        <p:grpSp>
          <p:nvGrpSpPr>
            <p:cNvPr id="385" name="Group 40"/>
            <p:cNvGrpSpPr/>
            <p:nvPr/>
          </p:nvGrpSpPr>
          <p:grpSpPr>
            <a:xfrm>
              <a:off x="6877080" y="2852640"/>
              <a:ext cx="2266200" cy="1297080"/>
              <a:chOff x="6877080" y="2852640"/>
              <a:chExt cx="2266200" cy="1297080"/>
            </a:xfrm>
          </p:grpSpPr>
          <p:pic>
            <p:nvPicPr>
              <p:cNvPr id="386" name="Picture 4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7080" y="2852640"/>
                <a:ext cx="2266200" cy="12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Oval 42"/>
              <p:cNvSpPr/>
              <p:nvPr/>
            </p:nvSpPr>
            <p:spPr>
              <a:xfrm>
                <a:off x="6877080" y="2852640"/>
                <a:ext cx="2251080" cy="1297080"/>
              </a:xfrm>
              <a:prstGeom prst="ellipse">
                <a:avLst/>
              </a:prstGeom>
              <a:gradFill rotWithShape="0">
                <a:gsLst>
                  <a:gs pos="0">
                    <a:srgbClr val="e1595c">
                      <a:alpha val="55294"/>
                    </a:srgbClr>
                  </a:gs>
                  <a:gs pos="50000">
                    <a:srgbClr val="953b3d">
                      <a:alpha val="90196"/>
                    </a:srgbClr>
                  </a:gs>
                  <a:gs pos="100000">
                    <a:srgbClr val="e1595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8" name="Picture 43" descr="Picture2"/>
            <p:cNvPicPr/>
            <p:nvPr/>
          </p:nvPicPr>
          <p:blipFill>
            <a:blip r:embed="rId10"/>
            <a:stretch/>
          </p:blipFill>
          <p:spPr>
            <a:xfrm>
              <a:off x="7102800" y="2865240"/>
              <a:ext cx="1789920" cy="45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Text Box 44"/>
          <p:cNvSpPr/>
          <p:nvPr/>
        </p:nvSpPr>
        <p:spPr>
          <a:xfrm>
            <a:off x="6877080" y="2852640"/>
            <a:ext cx="226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уководство деятельностью родительского ком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45"/>
          <p:cNvGrpSpPr/>
          <p:nvPr/>
        </p:nvGrpSpPr>
        <p:grpSpPr>
          <a:xfrm>
            <a:off x="6516720" y="4292640"/>
            <a:ext cx="2158200" cy="1171440"/>
            <a:chOff x="6516720" y="4292640"/>
            <a:chExt cx="2158200" cy="1171440"/>
          </a:xfrm>
        </p:grpSpPr>
        <p:grpSp>
          <p:nvGrpSpPr>
            <p:cNvPr id="391" name="Group 46"/>
            <p:cNvGrpSpPr/>
            <p:nvPr/>
          </p:nvGrpSpPr>
          <p:grpSpPr>
            <a:xfrm>
              <a:off x="6516720" y="4292640"/>
              <a:ext cx="2158200" cy="1171440"/>
              <a:chOff x="6516720" y="4292640"/>
              <a:chExt cx="2158200" cy="1171440"/>
            </a:xfrm>
          </p:grpSpPr>
          <p:pic>
            <p:nvPicPr>
              <p:cNvPr id="392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516720" y="4292640"/>
                <a:ext cx="21582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Oval 48"/>
              <p:cNvSpPr/>
              <p:nvPr/>
            </p:nvSpPr>
            <p:spPr>
              <a:xfrm>
                <a:off x="6516720" y="4292640"/>
                <a:ext cx="2143800" cy="1171440"/>
              </a:xfrm>
              <a:prstGeom prst="ellipse">
                <a:avLst/>
              </a:prstGeom>
              <a:gradFill rotWithShape="0">
                <a:gsLst>
                  <a:gs pos="0">
                    <a:srgbClr val="e1595c">
                      <a:alpha val="55294"/>
                    </a:srgbClr>
                  </a:gs>
                  <a:gs pos="50000">
                    <a:srgbClr val="953b3d">
                      <a:alpha val="90196"/>
                    </a:srgbClr>
                  </a:gs>
                  <a:gs pos="100000">
                    <a:srgbClr val="e1595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4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6731640" y="4303800"/>
              <a:ext cx="17049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Text Box 50"/>
          <p:cNvSpPr/>
          <p:nvPr/>
        </p:nvSpPr>
        <p:spPr>
          <a:xfrm>
            <a:off x="6443640" y="458136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формирование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1"/>
          <p:cNvSpPr/>
          <p:nvPr/>
        </p:nvSpPr>
        <p:spPr>
          <a:xfrm flipV="1" rot="10800000">
            <a:off x="3865680" y="4271040"/>
            <a:ext cx="1333440" cy="493560"/>
          </a:xfrm>
          <a:custGeom>
            <a:avLst/>
            <a:gdLst>
              <a:gd name="textAreaLeft" fmla="*/ 253440 w 1333440"/>
              <a:gd name="textAreaRight" fmla="*/ 946440 w 1333440"/>
              <a:gd name="textAreaTop" fmla="*/ 65880 h 493560"/>
              <a:gd name="textAreaBottom" fmla="*/ 4276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16" hR="21600" stAng="10800000" swAng="-5400000"/>
                <a:lnTo>
                  <a:pt x="11225" y="21600"/>
                </a:lnTo>
                <a:arcTo wR="8216" hR="21600" stAng="5400000" swAng="-2825452"/>
                <a:lnTo>
                  <a:pt x="21130" y="7200"/>
                </a:lnTo>
                <a:lnTo>
                  <a:pt x="17936" y="0"/>
                </a:lnTo>
                <a:lnTo>
                  <a:pt x="13801" y="7200"/>
                </a:lnTo>
                <a:lnTo>
                  <a:pt x="15961" y="7200"/>
                </a:lnTo>
                <a:arcTo wR="8216" hR="21600" stAng="2574548" swAng="2582291"/>
                <a:lnTo>
                  <a:pt x="9720" y="21235"/>
                </a:lnTo>
                <a:arcTo wR="8216" hR="21600" stAng="5643161" swAng="5156839"/>
                <a:close/>
              </a:path>
              <a:path fill="darkenLess" w="21600" h="21600">
                <a:moveTo>
                  <a:pt x="0" y="0"/>
                </a:moveTo>
                <a:arcTo wR="8216" hR="21600" stAng="10800000" swAng="-5400000"/>
                <a:lnTo>
                  <a:pt x="11225" y="21600"/>
                </a:lnTo>
                <a:arcTo wR="8216" hR="21600" stAng="5400000" swAng="243161"/>
                <a:lnTo>
                  <a:pt x="9720" y="21235"/>
                </a:lnTo>
                <a:arcTo wR="8216" hR="21600" stAng="5643161" swAng="5156839"/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4" descr="i?id=6734853-12"/>
          <p:cNvPicPr/>
          <p:nvPr/>
        </p:nvPicPr>
        <p:blipFill>
          <a:blip r:embed="rId13"/>
          <a:stretch/>
        </p:blipFill>
        <p:spPr>
          <a:xfrm>
            <a:off x="3635280" y="5157720"/>
            <a:ext cx="1944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2"/>
          <p:cNvSpPr/>
          <p:nvPr/>
        </p:nvSpPr>
        <p:spPr>
          <a:xfrm>
            <a:off x="304920" y="2276640"/>
            <a:ext cx="8534160" cy="4124160"/>
          </a:xfrm>
          <a:prstGeom prst="roundRect">
            <a:avLst>
              <a:gd name="adj" fmla="val 4657"/>
            </a:avLst>
          </a:prstGeom>
          <a:solidFill>
            <a:srgbClr val="ffffff">
              <a:alpha val="50000"/>
            </a:srgbClr>
          </a:solidFill>
          <a:ln w="324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324000" y="5445000"/>
            <a:ext cx="3886200" cy="750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ba5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304920" y="4440240"/>
            <a:ext cx="3886200" cy="750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e05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04920" y="3395520"/>
            <a:ext cx="3886200" cy="750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595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324000" y="2421000"/>
            <a:ext cx="3886200" cy="750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ca30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684360" y="2502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Родительские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1187280" y="3429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едагогические практику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1258920" y="458136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«Круглые ст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1403280" y="5445000"/>
            <a:ext cx="24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естирование, анке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4140360" y="3429000"/>
            <a:ext cx="4319280" cy="720720"/>
          </a:xfrm>
          <a:prstGeom prst="rect">
            <a:avLst/>
          </a:prstGeom>
          <a:solidFill>
            <a:srgbClr val="e1595c"/>
          </a:solidFill>
          <a:ln w="0">
            <a:noFill/>
          </a:ln>
          <a:effectLst>
            <a:outerShdw dist="17819" dir="2700000" blurRad="0" rotWithShape="0">
              <a:srgbClr val="8735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4140360" y="4437000"/>
            <a:ext cx="4319280" cy="792360"/>
          </a:xfrm>
          <a:prstGeom prst="rect">
            <a:avLst/>
          </a:prstGeom>
          <a:solidFill>
            <a:srgbClr val="80e05a"/>
          </a:solidFill>
          <a:ln w="0">
            <a:noFill/>
          </a:ln>
          <a:effectLst>
            <a:outerShdw dist="17819" dir="2700000" blurRad="0" rotWithShape="0">
              <a:srgbClr val="4d863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4067280" y="2421000"/>
            <a:ext cx="4392360" cy="720720"/>
          </a:xfrm>
          <a:prstGeom prst="rect">
            <a:avLst/>
          </a:prstGeom>
          <a:solidFill>
            <a:srgbClr val="fca304"/>
          </a:solidFill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8"/>
          <p:cNvSpPr/>
          <p:nvPr/>
        </p:nvSpPr>
        <p:spPr>
          <a:xfrm>
            <a:off x="3995640" y="2637000"/>
            <a:ext cx="250920" cy="250560"/>
          </a:xfrm>
          <a:prstGeom prst="plus">
            <a:avLst>
              <a:gd name="adj" fmla="val 34810"/>
            </a:avLst>
          </a:prstGeom>
          <a:solidFill>
            <a:srgbClr val="e1595c"/>
          </a:solidFill>
          <a:ln w="0">
            <a:noFill/>
          </a:ln>
          <a:effectLst>
            <a:outerShdw dist="17819" dir="2700000" blurRad="0" rotWithShape="0">
              <a:srgbClr val="8735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2"/>
          <p:cNvSpPr/>
          <p:nvPr/>
        </p:nvSpPr>
        <p:spPr>
          <a:xfrm>
            <a:off x="3995640" y="2637000"/>
            <a:ext cx="250920" cy="250560"/>
          </a:xfrm>
          <a:prstGeom prst="plus">
            <a:avLst>
              <a:gd name="adj" fmla="val 34810"/>
            </a:avLst>
          </a:prstGeom>
          <a:solidFill>
            <a:srgbClr val="fca304"/>
          </a:solidFill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7234200" y="25066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4"/>
          <p:cNvSpPr/>
          <p:nvPr/>
        </p:nvSpPr>
        <p:spPr>
          <a:xfrm>
            <a:off x="4572000" y="24969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сеобуч 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5"/>
          <p:cNvSpPr/>
          <p:nvPr/>
        </p:nvSpPr>
        <p:spPr>
          <a:xfrm>
            <a:off x="4716360" y="34131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Групповые и индивидуальные 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9"/>
          <p:cNvSpPr/>
          <p:nvPr/>
        </p:nvSpPr>
        <p:spPr>
          <a:xfrm>
            <a:off x="4643280" y="4508640"/>
            <a:ext cx="36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вместная деятельность родителей 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1"/>
          <p:cNvSpPr/>
          <p:nvPr/>
        </p:nvSpPr>
        <p:spPr>
          <a:xfrm>
            <a:off x="4211640" y="5445000"/>
            <a:ext cx="4248000" cy="720720"/>
          </a:xfrm>
          <a:prstGeom prst="rect">
            <a:avLst/>
          </a:prstGeom>
          <a:solidFill>
            <a:srgbClr val="4ba5ef"/>
          </a:solidFill>
          <a:ln w="0">
            <a:noFill/>
          </a:ln>
          <a:effectLst>
            <a:outerShdw dist="17819" dir="2700000" blurRad="0" rotWithShape="0">
              <a:srgbClr val="2d63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4"/>
          <p:cNvSpPr/>
          <p:nvPr/>
        </p:nvSpPr>
        <p:spPr>
          <a:xfrm>
            <a:off x="4643280" y="558972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Родительские кл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6"/>
          <p:cNvGrpSpPr/>
          <p:nvPr/>
        </p:nvGrpSpPr>
        <p:grpSpPr>
          <a:xfrm>
            <a:off x="3708360" y="2349360"/>
            <a:ext cx="822240" cy="819000"/>
            <a:chOff x="3708360" y="2349360"/>
            <a:chExt cx="822240" cy="819000"/>
          </a:xfrm>
        </p:grpSpPr>
        <p:sp>
          <p:nvSpPr>
            <p:cNvPr id="419" name="Oval 37"/>
            <p:cNvSpPr/>
            <p:nvPr/>
          </p:nvSpPr>
          <p:spPr>
            <a:xfrm>
              <a:off x="3708360" y="2352600"/>
              <a:ext cx="822240" cy="815760"/>
            </a:xfrm>
            <a:prstGeom prst="ellipse">
              <a:avLst/>
            </a:prstGeom>
            <a:solidFill>
              <a:srgbClr val="fca304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Picture 38" descr="cir_lighteffect0"/>
            <p:cNvPicPr/>
            <p:nvPr/>
          </p:nvPicPr>
          <p:blipFill>
            <a:blip r:embed="rId1"/>
            <a:stretch/>
          </p:blipFill>
          <p:spPr>
            <a:xfrm>
              <a:off x="3728880" y="234936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Group 39"/>
          <p:cNvGrpSpPr/>
          <p:nvPr/>
        </p:nvGrpSpPr>
        <p:grpSpPr>
          <a:xfrm>
            <a:off x="3733920" y="3352680"/>
            <a:ext cx="822240" cy="819000"/>
            <a:chOff x="3733920" y="3352680"/>
            <a:chExt cx="822240" cy="819000"/>
          </a:xfrm>
        </p:grpSpPr>
        <p:sp>
          <p:nvSpPr>
            <p:cNvPr id="422" name="Oval 40"/>
            <p:cNvSpPr/>
            <p:nvPr/>
          </p:nvSpPr>
          <p:spPr>
            <a:xfrm>
              <a:off x="3733920" y="3355920"/>
              <a:ext cx="822240" cy="815760"/>
            </a:xfrm>
            <a:prstGeom prst="ellipse">
              <a:avLst/>
            </a:prstGeom>
            <a:solidFill>
              <a:srgbClr val="e1595c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41" descr="cir_lighteffect0"/>
            <p:cNvPicPr/>
            <p:nvPr/>
          </p:nvPicPr>
          <p:blipFill>
            <a:blip r:embed="rId2"/>
            <a:stretch/>
          </p:blipFill>
          <p:spPr>
            <a:xfrm>
              <a:off x="3754440" y="33526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Group 42"/>
          <p:cNvGrpSpPr/>
          <p:nvPr/>
        </p:nvGrpSpPr>
        <p:grpSpPr>
          <a:xfrm>
            <a:off x="3733920" y="4419720"/>
            <a:ext cx="822240" cy="819000"/>
            <a:chOff x="3733920" y="4419720"/>
            <a:chExt cx="822240" cy="819000"/>
          </a:xfrm>
        </p:grpSpPr>
        <p:sp>
          <p:nvSpPr>
            <p:cNvPr id="425" name="Oval 43"/>
            <p:cNvSpPr/>
            <p:nvPr/>
          </p:nvSpPr>
          <p:spPr>
            <a:xfrm>
              <a:off x="3733920" y="4422960"/>
              <a:ext cx="822240" cy="815760"/>
            </a:xfrm>
            <a:prstGeom prst="ellipse">
              <a:avLst/>
            </a:prstGeom>
            <a:solidFill>
              <a:srgbClr val="80e05a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6" name="Picture 44" descr="cir_lighteffect0"/>
            <p:cNvPicPr/>
            <p:nvPr/>
          </p:nvPicPr>
          <p:blipFill>
            <a:blip r:embed="rId3"/>
            <a:stretch/>
          </p:blipFill>
          <p:spPr>
            <a:xfrm>
              <a:off x="3754440" y="44197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45"/>
          <p:cNvGrpSpPr/>
          <p:nvPr/>
        </p:nvGrpSpPr>
        <p:grpSpPr>
          <a:xfrm>
            <a:off x="3789360" y="5378400"/>
            <a:ext cx="822240" cy="819000"/>
            <a:chOff x="3789360" y="5378400"/>
            <a:chExt cx="822240" cy="819000"/>
          </a:xfrm>
        </p:grpSpPr>
        <p:sp>
          <p:nvSpPr>
            <p:cNvPr id="428" name="Oval 46"/>
            <p:cNvSpPr/>
            <p:nvPr/>
          </p:nvSpPr>
          <p:spPr>
            <a:xfrm>
              <a:off x="3789360" y="5381640"/>
              <a:ext cx="822240" cy="815760"/>
            </a:xfrm>
            <a:prstGeom prst="ellipse">
              <a:avLst/>
            </a:prstGeom>
            <a:solidFill>
              <a:srgbClr val="4ba5ef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47" descr="cir_lighteffect0"/>
            <p:cNvPicPr/>
            <p:nvPr/>
          </p:nvPicPr>
          <p:blipFill>
            <a:blip r:embed="rId4"/>
            <a:stretch/>
          </p:blipFill>
          <p:spPr>
            <a:xfrm>
              <a:off x="3809880" y="53784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Формы работы с родителя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2"/>
          <p:cNvSpPr/>
          <p:nvPr/>
        </p:nvSpPr>
        <p:spPr>
          <a:xfrm>
            <a:off x="1258920" y="1989000"/>
            <a:ext cx="6192720" cy="1800360"/>
          </a:xfrm>
          <a:prstGeom prst="roundRect">
            <a:avLst>
              <a:gd name="adj" fmla="val 16667"/>
            </a:avLst>
          </a:prstGeom>
          <a:solidFill>
            <a:srgbClr val="e1595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"/>
          <p:cNvSpPr/>
          <p:nvPr/>
        </p:nvSpPr>
        <p:spPr>
          <a:xfrm>
            <a:off x="1258920" y="4365720"/>
            <a:ext cx="6697800" cy="2376360"/>
          </a:xfrm>
          <a:prstGeom prst="roundRect">
            <a:avLst>
              <a:gd name="adj" fmla="val 16667"/>
            </a:avLst>
          </a:prstGeom>
          <a:solidFill>
            <a:srgbClr val="80e05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Алгоритм подготовки родительского собр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5"/>
          <p:cNvGrpSpPr/>
          <p:nvPr/>
        </p:nvGrpSpPr>
        <p:grpSpPr>
          <a:xfrm>
            <a:off x="1258920" y="1484280"/>
            <a:ext cx="5545080" cy="649440"/>
            <a:chOff x="1258920" y="1484280"/>
            <a:chExt cx="5545080" cy="649440"/>
          </a:xfrm>
        </p:grpSpPr>
        <p:sp>
          <p:nvSpPr>
            <p:cNvPr id="435" name="AutoShape 6"/>
            <p:cNvSpPr/>
            <p:nvPr/>
          </p:nvSpPr>
          <p:spPr>
            <a:xfrm>
              <a:off x="1258920" y="1484280"/>
              <a:ext cx="5545080" cy="6494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95c"/>
                </a:gs>
                <a:gs pos="50000">
                  <a:srgbClr val="cf5255"/>
                </a:gs>
                <a:gs pos="100000">
                  <a:srgbClr val="e159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7"/>
            <p:cNvGrpSpPr/>
            <p:nvPr/>
          </p:nvGrpSpPr>
          <p:grpSpPr>
            <a:xfrm>
              <a:off x="1272240" y="1504440"/>
              <a:ext cx="5524560" cy="600120"/>
              <a:chOff x="1272240" y="1504440"/>
              <a:chExt cx="5524560" cy="600120"/>
            </a:xfrm>
          </p:grpSpPr>
          <p:sp>
            <p:nvSpPr>
              <p:cNvPr id="437" name="AutoShape 8"/>
              <p:cNvSpPr/>
              <p:nvPr/>
            </p:nvSpPr>
            <p:spPr>
              <a:xfrm>
                <a:off x="1272240" y="1949400"/>
                <a:ext cx="5524560" cy="15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95c">
                      <a:alpha val="0"/>
                    </a:srgbClr>
                  </a:gs>
                  <a:gs pos="100000">
                    <a:srgbClr val="f9d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AutoShape 9"/>
              <p:cNvSpPr/>
              <p:nvPr/>
            </p:nvSpPr>
            <p:spPr>
              <a:xfrm>
                <a:off x="1272240" y="1504440"/>
                <a:ext cx="5524560" cy="155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e5e5"/>
                  </a:gs>
                  <a:gs pos="100000">
                    <a:srgbClr val="e1595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Group 10"/>
          <p:cNvGrpSpPr/>
          <p:nvPr/>
        </p:nvGrpSpPr>
        <p:grpSpPr>
          <a:xfrm>
            <a:off x="1258920" y="3860640"/>
            <a:ext cx="5618160" cy="648000"/>
            <a:chOff x="1258920" y="3860640"/>
            <a:chExt cx="5618160" cy="648000"/>
          </a:xfrm>
        </p:grpSpPr>
        <p:sp>
          <p:nvSpPr>
            <p:cNvPr id="440" name="AutoShape 11"/>
            <p:cNvSpPr/>
            <p:nvPr/>
          </p:nvSpPr>
          <p:spPr>
            <a:xfrm>
              <a:off x="1258920" y="3860640"/>
              <a:ext cx="5618160" cy="648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e05a"/>
                </a:gs>
                <a:gs pos="50000">
                  <a:srgbClr val="76ce53"/>
                </a:gs>
                <a:gs pos="100000">
                  <a:srgbClr val="80e0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12"/>
            <p:cNvGrpSpPr/>
            <p:nvPr/>
          </p:nvGrpSpPr>
          <p:grpSpPr>
            <a:xfrm>
              <a:off x="1272600" y="3880800"/>
              <a:ext cx="5597280" cy="598680"/>
              <a:chOff x="1272600" y="3880800"/>
              <a:chExt cx="5597280" cy="598680"/>
            </a:xfrm>
          </p:grpSpPr>
          <p:sp>
            <p:nvSpPr>
              <p:cNvPr id="442" name="AutoShape 13"/>
              <p:cNvSpPr/>
              <p:nvPr/>
            </p:nvSpPr>
            <p:spPr>
              <a:xfrm>
                <a:off x="1272600" y="4324680"/>
                <a:ext cx="5597280" cy="15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e05a">
                      <a:alpha val="0"/>
                    </a:srgbClr>
                  </a:gs>
                  <a:gs pos="100000">
                    <a:srgbClr val="dff7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4"/>
              <p:cNvSpPr/>
              <p:nvPr/>
            </p:nvSpPr>
            <p:spPr>
              <a:xfrm>
                <a:off x="1272600" y="3880800"/>
                <a:ext cx="5597280" cy="15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7f9df"/>
                  </a:gs>
                  <a:gs pos="100000">
                    <a:srgbClr val="80e05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Rectangle 15"/>
          <p:cNvSpPr/>
          <p:nvPr/>
        </p:nvSpPr>
        <p:spPr>
          <a:xfrm>
            <a:off x="1116000" y="1484280"/>
            <a:ext cx="60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Выбор темы и формы проведения родительского собрания учиты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1258920" y="3933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готовительная раб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1187280" y="443700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изучение научно-методической литер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анализ документации и проведение микро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пределение вида, формы и этапов родительского собр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бъявление за 2-3 недели о родительском собрании учащим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запись в дневниках учащихся о теме и сроках собр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глашение родителей и других его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влечение к его подготовке членов родительского комите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формление и оборудование места проведения собр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1258920" y="21337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озрастные особенност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еобладание типов сем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уровень образованности и заинтересованности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облемы классного коллекти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цели и задачи учебно-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i-main-pic" descr="Картинка 1049 из 39775"/>
          <p:cNvPicPr/>
          <p:nvPr/>
        </p:nvPicPr>
        <p:blipFill>
          <a:blip r:embed="rId1"/>
          <a:stretch/>
        </p:blipFill>
        <p:spPr>
          <a:xfrm>
            <a:off x="7596360" y="1413000"/>
            <a:ext cx="154764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5783400" y="1676520"/>
            <a:ext cx="3252240" cy="672480"/>
            <a:chOff x="5783400" y="1676520"/>
            <a:chExt cx="3252240" cy="672480"/>
          </a:xfrm>
        </p:grpSpPr>
        <p:sp>
          <p:nvSpPr>
            <p:cNvPr id="450" name="AutoShape 3"/>
            <p:cNvSpPr/>
            <p:nvPr/>
          </p:nvSpPr>
          <p:spPr>
            <a:xfrm>
              <a:off x="5783400" y="1676520"/>
              <a:ext cx="3252240" cy="67248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4"/>
            <p:cNvSpPr/>
            <p:nvPr/>
          </p:nvSpPr>
          <p:spPr>
            <a:xfrm>
              <a:off x="5833800" y="1717200"/>
              <a:ext cx="3138120" cy="27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5"/>
          <p:cNvGrpSpPr/>
          <p:nvPr/>
        </p:nvGrpSpPr>
        <p:grpSpPr>
          <a:xfrm>
            <a:off x="6227640" y="3068640"/>
            <a:ext cx="2916000" cy="791640"/>
            <a:chOff x="6227640" y="3068640"/>
            <a:chExt cx="2916000" cy="791640"/>
          </a:xfrm>
        </p:grpSpPr>
        <p:sp>
          <p:nvSpPr>
            <p:cNvPr id="453" name="AutoShape 6"/>
            <p:cNvSpPr/>
            <p:nvPr/>
          </p:nvSpPr>
          <p:spPr>
            <a:xfrm>
              <a:off x="6227640" y="3068640"/>
              <a:ext cx="2916000" cy="79164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7"/>
            <p:cNvSpPr/>
            <p:nvPr/>
          </p:nvSpPr>
          <p:spPr>
            <a:xfrm>
              <a:off x="6273000" y="3116520"/>
              <a:ext cx="2813760" cy="3214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8"/>
          <p:cNvGrpSpPr/>
          <p:nvPr/>
        </p:nvGrpSpPr>
        <p:grpSpPr>
          <a:xfrm>
            <a:off x="5651640" y="4724280"/>
            <a:ext cx="3492000" cy="720360"/>
            <a:chOff x="5651640" y="4724280"/>
            <a:chExt cx="3492000" cy="720360"/>
          </a:xfrm>
        </p:grpSpPr>
        <p:sp>
          <p:nvSpPr>
            <p:cNvPr id="456" name="AutoShape 9"/>
            <p:cNvSpPr/>
            <p:nvPr/>
          </p:nvSpPr>
          <p:spPr>
            <a:xfrm>
              <a:off x="5651640" y="4724280"/>
              <a:ext cx="3492000" cy="72036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5706000" y="4767840"/>
              <a:ext cx="3369240" cy="292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1"/>
          <p:cNvGrpSpPr/>
          <p:nvPr/>
        </p:nvGrpSpPr>
        <p:grpSpPr>
          <a:xfrm>
            <a:off x="179280" y="4724280"/>
            <a:ext cx="3097080" cy="647640"/>
            <a:chOff x="179280" y="4724280"/>
            <a:chExt cx="3097080" cy="647640"/>
          </a:xfrm>
        </p:grpSpPr>
        <p:sp>
          <p:nvSpPr>
            <p:cNvPr id="459" name="AutoShape 12"/>
            <p:cNvSpPr/>
            <p:nvPr/>
          </p:nvSpPr>
          <p:spPr>
            <a:xfrm>
              <a:off x="179280" y="4724280"/>
              <a:ext cx="3097080" cy="64764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3"/>
            <p:cNvSpPr/>
            <p:nvPr/>
          </p:nvSpPr>
          <p:spPr>
            <a:xfrm>
              <a:off x="227520" y="4763160"/>
              <a:ext cx="2988360" cy="2631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4"/>
          <p:cNvGrpSpPr/>
          <p:nvPr/>
        </p:nvGrpSpPr>
        <p:grpSpPr>
          <a:xfrm>
            <a:off x="0" y="3141720"/>
            <a:ext cx="2739600" cy="718560"/>
            <a:chOff x="0" y="3141720"/>
            <a:chExt cx="2739600" cy="718560"/>
          </a:xfrm>
        </p:grpSpPr>
        <p:sp>
          <p:nvSpPr>
            <p:cNvPr id="462" name="AutoShape 15"/>
            <p:cNvSpPr/>
            <p:nvPr/>
          </p:nvSpPr>
          <p:spPr>
            <a:xfrm>
              <a:off x="0" y="3141720"/>
              <a:ext cx="2739600" cy="71856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6"/>
            <p:cNvSpPr/>
            <p:nvPr/>
          </p:nvSpPr>
          <p:spPr>
            <a:xfrm>
              <a:off x="42480" y="3184920"/>
              <a:ext cx="2643480" cy="2919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7"/>
          <p:cNvGrpSpPr/>
          <p:nvPr/>
        </p:nvGrpSpPr>
        <p:grpSpPr>
          <a:xfrm>
            <a:off x="179280" y="1676520"/>
            <a:ext cx="3060360" cy="672480"/>
            <a:chOff x="179280" y="1676520"/>
            <a:chExt cx="3060360" cy="672480"/>
          </a:xfrm>
        </p:grpSpPr>
        <p:sp>
          <p:nvSpPr>
            <p:cNvPr id="465" name="AutoShape 18"/>
            <p:cNvSpPr/>
            <p:nvPr/>
          </p:nvSpPr>
          <p:spPr>
            <a:xfrm>
              <a:off x="179280" y="1676520"/>
              <a:ext cx="3060360" cy="67248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9"/>
            <p:cNvSpPr/>
            <p:nvPr/>
          </p:nvSpPr>
          <p:spPr>
            <a:xfrm>
              <a:off x="226800" y="1717200"/>
              <a:ext cx="2952720" cy="27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AutoShape 20"/>
          <p:cNvSpPr/>
          <p:nvPr/>
        </p:nvSpPr>
        <p:spPr>
          <a:xfrm rot="19130400">
            <a:off x="4932360" y="234936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24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1"/>
          <p:cNvSpPr/>
          <p:nvPr/>
        </p:nvSpPr>
        <p:spPr>
          <a:xfrm rot="3465600">
            <a:off x="4988160" y="423648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22"/>
          <p:cNvSpPr/>
          <p:nvPr/>
        </p:nvSpPr>
        <p:spPr>
          <a:xfrm rot="13840200">
            <a:off x="3187800" y="243648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7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3"/>
          <p:cNvSpPr/>
          <p:nvPr/>
        </p:nvSpPr>
        <p:spPr>
          <a:xfrm rot="7952400">
            <a:off x="33318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36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5435640" y="3357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 rot="10800000">
            <a:off x="2842920" y="335772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2798640" y="175752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27"/>
          <p:cNvGrpSpPr/>
          <p:nvPr/>
        </p:nvGrpSpPr>
        <p:grpSpPr>
          <a:xfrm>
            <a:off x="3484440" y="2516040"/>
            <a:ext cx="1989360" cy="1987560"/>
            <a:chOff x="3484440" y="2516040"/>
            <a:chExt cx="1989360" cy="1987560"/>
          </a:xfrm>
        </p:grpSpPr>
        <p:sp>
          <p:nvSpPr>
            <p:cNvPr id="475" name="Oval 28"/>
            <p:cNvSpPr/>
            <p:nvPr/>
          </p:nvSpPr>
          <p:spPr>
            <a:xfrm>
              <a:off x="3484440" y="2516040"/>
              <a:ext cx="1989360" cy="19875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9"/>
            <p:cNvSpPr/>
            <p:nvPr/>
          </p:nvSpPr>
          <p:spPr>
            <a:xfrm>
              <a:off x="3614040" y="2645640"/>
              <a:ext cx="1729080" cy="1727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0"/>
            <p:cNvSpPr/>
            <p:nvPr/>
          </p:nvSpPr>
          <p:spPr>
            <a:xfrm>
              <a:off x="3615840" y="2648520"/>
              <a:ext cx="1729080" cy="172764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1"/>
            <p:cNvSpPr/>
            <p:nvPr/>
          </p:nvSpPr>
          <p:spPr>
            <a:xfrm>
              <a:off x="3708000" y="2731680"/>
              <a:ext cx="1556280" cy="155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2"/>
            <p:cNvGrpSpPr/>
            <p:nvPr/>
          </p:nvGrpSpPr>
          <p:grpSpPr>
            <a:xfrm>
              <a:off x="3735360" y="2749320"/>
              <a:ext cx="1506960" cy="1505880"/>
              <a:chOff x="3735360" y="2749320"/>
              <a:chExt cx="1506960" cy="1505880"/>
            </a:xfrm>
          </p:grpSpPr>
          <p:sp>
            <p:nvSpPr>
              <p:cNvPr id="480" name="Oval 33"/>
              <p:cNvSpPr/>
              <p:nvPr/>
            </p:nvSpPr>
            <p:spPr>
              <a:xfrm>
                <a:off x="3735360" y="2749320"/>
                <a:ext cx="1506960" cy="1505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3754440" y="2757600"/>
                <a:ext cx="1470960" cy="1468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3770280" y="2772000"/>
                <a:ext cx="1398600" cy="137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36"/>
              <p:cNvSpPr/>
              <p:nvPr/>
            </p:nvSpPr>
            <p:spPr>
              <a:xfrm>
                <a:off x="3852000" y="2810520"/>
                <a:ext cx="1243080" cy="111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Text Box 37"/>
            <p:cNvSpPr/>
            <p:nvPr/>
          </p:nvSpPr>
          <p:spPr>
            <a:xfrm>
              <a:off x="4403880" y="33058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38"/>
          <p:cNvSpPr/>
          <p:nvPr/>
        </p:nvSpPr>
        <p:spPr>
          <a:xfrm>
            <a:off x="179280" y="1700280"/>
            <a:ext cx="2944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брание – 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9"/>
          <p:cNvSpPr/>
          <p:nvPr/>
        </p:nvSpPr>
        <p:spPr>
          <a:xfrm>
            <a:off x="5796000" y="1628640"/>
            <a:ext cx="3235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едагогическая мастерск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0"/>
          <p:cNvSpPr/>
          <p:nvPr/>
        </p:nvSpPr>
        <p:spPr>
          <a:xfrm>
            <a:off x="179280" y="4869000"/>
            <a:ext cx="2994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ференция от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1"/>
          <p:cNvSpPr/>
          <p:nvPr/>
        </p:nvSpPr>
        <p:spPr>
          <a:xfrm>
            <a:off x="5580000" y="4653000"/>
            <a:ext cx="356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актикум 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2"/>
          <p:cNvSpPr/>
          <p:nvPr/>
        </p:nvSpPr>
        <p:spPr>
          <a:xfrm>
            <a:off x="0" y="3068640"/>
            <a:ext cx="2843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вместное детей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3"/>
          <p:cNvSpPr/>
          <p:nvPr/>
        </p:nvSpPr>
        <p:spPr>
          <a:xfrm>
            <a:off x="6156360" y="3068640"/>
            <a:ext cx="313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вместное учителей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Формы родительских собра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2"/>
          <p:cNvSpPr/>
          <p:nvPr/>
        </p:nvSpPr>
        <p:spPr>
          <a:xfrm flipH="1" rot="3046800">
            <a:off x="4828680" y="107280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80e05a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3"/>
          <p:cNvSpPr/>
          <p:nvPr/>
        </p:nvSpPr>
        <p:spPr>
          <a:xfrm flipH="1" rot="3172200">
            <a:off x="2289960" y="328428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e1595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"/>
          <p:cNvSpPr/>
          <p:nvPr/>
        </p:nvSpPr>
        <p:spPr>
          <a:xfrm rot="18472800">
            <a:off x="4802040" y="326988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ca304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5"/>
          <p:cNvSpPr/>
          <p:nvPr/>
        </p:nvSpPr>
        <p:spPr>
          <a:xfrm rot="18553200">
            <a:off x="2295360" y="107136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4ba5e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252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Georgia"/>
              </a:rPr>
              <a:t>Участие родителей во внеклассной учебно-воспитательной работе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7"/>
          <p:cNvSpPr/>
          <p:nvPr/>
        </p:nvSpPr>
        <p:spPr>
          <a:xfrm>
            <a:off x="3711600" y="294336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5076720" y="1700280"/>
            <a:ext cx="1792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ведение экскурсий на предприятия и в научные учре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2268360" y="4076640"/>
            <a:ext cx="179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уководство кружками, проведение доп. занятий по предмет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4859280" y="4076640"/>
            <a:ext cx="20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накомство учащихся с особенностями различных професс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069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662720" y="321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406908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4662720" y="392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2268360" y="1628640"/>
            <a:ext cx="179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форме бесед с учащимися, проведения докладов и ле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108360" y="260280"/>
            <a:ext cx="9504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Georgia"/>
              </a:rPr>
              <a:t>Ожидаемый результа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36480" y="1887480"/>
            <a:ext cx="3652920" cy="1503360"/>
          </a:xfrm>
          <a:prstGeom prst="rect">
            <a:avLst/>
          </a:prstGeom>
          <a:gradFill rotWithShape="0">
            <a:gsLst>
              <a:gs pos="0">
                <a:srgbClr val="e1595c"/>
              </a:gs>
              <a:gs pos="100000">
                <a:srgbClr val="c14c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4672080" y="1882800"/>
            <a:ext cx="3786120" cy="1503360"/>
          </a:xfrm>
          <a:prstGeom prst="rect">
            <a:avLst/>
          </a:prstGeom>
          <a:gradFill rotWithShape="0">
            <a:gsLst>
              <a:gs pos="0">
                <a:srgbClr val="4ba5ef"/>
              </a:gs>
              <a:gs pos="100000">
                <a:srgbClr val="408ec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611280" y="3789360"/>
            <a:ext cx="3652920" cy="1503360"/>
          </a:xfrm>
          <a:prstGeom prst="rect">
            <a:avLst/>
          </a:prstGeom>
          <a:gradFill rotWithShape="0">
            <a:gsLst>
              <a:gs pos="0">
                <a:srgbClr val="fca304"/>
              </a:gs>
              <a:gs pos="100000">
                <a:srgbClr val="d88c0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4676760" y="3824280"/>
            <a:ext cx="3790800" cy="1494000"/>
          </a:xfrm>
          <a:prstGeom prst="rect">
            <a:avLst/>
          </a:prstGeom>
          <a:gradFill rotWithShape="0">
            <a:gsLst>
              <a:gs pos="0">
                <a:srgbClr val="80e05a"/>
              </a:gs>
              <a:gs pos="100000">
                <a:srgbClr val="6ec0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755640" y="184464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тивность самой школы, использование разнообразных методов сотрудничества с семьё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716360" y="2049480"/>
            <a:ext cx="36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нимание родителями связи своей работы с успехам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4932360" y="2265480"/>
            <a:ext cx="3660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611280" y="3933720"/>
            <a:ext cx="36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становление личных отношений между родителями и уч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4716360" y="3933720"/>
            <a:ext cx="36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интересованность родителей в успехах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i-main-pic" descr="Картинка 965 из 39775"/>
          <p:cNvPicPr/>
          <p:nvPr/>
        </p:nvPicPr>
        <p:blipFill>
          <a:blip r:embed="rId1"/>
          <a:stretch/>
        </p:blipFill>
        <p:spPr>
          <a:xfrm>
            <a:off x="3276720" y="5300640"/>
            <a:ext cx="223200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826920" y="476280"/>
            <a:ext cx="4572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Georgia"/>
              </a:rPr>
              <a:t>Для того, чтобы воспитание детей было успешным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Georgia"/>
              </a:rPr>
              <a:t>надо чтобы воспитывающие люди , не переставая, воспитывали себ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Georgia"/>
              </a:rPr>
              <a:t>Л.Толс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i-main-pic" descr="Картинка 1151 из 39775"/>
          <p:cNvPicPr/>
          <p:nvPr/>
        </p:nvPicPr>
        <p:blipFill>
          <a:blip r:embed="rId1"/>
          <a:stretch/>
        </p:blipFill>
        <p:spPr>
          <a:xfrm>
            <a:off x="5076720" y="4076640"/>
            <a:ext cx="40672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569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19"/>
          <p:cNvPicPr/>
          <p:nvPr/>
        </p:nvPicPr>
        <p:blipFill>
          <a:blip r:embed="rId1"/>
          <a:stretch/>
        </p:blipFill>
        <p:spPr>
          <a:xfrm>
            <a:off x="2987640" y="2565360"/>
            <a:ext cx="2436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00"/>
                </a:solidFill>
                <a:latin typeface="Georgia"/>
              </a:rPr>
              <a:t>Проблема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величение количества детских неврозов, возникновение конфликтных ситуаций между детьми и родител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одителями и педагогами произошло из-за непонимания части родителей своей роли в воспитании дет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00036097"/>
          <p:cNvPicPr/>
          <p:nvPr/>
        </p:nvPicPr>
        <p:blipFill>
          <a:blip r:embed="rId1"/>
          <a:stretch/>
        </p:blipFill>
        <p:spPr>
          <a:xfrm>
            <a:off x="3276720" y="3933720"/>
            <a:ext cx="2522520" cy="2519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Georgia"/>
              </a:rPr>
              <a:t>Цел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высить уровень родительской компетентности в процессе взаимодействия семьи и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images4"/>
          <p:cNvPicPr/>
          <p:nvPr/>
        </p:nvPicPr>
        <p:blipFill>
          <a:blip r:embed="rId1"/>
          <a:stretch/>
        </p:blipFill>
        <p:spPr>
          <a:xfrm>
            <a:off x="3059280" y="3933720"/>
            <a:ext cx="309708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3152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Georgia"/>
              </a:rPr>
              <a:t>Задач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9325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.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нализ условий взаимодействия семьи и шк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интересах развития лич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    Определить и внедрить наиболее эффективные формы взаимодействия школы 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   Транслировать положительный опыт взаимодействия родителей – учеников – педаг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 rot="5400000">
            <a:off x="3283920" y="2944440"/>
            <a:ext cx="2224080" cy="1173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517680" y="1844640"/>
            <a:ext cx="3657600" cy="1152360"/>
            <a:chOff x="517680" y="1844640"/>
            <a:chExt cx="3657600" cy="1152360"/>
          </a:xfrm>
        </p:grpSpPr>
        <p:sp>
          <p:nvSpPr>
            <p:cNvPr id="166" name="AutoShape 4"/>
            <p:cNvSpPr/>
            <p:nvPr/>
          </p:nvSpPr>
          <p:spPr>
            <a:xfrm>
              <a:off x="517680" y="1844640"/>
              <a:ext cx="3657600" cy="1152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95c"/>
                </a:gs>
                <a:gs pos="50000">
                  <a:srgbClr val="cf5255"/>
                </a:gs>
                <a:gs pos="100000">
                  <a:srgbClr val="e159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5"/>
            <p:cNvGrpSpPr/>
            <p:nvPr/>
          </p:nvGrpSpPr>
          <p:grpSpPr>
            <a:xfrm>
              <a:off x="526320" y="1880280"/>
              <a:ext cx="3643920" cy="1065240"/>
              <a:chOff x="526320" y="1880280"/>
              <a:chExt cx="3643920" cy="1065240"/>
            </a:xfrm>
          </p:grpSpPr>
          <p:sp>
            <p:nvSpPr>
              <p:cNvPr id="168" name="AutoShape 6"/>
              <p:cNvSpPr/>
              <p:nvPr/>
            </p:nvSpPr>
            <p:spPr>
              <a:xfrm>
                <a:off x="526320" y="2669760"/>
                <a:ext cx="3643920" cy="275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95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7"/>
              <p:cNvSpPr/>
              <p:nvPr/>
            </p:nvSpPr>
            <p:spPr>
              <a:xfrm>
                <a:off x="526320" y="1880280"/>
                <a:ext cx="3643920" cy="276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e5e5"/>
                  </a:gs>
                  <a:gs pos="100000">
                    <a:srgbClr val="e1595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8"/>
          <p:cNvGrpSpPr/>
          <p:nvPr/>
        </p:nvGrpSpPr>
        <p:grpSpPr>
          <a:xfrm>
            <a:off x="539640" y="3068640"/>
            <a:ext cx="3657600" cy="1152000"/>
            <a:chOff x="539640" y="3068640"/>
            <a:chExt cx="3657600" cy="1152000"/>
          </a:xfrm>
        </p:grpSpPr>
        <p:sp>
          <p:nvSpPr>
            <p:cNvPr id="171" name="AutoShape 9"/>
            <p:cNvSpPr/>
            <p:nvPr/>
          </p:nvSpPr>
          <p:spPr>
            <a:xfrm>
              <a:off x="539640" y="3068640"/>
              <a:ext cx="3657600" cy="1152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e05a"/>
                </a:gs>
                <a:gs pos="50000">
                  <a:srgbClr val="76ce53"/>
                </a:gs>
                <a:gs pos="100000">
                  <a:srgbClr val="80e0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0"/>
            <p:cNvGrpSpPr/>
            <p:nvPr/>
          </p:nvGrpSpPr>
          <p:grpSpPr>
            <a:xfrm>
              <a:off x="548280" y="3104280"/>
              <a:ext cx="3643920" cy="1065240"/>
              <a:chOff x="548280" y="3104280"/>
              <a:chExt cx="3643920" cy="1065240"/>
            </a:xfrm>
          </p:grpSpPr>
          <p:sp>
            <p:nvSpPr>
              <p:cNvPr id="173" name="AutoShape 11"/>
              <p:cNvSpPr/>
              <p:nvPr/>
            </p:nvSpPr>
            <p:spPr>
              <a:xfrm>
                <a:off x="548280" y="3893760"/>
                <a:ext cx="3643920" cy="275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e05a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2"/>
              <p:cNvSpPr/>
              <p:nvPr/>
            </p:nvSpPr>
            <p:spPr>
              <a:xfrm>
                <a:off x="548280" y="3104280"/>
                <a:ext cx="3643920" cy="27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ff7d5"/>
                  </a:gs>
                  <a:gs pos="100000">
                    <a:srgbClr val="80e05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13"/>
          <p:cNvGrpSpPr/>
          <p:nvPr/>
        </p:nvGrpSpPr>
        <p:grpSpPr>
          <a:xfrm>
            <a:off x="539640" y="4292640"/>
            <a:ext cx="3657600" cy="1152000"/>
            <a:chOff x="539640" y="4292640"/>
            <a:chExt cx="3657600" cy="1152000"/>
          </a:xfrm>
        </p:grpSpPr>
        <p:sp>
          <p:nvSpPr>
            <p:cNvPr id="176" name="AutoShape 14"/>
            <p:cNvSpPr/>
            <p:nvPr/>
          </p:nvSpPr>
          <p:spPr>
            <a:xfrm>
              <a:off x="539640" y="4292640"/>
              <a:ext cx="3657600" cy="1152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ba5ef"/>
                </a:gs>
                <a:gs pos="50000">
                  <a:srgbClr val="4598dc"/>
                </a:gs>
                <a:gs pos="100000">
                  <a:srgbClr val="4ba5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5"/>
            <p:cNvGrpSpPr/>
            <p:nvPr/>
          </p:nvGrpSpPr>
          <p:grpSpPr>
            <a:xfrm>
              <a:off x="548280" y="4328280"/>
              <a:ext cx="3643920" cy="1065240"/>
              <a:chOff x="548280" y="4328280"/>
              <a:chExt cx="3643920" cy="1065240"/>
            </a:xfrm>
          </p:grpSpPr>
          <p:sp>
            <p:nvSpPr>
              <p:cNvPr id="178" name="AutoShape 16"/>
              <p:cNvSpPr/>
              <p:nvPr/>
            </p:nvSpPr>
            <p:spPr>
              <a:xfrm>
                <a:off x="548280" y="5117760"/>
                <a:ext cx="3643920" cy="275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ba5e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17"/>
              <p:cNvSpPr/>
              <p:nvPr/>
            </p:nvSpPr>
            <p:spPr>
              <a:xfrm>
                <a:off x="548280" y="4328280"/>
                <a:ext cx="3643920" cy="27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bfb"/>
                  </a:gs>
                  <a:gs pos="100000">
                    <a:srgbClr val="4ba5e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00"/>
                </a:solidFill>
                <a:latin typeface="Georgia"/>
              </a:rPr>
              <a:t>Семья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900000" y="1989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емья не просит, чтобы с ней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бот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568520" y="3314880"/>
            <a:ext cx="167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611280" y="42926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емья не доверяет таких полномочи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052960" y="2201760"/>
            <a:ext cx="3395880" cy="261648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5135400" y="2270160"/>
            <a:ext cx="3230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вольно замкнутое объединение людей, ревностно  защищающее свой внутренний мир, свои тайны и секреты, противостоящие внешним воздейств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468360" y="198900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395280" y="33577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395280" y="4653000"/>
            <a:ext cx="576360" cy="6904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9"/>
          <p:cNvSpPr/>
          <p:nvPr/>
        </p:nvSpPr>
        <p:spPr>
          <a:xfrm>
            <a:off x="900000" y="321300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емья не хочет, чтоб в её тайны загляды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i-main-pic" descr="Картинка 320 из 640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1433520" y="1844640"/>
            <a:ext cx="7098840" cy="1871280"/>
            <a:chOff x="1433520" y="1844640"/>
            <a:chExt cx="7098840" cy="1871280"/>
          </a:xfrm>
        </p:grpSpPr>
        <p:sp>
          <p:nvSpPr>
            <p:cNvPr id="192" name="AutoShape 3"/>
            <p:cNvSpPr/>
            <p:nvPr/>
          </p:nvSpPr>
          <p:spPr>
            <a:xfrm>
              <a:off x="1433520" y="1844640"/>
              <a:ext cx="7098840" cy="1871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4"/>
            <p:cNvSpPr/>
            <p:nvPr/>
          </p:nvSpPr>
          <p:spPr>
            <a:xfrm>
              <a:off x="1447920" y="1860840"/>
              <a:ext cx="7081200" cy="75852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8"/>
          <p:cNvGrpSpPr/>
          <p:nvPr/>
        </p:nvGrpSpPr>
        <p:grpSpPr>
          <a:xfrm>
            <a:off x="1433520" y="4005360"/>
            <a:ext cx="7098840" cy="1871280"/>
            <a:chOff x="1433520" y="4005360"/>
            <a:chExt cx="7098840" cy="1871280"/>
          </a:xfrm>
        </p:grpSpPr>
        <p:sp>
          <p:nvSpPr>
            <p:cNvPr id="195" name="AutoShape 9"/>
            <p:cNvSpPr/>
            <p:nvPr/>
          </p:nvSpPr>
          <p:spPr>
            <a:xfrm>
              <a:off x="1433520" y="4005360"/>
              <a:ext cx="7098840" cy="187128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"/>
            <p:cNvSpPr/>
            <p:nvPr/>
          </p:nvSpPr>
          <p:spPr>
            <a:xfrm>
              <a:off x="1447920" y="4021560"/>
              <a:ext cx="7081200" cy="75852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1"/>
          <p:cNvGrpSpPr/>
          <p:nvPr/>
        </p:nvGrpSpPr>
        <p:grpSpPr>
          <a:xfrm>
            <a:off x="1120680" y="2174760"/>
            <a:ext cx="611280" cy="608040"/>
            <a:chOff x="1120680" y="2174760"/>
            <a:chExt cx="611280" cy="608040"/>
          </a:xfrm>
        </p:grpSpPr>
        <p:sp>
          <p:nvSpPr>
            <p:cNvPr id="198" name="Oval 12"/>
            <p:cNvSpPr/>
            <p:nvPr/>
          </p:nvSpPr>
          <p:spPr>
            <a:xfrm>
              <a:off x="1120680" y="217476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3"/>
            <p:cNvGrpSpPr/>
            <p:nvPr/>
          </p:nvGrpSpPr>
          <p:grpSpPr>
            <a:xfrm>
              <a:off x="1133640" y="2184120"/>
              <a:ext cx="585720" cy="586080"/>
              <a:chOff x="1133640" y="2184120"/>
              <a:chExt cx="585720" cy="586080"/>
            </a:xfrm>
          </p:grpSpPr>
          <p:sp>
            <p:nvSpPr>
              <p:cNvPr id="200" name="Oval 14"/>
              <p:cNvSpPr/>
              <p:nvPr/>
            </p:nvSpPr>
            <p:spPr>
              <a:xfrm>
                <a:off x="1133640" y="218412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1141560" y="218736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6"/>
              <p:cNvSpPr/>
              <p:nvPr/>
            </p:nvSpPr>
            <p:spPr>
              <a:xfrm>
                <a:off x="1147680" y="219204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7"/>
              <p:cNvSpPr/>
              <p:nvPr/>
            </p:nvSpPr>
            <p:spPr>
              <a:xfrm>
                <a:off x="1177920" y="220788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18"/>
          <p:cNvGrpSpPr/>
          <p:nvPr/>
        </p:nvGrpSpPr>
        <p:grpSpPr>
          <a:xfrm>
            <a:off x="1116000" y="4292640"/>
            <a:ext cx="611280" cy="608040"/>
            <a:chOff x="1116000" y="4292640"/>
            <a:chExt cx="611280" cy="608040"/>
          </a:xfrm>
        </p:grpSpPr>
        <p:sp>
          <p:nvSpPr>
            <p:cNvPr id="205" name="Oval 19"/>
            <p:cNvSpPr/>
            <p:nvPr/>
          </p:nvSpPr>
          <p:spPr>
            <a:xfrm>
              <a:off x="1116000" y="429264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0"/>
            <p:cNvGrpSpPr/>
            <p:nvPr/>
          </p:nvGrpSpPr>
          <p:grpSpPr>
            <a:xfrm>
              <a:off x="1128960" y="4302000"/>
              <a:ext cx="585720" cy="586080"/>
              <a:chOff x="1128960" y="4302000"/>
              <a:chExt cx="585720" cy="586080"/>
            </a:xfrm>
          </p:grpSpPr>
          <p:sp>
            <p:nvSpPr>
              <p:cNvPr id="207" name="Oval 21"/>
              <p:cNvSpPr/>
              <p:nvPr/>
            </p:nvSpPr>
            <p:spPr>
              <a:xfrm>
                <a:off x="1128960" y="430200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1136880" y="430524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1143000" y="430992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1173240" y="432576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Text Box 32"/>
          <p:cNvSpPr/>
          <p:nvPr/>
        </p:nvSpPr>
        <p:spPr>
          <a:xfrm>
            <a:off x="1828800" y="1844640"/>
            <a:ext cx="670392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Вводит ребёнка в контекст культуры и социальных отношений, ни в коем случае не игнорируя глубокое влияние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1828800" y="3933720"/>
            <a:ext cx="663084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aramond"/>
              </a:rPr>
              <a:t>Лучший способ помочь семье в воспитании детей – проявлять заботу о счастье ребёнка, беспокоясь о степени е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5"/>
          <p:cNvSpPr/>
          <p:nvPr/>
        </p:nvSpPr>
        <p:spPr>
          <a:xfrm>
            <a:off x="1241280" y="226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6"/>
          <p:cNvSpPr/>
          <p:nvPr/>
        </p:nvSpPr>
        <p:spPr>
          <a:xfrm>
            <a:off x="1258920" y="4365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00"/>
                </a:solidFill>
                <a:latin typeface="Georgia"/>
              </a:rPr>
              <a:t>Школа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i-main-pic" descr="Картинка 663 из 39775"/>
          <p:cNvPicPr/>
          <p:nvPr/>
        </p:nvPicPr>
        <p:blipFill>
          <a:blip r:embed="rId1"/>
          <a:stretch/>
        </p:blipFill>
        <p:spPr>
          <a:xfrm>
            <a:off x="0" y="4869000"/>
            <a:ext cx="1300320" cy="185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2" descr="i?id=71994127-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189000"/>
            <a:ext cx="1871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5884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Условия взаимодействия семьи и школ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RY_circle001"/>
          <p:cNvPicPr/>
          <p:nvPr/>
        </p:nvPicPr>
        <p:blipFill>
          <a:blip r:embed="rId1"/>
          <a:stretch/>
        </p:blipFill>
        <p:spPr>
          <a:xfrm>
            <a:off x="7020000" y="1052640"/>
            <a:ext cx="2023920" cy="2025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LB_circle001"/>
          <p:cNvPicPr/>
          <p:nvPr/>
        </p:nvPicPr>
        <p:blipFill>
          <a:blip r:embed="rId2"/>
          <a:stretch/>
        </p:blipFill>
        <p:spPr>
          <a:xfrm>
            <a:off x="0" y="3141720"/>
            <a:ext cx="3635280" cy="352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O_chevron001"/>
          <p:cNvPicPr/>
          <p:nvPr/>
        </p:nvPicPr>
        <p:blipFill>
          <a:blip r:embed="rId3"/>
          <a:stretch/>
        </p:blipFill>
        <p:spPr>
          <a:xfrm>
            <a:off x="2916360" y="285264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O_chevron001"/>
          <p:cNvPicPr/>
          <p:nvPr/>
        </p:nvPicPr>
        <p:blipFill>
          <a:blip r:embed="rId4"/>
          <a:stretch/>
        </p:blipFill>
        <p:spPr>
          <a:xfrm>
            <a:off x="6516720" y="155736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YG_circle001"/>
          <p:cNvPicPr/>
          <p:nvPr/>
        </p:nvPicPr>
        <p:blipFill>
          <a:blip r:embed="rId5"/>
          <a:stretch/>
        </p:blipFill>
        <p:spPr>
          <a:xfrm>
            <a:off x="3564000" y="1628640"/>
            <a:ext cx="3527280" cy="3440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8"/>
          <p:cNvSpPr/>
          <p:nvPr/>
        </p:nvSpPr>
        <p:spPr>
          <a:xfrm>
            <a:off x="395280" y="386064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Garamond"/>
              </a:rPr>
              <a:t>Исчерпывающее представление о функциях и содержании деятельности друг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995640" y="2060640"/>
            <a:ext cx="252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aramond"/>
              </a:rPr>
              <a:t>Умение устанавливать реальные взаимные действия, отдавая себе отчёт в задачах, средствах и конечном результ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7236000" y="141300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aramond"/>
              </a:rPr>
              <a:t>Забота о счастье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3" descr="i?id=33310500-0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32720" y="4869000"/>
            <a:ext cx="2016000" cy="1368360"/>
          </a:xfrm>
          <a:prstGeom prst="rect">
            <a:avLst/>
          </a:prstGeom>
          <a:ln w="0">
            <a:noFill/>
          </a:ln>
        </p:spPr>
      </p:pic>
      <p:pic>
        <p:nvPicPr>
          <p:cNvPr id="228" name="i-main-pic" descr="Картинка 77 из 6400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197000"/>
            <a:ext cx="270036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2124000" y="5229360"/>
            <a:ext cx="6408360" cy="863280"/>
            <a:chOff x="2124000" y="5229360"/>
            <a:chExt cx="6408360" cy="863280"/>
          </a:xfrm>
        </p:grpSpPr>
        <p:sp>
          <p:nvSpPr>
            <p:cNvPr id="230" name="AutoShape 3"/>
            <p:cNvSpPr/>
            <p:nvPr/>
          </p:nvSpPr>
          <p:spPr>
            <a:xfrm>
              <a:off x="2124000" y="5229360"/>
              <a:ext cx="6408360" cy="86328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"/>
            <p:cNvSpPr/>
            <p:nvPr/>
          </p:nvSpPr>
          <p:spPr>
            <a:xfrm>
              <a:off x="2175840" y="5260320"/>
              <a:ext cx="6333840" cy="38160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5"/>
          <p:cNvSpPr/>
          <p:nvPr/>
        </p:nvSpPr>
        <p:spPr>
          <a:xfrm>
            <a:off x="2124000" y="5157720"/>
            <a:ext cx="63356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Garamond"/>
              </a:rPr>
              <a:t>В зависимости от ситуации варьируйте стиль общения с родителями от официального до доверитель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6"/>
          <p:cNvGrpSpPr/>
          <p:nvPr/>
        </p:nvGrpSpPr>
        <p:grpSpPr>
          <a:xfrm>
            <a:off x="2128680" y="4005360"/>
            <a:ext cx="6403680" cy="936000"/>
            <a:chOff x="2128680" y="4005360"/>
            <a:chExt cx="6403680" cy="936000"/>
          </a:xfrm>
        </p:grpSpPr>
        <p:sp>
          <p:nvSpPr>
            <p:cNvPr id="234" name="AutoShape 7"/>
            <p:cNvSpPr/>
            <p:nvPr/>
          </p:nvSpPr>
          <p:spPr>
            <a:xfrm>
              <a:off x="2128680" y="4005360"/>
              <a:ext cx="6403680" cy="93600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8"/>
            <p:cNvSpPr/>
            <p:nvPr/>
          </p:nvSpPr>
          <p:spPr>
            <a:xfrm>
              <a:off x="2180520" y="4038840"/>
              <a:ext cx="6329520" cy="41364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2268360" y="4005360"/>
            <a:ext cx="6480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еседуя с родителями, изучайте их индивидуальные особенности, цели, методы, традиции семейного вос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0"/>
          <p:cNvGrpSpPr/>
          <p:nvPr/>
        </p:nvGrpSpPr>
        <p:grpSpPr>
          <a:xfrm>
            <a:off x="2195640" y="2781360"/>
            <a:ext cx="6336720" cy="890280"/>
            <a:chOff x="2195640" y="2781360"/>
            <a:chExt cx="6336720" cy="890280"/>
          </a:xfrm>
        </p:grpSpPr>
        <p:sp>
          <p:nvSpPr>
            <p:cNvPr id="238" name="AutoShape 11"/>
            <p:cNvSpPr/>
            <p:nvPr/>
          </p:nvSpPr>
          <p:spPr>
            <a:xfrm>
              <a:off x="2195640" y="2781360"/>
              <a:ext cx="6336720" cy="89028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12"/>
            <p:cNvSpPr/>
            <p:nvPr/>
          </p:nvSpPr>
          <p:spPr>
            <a:xfrm>
              <a:off x="2246760" y="2813040"/>
              <a:ext cx="6263280" cy="3934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3"/>
          <p:cNvSpPr/>
          <p:nvPr/>
        </p:nvSpPr>
        <p:spPr>
          <a:xfrm>
            <a:off x="2050920" y="2708280"/>
            <a:ext cx="6696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ремитесь к тому, чтобы ваше общение с родителями было на «равных», т.е. без высокомерия, но и без заиски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5884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Как общаться с родителями ваших учеников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0" y="6237360"/>
            <a:ext cx="9144000" cy="47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Способность к общению — профессиональное качество учителя</a:t>
            </a:r>
            <a:r>
              <a:rPr b="0" i="1" lang="ru-RU" sz="20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1763640" y="2924280"/>
            <a:ext cx="685800" cy="68580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191016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8"/>
          <p:cNvSpPr/>
          <p:nvPr/>
        </p:nvSpPr>
        <p:spPr>
          <a:xfrm>
            <a:off x="1763640" y="4149720"/>
            <a:ext cx="685800" cy="685800"/>
          </a:xfrm>
          <a:prstGeom prst="diamond">
            <a:avLst/>
          </a:prstGeom>
          <a:solidFill>
            <a:srgbClr val="fca30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198144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0"/>
          <p:cNvSpPr/>
          <p:nvPr/>
        </p:nvSpPr>
        <p:spPr>
          <a:xfrm>
            <a:off x="1835280" y="53006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198144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2"/>
          <p:cNvGrpSpPr/>
          <p:nvPr/>
        </p:nvGrpSpPr>
        <p:grpSpPr>
          <a:xfrm>
            <a:off x="2195640" y="1557360"/>
            <a:ext cx="6336720" cy="934560"/>
            <a:chOff x="2195640" y="1557360"/>
            <a:chExt cx="6336720" cy="934560"/>
          </a:xfrm>
        </p:grpSpPr>
        <p:sp>
          <p:nvSpPr>
            <p:cNvPr id="250" name="AutoShape 23"/>
            <p:cNvSpPr/>
            <p:nvPr/>
          </p:nvSpPr>
          <p:spPr>
            <a:xfrm>
              <a:off x="2195640" y="1557360"/>
              <a:ext cx="6336720" cy="93456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4"/>
            <p:cNvSpPr/>
            <p:nvPr/>
          </p:nvSpPr>
          <p:spPr>
            <a:xfrm>
              <a:off x="2246760" y="1590840"/>
              <a:ext cx="6263280" cy="41292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25"/>
          <p:cNvSpPr/>
          <p:nvPr/>
        </p:nvSpPr>
        <p:spPr>
          <a:xfrm>
            <a:off x="2268360" y="1557360"/>
            <a:ext cx="6407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Общаясь с родителями, обращайтесь с ними по имени и отчест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6"/>
          <p:cNvSpPr/>
          <p:nvPr/>
        </p:nvSpPr>
        <p:spPr>
          <a:xfrm>
            <a:off x="1763640" y="1700280"/>
            <a:ext cx="685800" cy="685800"/>
          </a:xfrm>
          <a:prstGeom prst="diamond">
            <a:avLst/>
          </a:prstGeom>
          <a:solidFill>
            <a:srgbClr val="80e05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191016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i-main-pic" descr="Картинка 658 из 39775"/>
          <p:cNvPicPr/>
          <p:nvPr/>
        </p:nvPicPr>
        <p:blipFill>
          <a:blip r:embed="rId1"/>
          <a:stretch/>
        </p:blipFill>
        <p:spPr>
          <a:xfrm>
            <a:off x="0" y="4508640"/>
            <a:ext cx="1835280" cy="1595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i?id=50786362-08"/>
          <p:cNvPicPr/>
          <p:nvPr/>
        </p:nvPicPr>
        <p:blipFill>
          <a:blip r:embed="rId2"/>
          <a:stretch/>
        </p:blipFill>
        <p:spPr>
          <a:xfrm>
            <a:off x="0" y="2060640"/>
            <a:ext cx="176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08360" y="260280"/>
            <a:ext cx="9504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Georgia"/>
              </a:rPr>
              <a:t>Факторы, способствующие привлечению родителей к участию в жизни школы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636480" y="1887480"/>
            <a:ext cx="3652920" cy="1503360"/>
          </a:xfrm>
          <a:prstGeom prst="rect">
            <a:avLst/>
          </a:prstGeom>
          <a:gradFill rotWithShape="0">
            <a:gsLst>
              <a:gs pos="0">
                <a:srgbClr val="e1595c"/>
              </a:gs>
              <a:gs pos="100000">
                <a:srgbClr val="c14c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672080" y="1882800"/>
            <a:ext cx="3786120" cy="1503360"/>
          </a:xfrm>
          <a:prstGeom prst="rect">
            <a:avLst/>
          </a:prstGeom>
          <a:gradFill rotWithShape="0">
            <a:gsLst>
              <a:gs pos="0">
                <a:srgbClr val="4ba5ef"/>
              </a:gs>
              <a:gs pos="100000">
                <a:srgbClr val="408ec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1280" y="3789360"/>
            <a:ext cx="3652920" cy="1503360"/>
          </a:xfrm>
          <a:prstGeom prst="rect">
            <a:avLst/>
          </a:prstGeom>
          <a:gradFill rotWithShape="0">
            <a:gsLst>
              <a:gs pos="0">
                <a:srgbClr val="fca304"/>
              </a:gs>
              <a:gs pos="100000">
                <a:srgbClr val="d88c0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4676760" y="3824280"/>
            <a:ext cx="3790800" cy="1494000"/>
          </a:xfrm>
          <a:prstGeom prst="rect">
            <a:avLst/>
          </a:prstGeom>
          <a:gradFill rotWithShape="0">
            <a:gsLst>
              <a:gs pos="0">
                <a:srgbClr val="80e05a"/>
              </a:gs>
              <a:gs pos="100000">
                <a:srgbClr val="6ec0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755640" y="184464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тивность самой школы, использование разнообразных методов сотрудничества с семьё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716360" y="2049480"/>
            <a:ext cx="36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нимание родителями связи своей работы с успехам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4932360" y="2265480"/>
            <a:ext cx="3660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611280" y="3933720"/>
            <a:ext cx="36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становление личных отношений между родителями и уч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4716360" y="3933720"/>
            <a:ext cx="36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интересованность учителей в успехах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i-main-pic" descr="Картинка 965 из 39775"/>
          <p:cNvPicPr/>
          <p:nvPr/>
        </p:nvPicPr>
        <p:blipFill>
          <a:blip r:embed="rId1"/>
          <a:stretch/>
        </p:blipFill>
        <p:spPr>
          <a:xfrm>
            <a:off x="3276720" y="5300640"/>
            <a:ext cx="2232000" cy="144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15:50Z</dcterms:created>
  <dc:creator>SamLab.ws</dc:creator>
  <dc:description/>
  <dc:language>en-US</dc:language>
  <cp:lastModifiedBy>it</cp:lastModifiedBy>
  <dcterms:modified xsi:type="dcterms:W3CDTF">2014-07-23T07:13:35Z</dcterms:modified>
  <cp:revision>81</cp:revision>
  <dc:subject/>
  <dc:title>ThemeGallery PowerTemplate</dc:title>
</cp:coreProperties>
</file>