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AAD-B2B4-4368-A0D3-91785467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9BD-FB48-49A2-8E52-56FEC6E5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C56-8B08-48A0-B84B-05703085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1CA-FF00-47AF-9EA4-41E92ED4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A901-8166-4F77-9B47-D4C8F8B6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DA35-893A-4401-8503-94416283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C6D2-BA80-459C-B1C5-F008ED7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8AFC-F08C-4548-AEAE-3E0D4338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C3A6-2F20-4F3D-B833-123262CD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AB70-3D4A-43B1-BE67-9FA18718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904C-1DDB-43EA-88BE-AD6F4B1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BF9-CFD5-4C87-91A9-599F7BD3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8343-DC0F-432C-ACE5-FA832B8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5D95-1D38-47E1-A81B-EA05EEC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E8C-B085-429C-AF24-47D4E5B9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DD44-9D61-441B-A947-79A9996B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C1BE-A18E-4541-B0B1-8DF61E05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7F4-B4E2-41BC-A4F0-5DFE31B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7F9-8BD0-4FF1-8DF6-CF811D20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CFF-782F-4EE4-9EF9-D1592F04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C6B-1DCE-4BA4-A082-4707B0C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975-7D9C-4B21-8B93-E007A2E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6AB-103A-4487-B0EE-C9F02648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F54-7FF7-4361-8B93-852EDAE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9E3-846B-4FC5-BC07-93D0AE60C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A66-2189-4773-A058-367FFD4EF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51280" y="1341000"/>
            <a:ext cx="48960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ава турис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3440" y="3637080"/>
            <a:ext cx="66373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агина Вален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ца 11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21394800">
            <a:off x="539280" y="1916280"/>
            <a:ext cx="2863800" cy="42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3320" y="6380640"/>
            <a:ext cx="41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ик путешественникам. Овьедо, Исп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а первая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who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а вторая. Частые нару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а третья. А как в законе?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а четвертая. Где искать отве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492000">
            <a:off x="5148360" y="364500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0368200">
            <a:off x="1979640" y="3716280"/>
            <a:ext cx="1697040" cy="255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rot="920400">
            <a:off x="5219280" y="549360"/>
            <a:ext cx="347652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561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ольно часто каждый из нас выступает в роли потребителя, покупая одежду или обращаясь за услугами к стоматологу. Я выбрала потребителя – тури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работы: узнать более подробно о правах будущих путешественников и что им необходимо делать, если они столкнуться с нарушением своих пр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работы: 1. проанализировать специальную литературу: Закон о защите прав потребителей; 2. выявить причину нарушения прав путешеств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399600">
            <a:off x="6732720" y="4581360"/>
            <a:ext cx="2087280" cy="199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21447000">
            <a:off x="1476000" y="4436640"/>
            <a:ext cx="2381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лава перв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итель – турист, обращающийся в турфирму, вступает в правоотношения с турагентом или с туроператором. Согласно закону «Об основах туристической деятельности в РФ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ицо, посещающее страну (место) временного пребывания в различных целях без занятия деятельностью, связанной с получением дохода в стране (месте) пребы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агентст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по продвижению и реализации туристического продукта, осуществляемая юридическим лицом или индивидуальным предпринимателем (турагенто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операторская деятельность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по формированию, продвижению и реализации туристического продукта, осуществляемая юридическим лицом (туроператор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269400">
            <a:off x="5867280" y="4437000"/>
            <a:ext cx="2735280" cy="19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274320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лава вторая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ловам Геннадия Онищен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лавная проблема россиян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ая безграм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выделить три группы нарушений, которые чаще всего допускаются туристскими фирмами,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я прав потребителей в сфере предоставления услуг авиаперево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я прав потребителей, возникающие при размещении в отеле либо связанные с несоответствием заявленных условий проживания фактичес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я прав потребителей при проведении экскурсион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628640"/>
            <a:ext cx="388620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38960" y="6381000"/>
            <a:ext cx="26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Роспотребнадз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623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лава треть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ущественные условия турпоездки должны быть отражены в договоре (какие номера, звезду о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ущественные условия (например расстояние до пляжа) не указаны в договоре, то как доказательство нарушения обязательств договор применятся в суде не будет. Требование туриста о включении в договор дополнительных, существенных условий должно быть фирмой выполне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2808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де искать ответы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права туристов содержатся в следующих докуме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жданский кодекс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ый закон «Об основах туристской деятельност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 Российской Федерации «О защите прав потребител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раясь на эти документы можно отстаивать свои права и требовать выполнения обязанностей турфир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161604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ключ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8862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одготовке данной работы я узнала, что люди часто не знают своих прав, не знают куда обратиться, чтоб их восстановить или, с чем обратиться в суд. Изучая материал по данной теме, я узнала, какие бывают претензии; о решение проблемы досудебным путем; в каких случаях оплачивается материальный ущерб; из –за чего происходят нарушения прав тур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4360" y="1413000"/>
            <a:ext cx="38862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не позволить себя обмануть: проверьте все детали перед заключением договора, уточните необходимую информацию, связанную с вашей поездкой, задайте вопросы туристическому агенту (ведь лучше лишний раз переспросить, нежели потом «кусать локт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20000" y="4005360"/>
            <a:ext cx="1606320" cy="242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2739960" cy="1895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бщеизвестная истина - путешествия позволяют нам получить огромный жизненный опыт. Мы отправляемся в дорогу, чтобы раздвинуть свои горизонты, расширить свое мировоззрение, стать более глубоким человеком». Но зачастую люди расширяют свой кругозор не в области новых мест, а в области зак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йте свои права и будьте внимательными в выборе туристических агентств, места отправления и других мелочей, связанных с поезд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352872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0:21:54Z</dcterms:created>
  <dc:creator>Admin</dc:creator>
  <dc:description/>
  <dc:language>en-US</dc:language>
  <cp:lastModifiedBy>Admin</cp:lastModifiedBy>
  <dcterms:modified xsi:type="dcterms:W3CDTF">2012-01-19T18:33:56Z</dcterms:modified>
  <cp:revision>6</cp:revision>
  <dc:subject/>
  <dc:title>Права туриста</dc:title>
</cp:coreProperties>
</file>