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250-0A83-41B0-AF1F-DDF7C424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A46-03F6-4319-BEBE-3780A75F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A84-299E-4FA3-AF14-6AA00345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369-4464-446A-8C5D-5FE07463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277-74EC-44F9-AB02-4348E434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226-2FEC-430E-A02F-5C4A8281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917-F606-4600-A3EF-D0DBA5BC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E954-9FF9-446A-B027-C679A8BE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10E-D015-4E8A-A062-537BD89C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A76-FA7B-48FC-805B-A805C2DC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169-3522-4CE4-8595-83F03EA3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201-D3B3-4F8A-995B-0A1EBF34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6E15-C905-43DE-BEBA-4DB3203DA3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панорама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57120" y="5857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: Рузманова Лар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 Шукшина С. 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IMG_07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0" y="1197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окольня и кельи монасты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IMG_08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79280" y="177336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верные врата монасты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IMG_07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IMG_07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 flipV="1" rot="10800000">
            <a:off x="1042920" y="146016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дамент Спасо-Преображенского соб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3" descr="IMG_07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IMG_07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971640" y="436572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 древними надгроб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IMG_07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IMG_07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971640" y="83664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еставрированные корпуса монасты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IMG_08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1692360" y="4149720"/>
            <a:ext cx="55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 православными крес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13:14:13Z</dcterms:created>
  <dc:creator>Лариса</dc:creator>
  <dc:description/>
  <dc:language>en-US</dc:language>
  <cp:lastModifiedBy>Admin</cp:lastModifiedBy>
  <dcterms:modified xsi:type="dcterms:W3CDTF">2014-11-08T18:25:46Z</dcterms:modified>
  <cp:revision>15</cp:revision>
  <dc:subject/>
  <dc:title>Слайд 1</dc:title>
</cp:coreProperties>
</file>