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gif" ContentType="image/gif"/>
  <Override PartName="/ppt/media/image14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4B1-7832-4B49-99AD-28BB13C7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FF9-8825-4B77-BA32-D74F3D25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068-7F69-483C-A0D1-5DFDF624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5D9-3F5C-41DB-A3AC-48EC160A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5CE-425A-494B-A93B-5F1C2512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2AB-09C9-4514-A5F3-CB6BFC5D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68A-06C8-48EC-B109-98C95C86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493-86F2-4152-85BA-3AAFDF8B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E61-5FF2-4869-A160-69384EB6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5E8-C821-413B-AAE0-14FAB187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A16-A13D-43E2-B8FD-BE849969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1C8-807A-4408-8466-0D282716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A12A-4F41-406C-8495-12D91AFBA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 класс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чинение по картине П.П.Кончаловского «Сирень в корзи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2438280"/>
            <a:ext cx="80773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втор: Глебова Наталия Николаевна, учитель русского языка и литературы  высшей категории МБОУ СОШ №58 г. о. Сам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5790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Легенда о Сир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6091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олодой Пан – бог лесов и лугов, повстречал однажды прекрасную речную нимфу Сирингу – нежную вестницу утренней зари. И так залюбовался ее нежной грацией и красотой, что забыл о своих забавах. Решил Пан заговорить с Сирингой, но та испугалась и убежала. Пан побежал следом, желая ее успокоить, но нимфа неожиданно превратилась в благоухающий куст с нежными лиловыми цветами. Так имя Сиринги и дало название дереву – сирень. Вот что гласит древнегреческая леге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Группа 3"/>
          <p:cNvGrpSpPr/>
          <p:nvPr/>
        </p:nvGrpSpPr>
        <p:grpSpPr>
          <a:xfrm>
            <a:off x="1904760" y="5410080"/>
            <a:ext cx="4876920" cy="1447920"/>
            <a:chOff x="1904760" y="5410080"/>
            <a:chExt cx="4876920" cy="1447920"/>
          </a:xfrm>
        </p:grpSpPr>
        <p:pic>
          <p:nvPicPr>
            <p:cNvPr id="70" name="Рисунок 5" descr="E:\NN\1-web.jpg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>
              <a:off x="4267080" y="5410080"/>
              <a:ext cx="25146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Рисунок 5" descr="E:\NN\1-web.jpg"/>
            <p:cNvPicPr/>
            <p:nvPr/>
          </p:nvPicPr>
          <p:blipFill>
            <a:blip r:embed="rId2">
              <a:alphaModFix amt="0"/>
            </a:blip>
            <a:stretch/>
          </p:blipFill>
          <p:spPr>
            <a:xfrm flipH="1">
              <a:off x="1904760" y="5410080"/>
              <a:ext cx="2514600" cy="144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C:\Documents and Settings\Натали\Рабочий стол\К урокам\3068.jpg"/>
          <p:cNvPicPr/>
          <p:nvPr/>
        </p:nvPicPr>
        <p:blipFill>
          <a:blip r:embed="rId1"/>
          <a:stretch/>
        </p:blipFill>
        <p:spPr>
          <a:xfrm>
            <a:off x="304920" y="228600"/>
            <a:ext cx="8499240" cy="5791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2666880" y="5867280"/>
            <a:ext cx="332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</a:rPr>
              <a:t>Сирен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18"/>
          <p:cNvSpPr txBox="1"/>
          <p:nvPr/>
        </p:nvSpPr>
        <p:spPr>
          <a:xfrm>
            <a:off x="685800" y="380880"/>
            <a:ext cx="6095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Monotype Corsiva"/>
              </a:rPr>
              <a:t> </a:t>
            </a:r>
            <a:endParaRPr b="1" i="1" lang="en-US" sz="40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9999"/>
                  </a:gs>
                  <a:gs pos="100000">
                    <a:srgbClr val="ffff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75" name="Picture 11" descr="C:\Documents and Settings\Натали\Рабочий стол\К урокам\1007877_7877_401.jpg"/>
          <p:cNvPicPr/>
          <p:nvPr/>
        </p:nvPicPr>
        <p:blipFill>
          <a:blip r:embed="rId1"/>
          <a:stretch/>
        </p:blipFill>
        <p:spPr>
          <a:xfrm>
            <a:off x="304920" y="380880"/>
            <a:ext cx="8470800" cy="54104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1"/>
          <p:cNvSpPr/>
          <p:nvPr/>
        </p:nvSpPr>
        <p:spPr>
          <a:xfrm>
            <a:off x="3149640" y="5791320"/>
            <a:ext cx="462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Arial"/>
              </a:rPr>
              <a:t>Сирен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C:\Documents and Settings\Натали\Рабочий стол\К урокам\Konchalovskij_.Sirenb-2JPG.jpg"/>
          <p:cNvPicPr/>
          <p:nvPr/>
        </p:nvPicPr>
        <p:blipFill>
          <a:blip r:embed="rId1"/>
          <a:stretch/>
        </p:blipFill>
        <p:spPr>
          <a:xfrm>
            <a:off x="304920" y="1143000"/>
            <a:ext cx="3504960" cy="5025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Натали\Рабочий стол\К урокам\20100328_1_konchalovsky.jpg"/>
          <p:cNvPicPr/>
          <p:nvPr/>
        </p:nvPicPr>
        <p:blipFill>
          <a:blip r:embed="rId2"/>
          <a:stretch/>
        </p:blipFill>
        <p:spPr>
          <a:xfrm>
            <a:off x="3962520" y="171360"/>
            <a:ext cx="4876560" cy="4781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9"/>
          <p:cNvSpPr/>
          <p:nvPr/>
        </p:nvSpPr>
        <p:spPr>
          <a:xfrm>
            <a:off x="4249800" y="5181480"/>
            <a:ext cx="489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Сир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в двух корзин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304920" y="228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Сирень в ва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8" descr=""/>
          <p:cNvPicPr/>
          <p:nvPr/>
        </p:nvPicPr>
        <p:blipFill>
          <a:blip r:embed="rId1"/>
          <a:stretch/>
        </p:blipFill>
        <p:spPr>
          <a:xfrm>
            <a:off x="2017800" y="0"/>
            <a:ext cx="5108400" cy="646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Documents and Settings\Натали\Рабочий стол\К урокам\Вальс цветов\натюрморт.jpg"/>
          <p:cNvPicPr/>
          <p:nvPr/>
        </p:nvPicPr>
        <p:blipFill>
          <a:blip r:embed="rId2"/>
          <a:stretch/>
        </p:blipFill>
        <p:spPr>
          <a:xfrm>
            <a:off x="4167360" y="2962440"/>
            <a:ext cx="809280" cy="9316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5638680" y="914400"/>
            <a:ext cx="35053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и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Вставал обыкновенный вешний де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Парил туман, заря траву коси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И вспыхнула лиловая сир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С какой-то неосознанною сил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на раскрылась робко, не спеш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Застенчиво и неохотно вро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И вдруг пошла, пошла, пош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Смеяться и бурлить, как в половод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М.Бек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C:\Documents and Settings\Натали\Рабочий стол\К урокам\sireni3.jpg"/>
          <p:cNvPicPr/>
          <p:nvPr/>
        </p:nvPicPr>
        <p:blipFill>
          <a:blip r:embed="rId3"/>
          <a:stretch/>
        </p:blipFill>
        <p:spPr>
          <a:xfrm>
            <a:off x="0" y="1143000"/>
            <a:ext cx="5562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ид сирени после дождя вдохновил П.И.Чайковского на создание музыкального произведения «Спящая красавиц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Натали\Рабочий стол\бает\3235.jpg"/>
          <p:cNvPicPr/>
          <p:nvPr/>
        </p:nvPicPr>
        <p:blipFill>
          <a:blip r:embed="rId1"/>
          <a:stretch/>
        </p:blipFill>
        <p:spPr>
          <a:xfrm>
            <a:off x="304920" y="1600200"/>
            <a:ext cx="5038560" cy="44956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0"/>
          <p:cNvSpPr/>
          <p:nvPr/>
        </p:nvSpPr>
        <p:spPr>
          <a:xfrm>
            <a:off x="5638680" y="205740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Воздух полон прохлады и те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Встала радуга светлым венц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И тяжелые грозди сир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Наклонились над нашим крыль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(В.Рождеств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Фея_Сирен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Фея_Сирени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6567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6567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 балете «Спящая красавица» танец феи Сирени – завораживает своим волшеб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:\Documents and Settings\Натали\Рабочий стол\бает\0_19336_44ec8280_XL.jpeg"/>
          <p:cNvPicPr/>
          <p:nvPr/>
        </p:nvPicPr>
        <p:blipFill>
          <a:blip r:embed="rId1"/>
          <a:stretch/>
        </p:blipFill>
        <p:spPr>
          <a:xfrm>
            <a:off x="228600" y="1523880"/>
            <a:ext cx="6934320" cy="522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Documents and Settings\Натали\Рабочий стол\бает\d167cc784c70.jpg"/>
          <p:cNvPicPr/>
          <p:nvPr/>
        </p:nvPicPr>
        <p:blipFill>
          <a:blip r:embed="rId2"/>
          <a:stretch/>
        </p:blipFill>
        <p:spPr>
          <a:xfrm>
            <a:off x="2209680" y="129528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Documents and Settings\Натали\Рабочий стол\бает\IMG_1006.jpg"/>
          <p:cNvPicPr/>
          <p:nvPr/>
        </p:nvPicPr>
        <p:blipFill>
          <a:blip r:embed="rId3"/>
          <a:stretch/>
        </p:blipFill>
        <p:spPr>
          <a:xfrm>
            <a:off x="533520" y="1778040"/>
            <a:ext cx="7619760" cy="507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Documents and Settings\Натали\Рабочий стол\бает\opera_spkras_08fejasireni.jpg"/>
          <p:cNvPicPr/>
          <p:nvPr/>
        </p:nvPicPr>
        <p:blipFill>
          <a:blip r:embed="rId4"/>
          <a:stretch/>
        </p:blipFill>
        <p:spPr>
          <a:xfrm>
            <a:off x="457200" y="1447920"/>
            <a:ext cx="7188120" cy="513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C:\Documents and Settings\Натали\Рабочий стол\бает\sleeping-beauty-sergeev.jpg"/>
          <p:cNvPicPr/>
          <p:nvPr/>
        </p:nvPicPr>
        <p:blipFill>
          <a:blip r:embed="rId5"/>
          <a:stretch/>
        </p:blipFill>
        <p:spPr>
          <a:xfrm>
            <a:off x="1066680" y="1447920"/>
            <a:ext cx="730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.П.Кончаловский 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«Сирень в корзине» 1937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Натали\Рабочий стол\281-1.jpg"/>
          <p:cNvPicPr/>
          <p:nvPr/>
        </p:nvPicPr>
        <p:blipFill>
          <a:blip r:embed="rId1"/>
          <a:stretch/>
        </p:blipFill>
        <p:spPr>
          <a:xfrm>
            <a:off x="441360" y="990720"/>
            <a:ext cx="8245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1405080"/>
            <a:ext cx="8458200" cy="72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I. Вступ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. Слово о художнике П. П. Кончалов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2. Первое впечатление от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II. Основная часть. Описание картины «Сирень в корзи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Чудесный букет сир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 Грозд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 Ли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 Кор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III.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клю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«В букете все живет, цветет и радуется». Настроение, созданное   карти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Настроение, которое создает картина (отзывы 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произведении критиков, пожелания, вывод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2514600" y="533520"/>
            <a:ext cx="52578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009999"/>
                    </a:gs>
                    <a:gs pos="100000">
                      <a:srgbClr val="bbe0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Monotype Corsiva"/>
              </a:rPr>
              <a:t>               </a:t>
            </a:r>
            <a:endParaRPr b="1" i="1" lang="en-US" sz="18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009999"/>
                  </a:gs>
                  <a:gs pos="100000">
                    <a:srgbClr val="bbe0e3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1" name="Picture 2" descr="C:\Documents and Settings\Администратор\Мои документы\Мои рисунки\Организатор клипов (Microsoft)\j0432665.png"/>
          <p:cNvPicPr/>
          <p:nvPr/>
        </p:nvPicPr>
        <p:blipFill>
          <a:blip r:embed="rId1"/>
          <a:stretch/>
        </p:blipFill>
        <p:spPr>
          <a:xfrm rot="19983600">
            <a:off x="-182160" y="-217440"/>
            <a:ext cx="2230560" cy="2079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9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6"/>
          <p:cNvSpPr txBox="1"/>
          <p:nvPr/>
        </p:nvSpPr>
        <p:spPr>
          <a:xfrm>
            <a:off x="1600200" y="30492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Monotype Corsiva"/>
              </a:rPr>
              <a:t>                   </a:t>
            </a:r>
            <a:endParaRPr b="1" i="1" lang="en-US" sz="40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99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Monotype Corsiva"/>
              <a:ea typeface="Monotype Corsiv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0"/>
          <a:ext cx="9144000" cy="6477120"/>
        </p:xfrm>
        <a:graphic>
          <a:graphicData uri="http://schemas.openxmlformats.org/drawingml/2006/table">
            <a:tbl>
              <a:tblPr/>
              <a:tblGrid>
                <a:gridCol w="2133720"/>
                <a:gridCol w="7010280"/>
              </a:tblGrid>
              <a:tr h="990720"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н опис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бочие материал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4560"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ирен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Темно-красная, бледно-розовая, белоснежная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лиловая, жемчужная, цвета теплых весенних сумерек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1840"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ттенк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Голубоватый, серебристый,  розоватый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фиолетовый с серебристым отливом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61645"/>
                </a:solidFill>
                <a:latin typeface="Arial"/>
              </a:rPr>
              <a:t>Девятое февра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645"/>
                </a:solidFill>
                <a:latin typeface="Arial"/>
              </a:rPr>
              <a:t>Сочинение по карт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161645"/>
                </a:solidFill>
                <a:latin typeface="Arial"/>
              </a:rPr>
              <a:t>П.П. Кончаловского «Сирень в корзи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61645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161645"/>
                </a:solidFill>
                <a:latin typeface="Arial"/>
              </a:rPr>
              <a:t>научиться составлять связный текст – опис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61645"/>
                </a:solidFill>
                <a:latin typeface="Arial"/>
              </a:rPr>
              <a:t>использовать средства художественной выразительности – эпитеты, сравнения, метаф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61645"/>
                </a:solidFill>
                <a:latin typeface="Arial"/>
              </a:rPr>
              <a:t>познакомиться с творчеством  художника П.П.Кончаловского и композитора  П.И.Чайко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6"/>
          <p:cNvSpPr txBox="1"/>
          <p:nvPr/>
        </p:nvSpPr>
        <p:spPr>
          <a:xfrm>
            <a:off x="1600200" y="30492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Monotype Corsiva"/>
              </a:rPr>
              <a:t>                   </a:t>
            </a:r>
            <a:endParaRPr b="1" i="1" lang="en-US" sz="40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99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Monotype Corsiva"/>
              <a:ea typeface="Monotype Corsiv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0"/>
          <a:ext cx="9144000" cy="6629400"/>
        </p:xfrm>
        <a:graphic>
          <a:graphicData uri="http://schemas.openxmlformats.org/drawingml/2006/table">
            <a:tbl>
              <a:tblPr/>
              <a:tblGrid>
                <a:gridCol w="1884240"/>
                <a:gridCol w="7259760"/>
              </a:tblGrid>
              <a:tr h="1095480"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н опис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бочие материа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9320"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Грозд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Тяжелые, крупные, пышные. Они как веер. Тяжелые, крупные, богатые кисти сирени. Они напоминают грозди винограда. Крошечные звездочки-цветы. Их м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Листь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Зелененькие с тоненькими прожилкам,  темно-зеленые, салатовые,  светло-зеленые с золотистым оттенк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8600"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орзин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Прутья тугие, светло-коричневые, плотно обвивают,  крепко сжимают, похожи на пальц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6"/>
          <p:cNvSpPr txBox="1"/>
          <p:nvPr/>
        </p:nvSpPr>
        <p:spPr>
          <a:xfrm>
            <a:off x="1600200" y="30492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Monotype Corsiva"/>
              </a:rPr>
              <a:t>                   </a:t>
            </a:r>
            <a:endParaRPr b="1" i="1" lang="en-US" sz="40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99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Monotype Corsiva"/>
              <a:ea typeface="Monotype Corsiv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0"/>
          <a:ext cx="9144000" cy="66294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1752480"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н опис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бочие материа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6920"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аши чув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Ароматная, влажная, нежная, чудесная, прекрасная, очаровательная; любоваться, восхищаться, наслаждаться. Сирень на картине изумительная, чудная, несравненная, восхитительная, дивная, бесподобная, великолепная, роскошная, прекрасная, превосходная, замечательная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2666880" y="457200"/>
            <a:ext cx="47246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009999"/>
                    </a:gs>
                    <a:gs pos="100000">
                      <a:srgbClr val="bbe0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Monotype Corsiva"/>
              </a:rPr>
              <a:t>                </a:t>
            </a:r>
            <a:endParaRPr b="1" i="1" lang="en-US" sz="18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009999"/>
                  </a:gs>
                  <a:gs pos="100000">
                    <a:srgbClr val="bbe0e3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10" name="Picture 2" descr="C:\Documents and Settings\Администратор\Мои документы\Мои рисунки\Организатор клипов (Microsoft)\j0432665.png"/>
          <p:cNvPicPr/>
          <p:nvPr/>
        </p:nvPicPr>
        <p:blipFill>
          <a:blip r:embed="rId1"/>
          <a:stretch/>
        </p:blipFill>
        <p:spPr>
          <a:xfrm rot="19983600">
            <a:off x="533520" y="0"/>
            <a:ext cx="2230200" cy="2079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1219320" y="2322360"/>
            <a:ext cx="670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апишите (допишите) сочинение-описание по картине П.П.Кончаловского «Сирень в корзи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743200" y="533520"/>
            <a:ext cx="56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Группа 12"/>
          <p:cNvGrpSpPr/>
          <p:nvPr/>
        </p:nvGrpSpPr>
        <p:grpSpPr>
          <a:xfrm>
            <a:off x="228240" y="5486400"/>
            <a:ext cx="8306280" cy="1143000"/>
            <a:chOff x="228240" y="5486400"/>
            <a:chExt cx="8306280" cy="1143000"/>
          </a:xfrm>
        </p:grpSpPr>
        <p:grpSp>
          <p:nvGrpSpPr>
            <p:cNvPr id="114" name="Группа 8"/>
            <p:cNvGrpSpPr/>
            <p:nvPr/>
          </p:nvGrpSpPr>
          <p:grpSpPr>
            <a:xfrm>
              <a:off x="4315320" y="5486400"/>
              <a:ext cx="4219200" cy="1143000"/>
              <a:chOff x="4315320" y="5486400"/>
              <a:chExt cx="4219200" cy="1143000"/>
            </a:xfrm>
          </p:grpSpPr>
          <p:pic>
            <p:nvPicPr>
              <p:cNvPr id="115" name="Рисунок 5" descr="E:\NN\1-web.jpg"/>
              <p:cNvPicPr/>
              <p:nvPr/>
            </p:nvPicPr>
            <p:blipFill>
              <a:blip r:embed="rId2">
                <a:alphaModFix amt="0"/>
              </a:blip>
              <a:stretch/>
            </p:blipFill>
            <p:spPr>
              <a:xfrm>
                <a:off x="6359040" y="5486400"/>
                <a:ext cx="217548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Рисунок 5" descr="E:\NN\1-web.jpg"/>
              <p:cNvPicPr/>
              <p:nvPr/>
            </p:nvPicPr>
            <p:blipFill>
              <a:blip r:embed="rId3">
                <a:alphaModFix amt="0"/>
              </a:blip>
              <a:stretch/>
            </p:blipFill>
            <p:spPr>
              <a:xfrm flipH="1">
                <a:off x="4315320" y="5486400"/>
                <a:ext cx="217548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" name="Группа 9"/>
            <p:cNvGrpSpPr/>
            <p:nvPr/>
          </p:nvGrpSpPr>
          <p:grpSpPr>
            <a:xfrm>
              <a:off x="228240" y="5486400"/>
              <a:ext cx="4219200" cy="1143000"/>
              <a:chOff x="228240" y="5486400"/>
              <a:chExt cx="4219200" cy="1143000"/>
            </a:xfrm>
          </p:grpSpPr>
          <p:pic>
            <p:nvPicPr>
              <p:cNvPr id="118" name="Рисунок 5" descr="E:\NN\1-web.jpg"/>
              <p:cNvPicPr/>
              <p:nvPr/>
            </p:nvPicPr>
            <p:blipFill>
              <a:blip r:embed="rId4">
                <a:alphaModFix amt="0"/>
              </a:blip>
              <a:stretch/>
            </p:blipFill>
            <p:spPr>
              <a:xfrm>
                <a:off x="2271960" y="5486400"/>
                <a:ext cx="217548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Рисунок 5" descr="E:\NN\1-web.jpg"/>
              <p:cNvPicPr/>
              <p:nvPr/>
            </p:nvPicPr>
            <p:blipFill>
              <a:blip r:embed="rId5">
                <a:alphaModFix amt="0"/>
              </a:blip>
              <a:stretch/>
            </p:blipFill>
            <p:spPr>
              <a:xfrm flipH="1">
                <a:off x="228240" y="5486400"/>
                <a:ext cx="217548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driveart-87"/>
          <p:cNvPicPr/>
          <p:nvPr/>
        </p:nvPicPr>
        <p:blipFill>
          <a:blip r:embed="rId1"/>
          <a:stretch/>
        </p:blipFill>
        <p:spPr>
          <a:xfrm>
            <a:off x="609480" y="228600"/>
            <a:ext cx="7772400" cy="63244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3809880" y="1600200"/>
            <a:ext cx="40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 rot="185400">
            <a:off x="2247840" y="2603520"/>
            <a:ext cx="59421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C:\Documents and Settings\Натали\Рабочий стол\12.jpg"/>
          <p:cNvPicPr/>
          <p:nvPr/>
        </p:nvPicPr>
        <p:blipFill>
          <a:blip r:embed="rId2"/>
          <a:stretch/>
        </p:blipFill>
        <p:spPr>
          <a:xfrm>
            <a:off x="1295280" y="1676520"/>
            <a:ext cx="2362320" cy="25905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7" descr=""/>
          <p:cNvPicPr/>
          <p:nvPr/>
        </p:nvPicPr>
        <p:blipFill>
          <a:blip r:embed="rId3"/>
          <a:stretch/>
        </p:blipFill>
        <p:spPr>
          <a:xfrm>
            <a:off x="2060640" y="914400"/>
            <a:ext cx="6248160" cy="160956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3886200" y="2514600"/>
            <a:ext cx="419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1876 – 1956 г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апис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более 1000 поло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6"/>
          <p:cNvSpPr txBox="1"/>
          <p:nvPr/>
        </p:nvSpPr>
        <p:spPr>
          <a:xfrm>
            <a:off x="304920" y="0"/>
            <a:ext cx="8839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Monotype Corsiva"/>
              </a:rPr>
              <a:t>     </a:t>
            </a:r>
            <a:endParaRPr b="1" i="1" lang="en-US" sz="40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99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2" name="Picture 31" descr="butterflies_67"/>
          <p:cNvPicPr/>
          <p:nvPr/>
        </p:nvPicPr>
        <p:blipFill>
          <a:blip r:embed="rId1"/>
          <a:stretch/>
        </p:blipFill>
        <p:spPr>
          <a:xfrm rot="19258200">
            <a:off x="4647960" y="4343400"/>
            <a:ext cx="1085760" cy="133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Documents and Settings\Натали\Рабочий стол\К урокам\konchalovsky.jpg"/>
          <p:cNvPicPr/>
          <p:nvPr/>
        </p:nvPicPr>
        <p:blipFill>
          <a:blip r:embed="rId2"/>
          <a:stretch/>
        </p:blipFill>
        <p:spPr>
          <a:xfrm>
            <a:off x="66600" y="0"/>
            <a:ext cx="907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Натюрморт – от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франц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. «натюр» – природа+ «морт» - мерт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Жанр живописи возник в Голландии в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XVII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веке. На картинах изображаются цветы, фрукты, дичь, рыба и т.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Натюрм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.П.Кончало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Documents and Settings\Натали\Рабочий стол\К урокам\Вальс цветов\натюрморт.jpg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Натюрморты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 П.П.Кончаловског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C:\Documents and Settings\Натали\Рабочий стол\К урокам\Вальс цветов\37987.jpg"/>
          <p:cNvPicPr/>
          <p:nvPr/>
        </p:nvPicPr>
        <p:blipFill>
          <a:blip r:embed="rId1"/>
          <a:stretch/>
        </p:blipFill>
        <p:spPr>
          <a:xfrm>
            <a:off x="838080" y="16002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Я пишу цветы, как музыкант 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играет гаммы”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(П.П.Кончаловский)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Натали\Рабочий стол\К урокам\Вальс цветов\image.jpg"/>
          <p:cNvPicPr/>
          <p:nvPr/>
        </p:nvPicPr>
        <p:blipFill>
          <a:blip r:embed="rId1"/>
          <a:stretch/>
        </p:blipFill>
        <p:spPr>
          <a:xfrm>
            <a:off x="685800" y="1752480"/>
            <a:ext cx="7696080" cy="5105520"/>
          </a:xfrm>
          <a:prstGeom prst="rect">
            <a:avLst/>
          </a:prstGeom>
          <a:ln w="0">
            <a:noFill/>
          </a:ln>
        </p:spPr>
      </p:pic>
      <p:pic>
        <p:nvPicPr>
          <p:cNvPr id="62" name="Петр_Ильич_Чайковский_-_Вальс_из_балета_Спящая_красавица_(musicostrov.ru).mp3" descr=""/>
          <p:cNvPicPr/>
          <p:nvPr/>
        </p:nvPicPr>
        <p:blipFill>
          <a:blip r:embed="rId2"/>
          <a:stretch/>
        </p:blipFill>
        <p:spPr>
          <a:xfrm>
            <a:off x="8001000" y="114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Фея_Сирени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67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65676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685800" y="0"/>
            <a:ext cx="8153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Monotype Corsiva"/>
              </a:rPr>
              <a:t>Сирень  –любимые цветы  П. П. Кончаловского</a:t>
            </a:r>
            <a:endParaRPr b="1" i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65" name="Picture 9" descr="C:\Documents and Settings\Натали\Рабочий стол\К урокам\95-5UwS1t.jpg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105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0"/>
          <p:cNvSpPr/>
          <p:nvPr/>
        </p:nvSpPr>
        <p:spPr>
          <a:xfrm>
            <a:off x="304920" y="6087960"/>
            <a:ext cx="974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Сирень в корзине. 1937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15:21:48Z</dcterms:created>
  <dc:creator>Ольга</dc:creator>
  <dc:description/>
  <dc:language>en-US</dc:language>
  <cp:lastModifiedBy>Наталия</cp:lastModifiedBy>
  <dcterms:modified xsi:type="dcterms:W3CDTF">2014-11-06T17:08:56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